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6C8-3626-4D12-A0AD-984137EE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7AB-86E2-4F25-86BF-5B7454B3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C44-388E-4E75-A622-27FD798A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2D2-8136-4C8A-AD10-164B0215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1C2-1049-436D-9D76-219D1CB6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9E5-25D9-4EF8-BE2A-40ECBBE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F65-E6B5-44BA-A4DB-CD87381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254-129F-40BD-AC28-D3EBE84F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1F2-8BBA-4FFF-B127-BAB42984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A6F-CDE3-4FAE-8FC1-84576968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395-3EFE-4602-B242-93E9FB5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12C-227A-4426-A57F-C67DAE55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EDA-2D25-4E5B-AB2C-9C9D85B917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8076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cccff"/>
                </a:solidFill>
                <a:latin typeface="Times New Roman"/>
              </a:rPr>
              <a:t>COMUNICACIÓN 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ccccff"/>
                </a:solidFill>
                <a:latin typeface="Times New Roman"/>
              </a:rPr>
              <a:t>ORGANIZ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fuente es el emisor del men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quien inicia el proceso de la comun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80880"/>
            <a:ext cx="312444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fuente inicia el mensaje al codificar un pensamie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l éxito de esta codificación depende de cuatro condiciones de la fu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H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c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noc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stema Socio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2860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1412640"/>
            <a:ext cx="85690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Producto físico real de la codific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l mensaje se ve afectado por los símbolos que usamos para transmitir el significado y por el contenido del men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l mensaje puede incluir una comunicación no verbal, es decir, movimientos corporales, tono y énfasis de voz, expresiones faciales y la distancia física entre emisor y recep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s importante estar alerta a estos aspectos para entender la totalidad del men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0492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el medio por el cual viaja el mensaj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seleccionado por la fu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l interior de la organización, pueden ser canales formales o infor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3352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selección de un canal por sobre otro difiere en su capacidad para transmitir la inform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o que depende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apacidad del canal para manejar múltiples claves de manera simultá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u capacidad de facilitar una rápida retroal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u capacidad de ser personal o 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152280"/>
            <a:ext cx="312444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jemplos de ca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ara a cara: gran riqueza del canal, mensajes que pueden ser ambiguos y no rutin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Teléf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artas y m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Boletines de información: baja riqueza del canal, mensaje claro y ruti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0492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Forma mediante la cual los símbolos del mensaje se traducen a una forma comprensible para el re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n la decodificación se aplican las mismas condiciones que la fuente (habilidades, actitudes, conocimientos y sistema sociocultur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80880"/>
            <a:ext cx="312408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l receptor es a quien va dirigido el men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be tener la capacidad de leer o escuchar el mensaje, y ser capaz de razo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3352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Finalización del proceso comunicativo. Pone el mensaje de vuelta en el sistema como control para evitar malentendi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Permite verificar el éxito o el fracaso en la transmisión del mensaj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termina si se ha logrado la comprensión del mensaj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57200"/>
            <a:ext cx="3733920" cy="533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TRO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LA COMUNICACIÓN AL INTERIOR DE LAS ORGANIZACIONES</a:t>
            </a:r>
            <a:r>
              <a:rPr b="0" lang="es-CL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50920" y="2276640"/>
            <a:ext cx="3311280" cy="20160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des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ormales e in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3311280" cy="20163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arreras a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unicación 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5651640" y="2205000"/>
            <a:ext cx="3311280" cy="20160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rección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6308640"/>
            <a:ext cx="1042920" cy="549360"/>
          </a:xfrm>
          <a:prstGeom prst="rightArrow">
            <a:avLst>
              <a:gd name="adj1" fmla="val 50000"/>
              <a:gd name="adj2" fmla="val 4746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TRANSFERENCIA DE SIGNIFI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(INFORMACIÓN E ID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RENSIÓN DE SIGNIFICAD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0384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EL MODELO COMUN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REDES DE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s redes de comunicación definen los canales por los cuales fluye la inform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tas redes suelen ser de dos ti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REDES 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iguen la línea de mando, son verticales y se limitan a comunicación relacionada a las tareas dentro de la organización. Pueden darse distintos ti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5053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80060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9625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9625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80060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80060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80060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9625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39625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5053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472428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72428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403848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39625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35053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38080" y="3657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0532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629400" y="3657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657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3657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343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810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72400" y="42667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09880" y="380988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37339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010280" y="380988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80988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41911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038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162920" y="4191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895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895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R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2895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TODO CA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5334120"/>
            <a:ext cx="281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igue las lín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mando ríg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5334120"/>
            <a:ext cx="2857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Líder es el conduc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central para to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las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33412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odos los miemb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e comuni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activamente 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información se da a través de medios extraoficiales. El ejemplo clásico son los rum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os rum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No están controlados por la 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e perciben como más creíbles y confiables  por los empl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rven a los intereses personales de algun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REDES IN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os </a:t>
            </a: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rumores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tienen cuatro propós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tructurar y reducir la ans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ar sentido a la información limitada o fragmen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rven como puente para organizar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eñalan el status del remi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12000" y="6381720"/>
            <a:ext cx="1332000" cy="47628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DIRECCIÓN DE L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cendente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: La comunicación fluye de un nivel superior a uno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cendente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: La comunicación fluye a un nivel superior desde uno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rizontal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: Se da entre miembros de un mismo nivel o grupo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812000" y="6381720"/>
            <a:ext cx="1332000" cy="47628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BARRERAS PARA UNA COMUNICACIÓN 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ltración: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Manipulación de información por parte del emisor, para que sea vista de una manera más favorable por el recep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rcepción Selectiva: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Receptores pueden escuchar o ver selectivamente de acuerdo a sus necesidades, motivaciones, experiencias y otras características personal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56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mociones: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l estado de ánimo del receptor puede influir en la forma en como interpreta el mensaje que le lle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nguaje: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Puede ser una barrera ya que las palabras significan distintas cosas para las personas, siendo importante la edad, educación y variables culturales de las person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BARRERAS PARA UNA COMUNICACIÓN 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812000" y="6381720"/>
            <a:ext cx="1332000" cy="47628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FUNCIONES DE LA COMUNIC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24000" y="1700280"/>
            <a:ext cx="38862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859280" y="1700280"/>
            <a:ext cx="34290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24000" y="3789360"/>
            <a:ext cx="396216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PRESIÓN EMO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5003640" y="3789360"/>
            <a:ext cx="342900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51664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ON TODAS IGUAL DE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6308640"/>
            <a:ext cx="1042920" cy="549360"/>
          </a:xfrm>
          <a:prstGeom prst="rightArrow">
            <a:avLst>
              <a:gd name="adj1" fmla="val 50000"/>
              <a:gd name="adj2" fmla="val 4746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omunicación controla el comportamiento de las miembros en una 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 manera 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 manera 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49360"/>
            <a:ext cx="38862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omunicación fomenta la motivación al aclarar a los empleados lo que se debe hacer, lo bien que hacen su trabajo o las formas de mejora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motivación cumple un papel de retroal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57680" y="380880"/>
            <a:ext cx="342900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133720"/>
            <a:ext cx="76964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expresión emocional se da por medio de la interacción entre los grup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una forma de desahogo y satisfacción de necesidades soci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685800"/>
            <a:ext cx="396216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PRESIÓN EMO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información se refiere a la facilitación respecto a la toma de decisiones, ya que se transmiten datos para identificar y evaluar el mayor número de opciones posib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7680" y="533520"/>
            <a:ext cx="34290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8610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omunicación se puede ver como un         proceso o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ntes de comunicar debe existir un propósito, expresado como un mensaje a transmit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EL PROCESO DE COMUN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250920" y="33336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228600" y="1752480"/>
            <a:ext cx="312408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250920" y="314172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250920" y="4437000"/>
            <a:ext cx="312408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250920" y="587700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91440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2438280"/>
            <a:ext cx="0" cy="60984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0988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0666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1295280" y="25146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3886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5181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6172200"/>
            <a:ext cx="2667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19920" y="533160"/>
            <a:ext cx="0" cy="5638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428640" y="533520"/>
            <a:ext cx="25909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7" action="ppaction://hlinksldjump"/>
          </p:cNvPr>
          <p:cNvSpPr/>
          <p:nvPr/>
        </p:nvSpPr>
        <p:spPr>
          <a:xfrm>
            <a:off x="6248520" y="457200"/>
            <a:ext cx="55872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6308640"/>
            <a:ext cx="1042920" cy="549360"/>
          </a:xfrm>
          <a:prstGeom prst="rightArrow">
            <a:avLst>
              <a:gd name="adj1" fmla="val 50000"/>
              <a:gd name="adj2" fmla="val 4746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5:48:23Z</dcterms:created>
  <dc:creator>Isabel Guerrero</dc:creator>
  <dc:description/>
  <dc:language>en-US</dc:language>
  <cp:lastModifiedBy>Sole Valdés</cp:lastModifiedBy>
  <dcterms:modified xsi:type="dcterms:W3CDTF">2007-08-29T23:39:43Z</dcterms:modified>
  <cp:revision>47</cp:revision>
  <dc:subject/>
  <dc:title>COMUNICACIÓN   ORGANIZACIONAL</dc:title>
</cp:coreProperties>
</file>