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B6D-8152-427B-9A65-5675D04C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C3F-5099-416D-ADA1-AF4E9465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FEA-27B0-44C6-B992-E679A254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21C-D1E8-43F6-A9E1-50989016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8B6-737A-438A-AB14-0146BF7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D5A-AAE3-4645-95CF-771707D6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A46-0664-4572-8650-7D9FD158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D32-27E9-4336-BEA9-C123ADF9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5AD-1C7D-45BD-A5C2-1AB5FE7A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C9B-60DD-488C-AD02-F1B2A4E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F7A-BF64-4FC9-8175-EFD9DFC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5C14-FC4A-4B0B-AC27-44FAAA13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F20B-8BC7-462C-AB18-2C495930FA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STRATEGIA EN LA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ORGANIZ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COMPONENTES BÁSICOS DE LA 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sión es el estado futuro deseado, a lo que se aspira 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e tipo de organización queremos s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En qué tipo de negocios/áreas de gestión debe entrar la organ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la declaración simple de la razón de ser de una organización, su propósito básico y el ámbito de trabajo esencial para 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plica acotar las energías y las metas a definir a un propósito explícito y claramente defi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ede construirse tomando en cuenta las preguntas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ienes somos? = identidad, legitimidad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buscamos? =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propósit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hacer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medios para lograr el propósit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orqué lo hace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, principios, motivaciones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ara quiénes trabaja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es el producto o servicio que ofrece una organización su razón de ser si no qué necesidad está satisf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propósito y quehacer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04840" y="1752480"/>
            <a:ext cx="6934320" cy="465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07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 OBJETIVOS 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in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fundamentales a los que se dirigen las actividades de la organización y que otorgan sentido a las acciones que ella realiza. Son los resultados que a mediano y largo plazo aspira a lograr una organiz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Reducir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jorar la calidad de los productos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lexibilizar los procesos de producción o de entrega de los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ferenciar productos o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iciar 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 incrementar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versificar el mercad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sarrollar  nuevas competencias y habilidades en el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640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JEMPLO: HOSPITAL SAN JUAN DE 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ospital centrado en l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funcionarios calificados, de trato amable y comprometidos con la misión del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una planta física que responda a las necesidades de todos los usu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ortalecer la relación docente asis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egar servicios integrales de salud a la población asignada, para resolver especialmente problemas sanitarios complej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forma oportuna, eficiente y amable, con los mayores niveles de calidad sustentabl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8920" y="620280"/>
            <a:ext cx="8480160" cy="60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estratégic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ejorar la atención a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de gest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isminuir el tiempo promedio de atención a solicitudes de usuarios en cinco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dicad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iempo promedio de atención (se debe establecer como se calculó, cual es la fuente de información, cual es la frecuencia con que será medido y quien será el respons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8200" y="388152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90840" y="533520"/>
            <a:ext cx="2362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590920"/>
            <a:ext cx="201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9480" y="4800600"/>
            <a:ext cx="270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dic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523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52960" y="3809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400" y="1066680"/>
            <a:ext cx="439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ANALISIS ESTRATEGICO: Comprensión de la posición estratégica de la organización en función de su entorno externo, recursos, competencias y expectativas de los directiv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ELECCION ESTRATEGICA: Generación de opciones estratégicas evaluables y selección de la mejor opción para la organiz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IMPLEMENTACION DE LA ESTRATEGIA: traduce una estrategia en acción organizacional, mediante el diseño, estructura de la organización, la planificación de recursos y la gestión del cambio estratégic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8769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lemen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3716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2004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ec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438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1911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LANIFICA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Planificación estratégica es un proceso que mantiene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do al equipo directivo para traducir la misión, visión y estrateg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resultados tangibles, reduce los conflictos, fomenta la participación  y el compromiso a todos los niveles de la organización con los esfuerzos requeridos para hacer realidad el futuro que se dese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stinción entre planificación y estrateg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neación se asocia más al hemisferio izquierdo: actividades, recursos, tiempos; estrategia al hemisferio derecho: creatividad, intui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es un proceso de análisis; la estrategia es uno de sínte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tiende hacia el incrementalismo: vender más, gastar menos, eficiencia; la estrategia hacia la discontinuidad: ser diferentes, capitalizar puntos de inflex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NALISIS F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tale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Representan los principales puntos a favor con los que cuenta la empresa o instit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ilidad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itaciones relacionadas con potencial humano, capacidad de proceso o finanza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ortunidad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se espera que ocurran o pueden inducirse a que ocurran en el mundo exterior y que podrían tener un impacto positivo en el futuro de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mena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pueden ocurrir en el mundo exterior y que pudieran tener un impacto negativo en el futuro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84872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tregar el producto al menor costo posible a una calidad mundial, a una calidad que sea global y que pueda vender mi producto en Chile o en cualquier parte del mundo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uscamos la satisfacción del cliente y el continuo apoyo para que éstos aprovechen al máximo los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proceso aspiramos a realizarlo con calidad tanto en los procesos como en la entrega final de productos y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Queremos dar un servicio óptimo, oportuno, vanguardista y para eso estamos invirtiendo en nuevas tecnologías y capacitación del person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RADAS SOBRE EL PROCESO DE FORMACIÓN DE LAS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stemas formales de plane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normativo que señala cuales son los factores que deben incluirse en un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centrado en el poder y en la condu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 centra en las relaciones psicológicas, de poder y de comportamiento y su relevancia para la conformación de una estrate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crementalismo lóg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el desarrollo deliberado de una estrategia a través del “aprender h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ÁLISIS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simples o estáticas es relativamente fácil de comprender y no se producen cambios significativ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los entornos con condiciones dinámicas hay una mayor complejidad que se puede salvar con la planificación de escenari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complejas es difícil de entender y tienen un alto nivel de incertidumb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2760" y="342720"/>
            <a:ext cx="817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EMENTOS QUE SE DEBEN CONSIDERAR AL HACER UN ANALISIS DEL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políticos/Leg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Legislación sobre monopolios, legislación sobre protección del medio ambiente, etc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lítica de impuest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yes laboral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lítica arancelaria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ilidad polít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   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económ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iclos económ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dencias del PIB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sas de interé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ferta monetar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l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semple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sponibilidad y costos de medios energét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Tecnológ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astos gubernamentales en investigación y desarroll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terés del gobierno y la industria en el esfuerzo tecnológic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uevos descubrimientos y desarroll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locidad en la transferencia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ctitud hacia la innovación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ALISIS COMPA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históric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analiza la utilización de recursos y sus rendimientos comparándolos con los años anteriores, para identificar los principal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de los estándares de la industri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compara los rendimientos relativos de las organizaciones de la misma industria (o del mismo servicio público) en función de un conjunto de indicadores de rend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Benchmarking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trata de determinar las competencias de una organización en función del “mejor de la clase”. Los peores buscan “consejo” de los “mejores” a través de buscar, compartir e implementar las mejores prác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struc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n hacer 4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da grupo debe elegir a un lí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líderes deben recoger el máximo de materiales. Ellos serán guiados por el resto de su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solidarse como líder de la industria, no es estrategia, es un dese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nder lo mejor al mejor precio, no es estrategia, es la "estrategia" de todo el mund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tener la mayor productividad, no es estrategia, es una medida de eficiencia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 existe una única definición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uso común, estrategia se utiliza como sinónimo de: objetivo, misión, táctica, procedimiento, actividad, etc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3818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n el campo de la administración, una estrategia es el plan o patrón que integra las principales metas y políticas de una organización, y a la vez, establece la secuencia coherente de las acciones a realizar. Una estrategia adecuadamente formulada ayuda a poner orden y a asignar los recursos de una organización, con el fin de lograr una situación viable y original, así como anticipar los posibles cambios en el entorno y acciones imprevistas de los oponentes inteligentes” (Qu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04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Definición de 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RACTERÍSTICAS DE LAS DECISIONES ESTRATÉGIC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la dirección de largo plaz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el alcance de las actividades de la organización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lece la adecuación de las actividades de una organización al entorno en el que oper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sociadas a lograr ventajas para la organizació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INTZBERG DEFINE LA ESTRATEGIA COMO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ormal y visionaria, más que formal y programad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Sustentad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el subconconsciente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Demandante de u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pensamiento divergente e intuitiv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Pr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ceso creativo, irregular, instintivo y disru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S 5 P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la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curso de acción conscientemente deseado y determinado de forma anticipada, con la finalidad de asegurar el logro de los objetivos de la empresa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uta de Acció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uede visualiza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a simple vista como una trampa, una maniobra, que oculta la verdadera estrateg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trón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odelo en el flujo de acciones. Se infiere consistencia con el actuar. Para que sea deliberada debe provenir de los altos ma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osició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edio para ubicar a una organización en el “medio ambiente”.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Busc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ubicar a la organización en un entorno externo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posiciones concr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erspectiva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la estrategia es para las organizaciones lo que la personalidad es para el individuo. Es una forma de actuar consolid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LA ESTRATEGIA DELIBERADA Y EMERG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05720" y="1980720"/>
            <a:ext cx="22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7543800" cy="480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NIVELES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Corporativa: relacionada con el objetivo y alcance global de la organización para satisfacer las expectativas de los propietarios y añadir valor a las distintas partes de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de Unidad de Negocios: se refiere a cómo competir con éxito en un determinado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s operativas: se ocupan de cómo los distintos componentes de la organización, recursos, procesos, personas y sus habilidades contribuyen de manera efectiva a la dirección estratégica, corporativa y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676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038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umno</cp:lastModifiedBy>
  <dcterms:modified xsi:type="dcterms:W3CDTF">2007-08-06T14:51:58Z</dcterms:modified>
  <cp:revision>27</cp:revision>
  <dc:subject/>
  <dc:title>PowerPoint Presentation</dc:title>
</cp:coreProperties>
</file>