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FE91-72EE-4D75-A4CF-E94D5245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673B-9350-4792-8CFF-3E29B8E3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41D1-FE46-4432-B2D9-49992C49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AFE9-09EB-4ED4-AB36-18B19EBC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8B1C-8FF5-44A1-B957-5E1DC98E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25F5-6587-46A7-B82F-1F199F58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CAF3-68E9-4DE6-A2B6-FF858507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CA4E-E941-4FB0-A19C-CB0DD6DB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881D-5CD6-41A8-9637-535306F9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171F-64FB-455A-9490-9866392E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A546-2D57-4AE2-A95D-3F984128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1E57-8CFF-446A-BCB0-FE1F2AF4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86B2-C1C5-4E5E-9C36-2F4262E05E8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STRATEGIA EN LAS </a:t>
            </a: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ORGANIZ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Times New Roman"/>
              </a:rPr>
              <a:t>COMPONENTES BÁSICOS DE LA 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 visión es el estado futuro deseado, a lo que se aspira a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le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Que tipo de organización queremos s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En qué tipo de negocios/áreas de gestión debe entrar la organiz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2. 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 la declaración simple de la razón de ser de una organización, su propósito básico y el ámbito de trabajo esencial para 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mplica acotar las energías y las metas a definir a un propósito explícito y claramente defin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uede construirse tomando en cuenta las preguntas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Quienes somos? = identidad, legitimidad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 ¿Qué buscamos? =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propósito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 ¿Qué hacer? =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incipale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medios para lograr el propósito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 ¿Porqué lo hacemos? =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valore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, principios, motivaciones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 ¿Para quiénes trabajamos? =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liente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o es el producto o servicio que ofrece una organización su razón de ser si no qué necesidad está satisfaciend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propósito y quehacer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104840" y="1752480"/>
            <a:ext cx="6934320" cy="4656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8207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3. OBJETIVOS ESTRATÉ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ine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fundamentales a los que se dirigen las actividades de la organización y que otorgan sentido a las acciones que ella realiza. Son los resultados que a mediano y largo plazo aspira a lograr una organización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jempl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-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Reducir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ejorar la calidad de los productos o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Flexibilizar los procesos de producción o de entrega de los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iferenciar productos o mode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Iniciar 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o incrementar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iversificar el mercado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esarrollar  nuevas competencias y habilidades en el 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tc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228240"/>
            <a:ext cx="86407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EJEMPLO: HOSPITAL SAN JUAN DE 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V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Hospital centrado en los usu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ntar con funcionarios calificados, de trato amable y comprometidos con la misión del hosp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ntar con una planta física que responda a las necesidades de todos los usuar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Fortalecer la relación docente asisten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tregar servicios integrales de salud a la población asignada, para resolver especialmente problemas sanitarios complejo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de forma oportuna, eficiente y amable, con los mayores niveles de calidad sustentable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58920" y="620280"/>
            <a:ext cx="8480160" cy="60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jetivo estratégico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Mejorar la atención al usu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jetivo de gest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Disminuir el tiempo promedio de atención a solicitudes de usuarios en cinco d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dicad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Tiempo promedio de atención (se debe establecer como se calculó, cual es la fuente de información, cual es la frecuencia con que será medido y quien será el respons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608200" y="3881520"/>
            <a:ext cx="217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90840" y="533520"/>
            <a:ext cx="2362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bjetivos Estratég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64000" y="2590920"/>
            <a:ext cx="2016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bjetivos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19480" y="4800600"/>
            <a:ext cx="27050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dicado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1523880"/>
            <a:ext cx="838080" cy="838440"/>
          </a:xfrm>
          <a:prstGeom prst="downArrow">
            <a:avLst>
              <a:gd name="adj1" fmla="val 50000"/>
              <a:gd name="adj2" fmla="val 2501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52960" y="3809880"/>
            <a:ext cx="838080" cy="838440"/>
          </a:xfrm>
          <a:prstGeom prst="downArrow">
            <a:avLst>
              <a:gd name="adj1" fmla="val 50000"/>
              <a:gd name="adj2" fmla="val 2501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RECCION ESTRATE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43400" y="1066680"/>
            <a:ext cx="4392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Times New Roman"/>
              </a:rPr>
              <a:t>ANALISIS ESTRATEGICO: Comprensión de la posición estratégica de la organización en función de su entorno externo, recursos, competencias y expectativas de los directivo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Times New Roman"/>
              </a:rPr>
              <a:t>ELECCION ESTRATEGICA: Generación de opciones estratégicas evaluables y selección de la mejor opción para la organizació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Times New Roman"/>
              </a:rPr>
              <a:t>IMPLEMENTACION DE LA ESTRATEGIA: traduce una estrategia en acción organizacional, mediante el diseño, estructura de la organización, la planificación de recursos y la gestión del cambio estratégico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4876920"/>
            <a:ext cx="2057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lement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371600"/>
            <a:ext cx="18288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stratég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3200400"/>
            <a:ext cx="18288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lecció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stratég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2438280"/>
            <a:ext cx="381240" cy="609840"/>
          </a:xfrm>
          <a:prstGeom prst="downArrow">
            <a:avLst>
              <a:gd name="adj1" fmla="val 50000"/>
              <a:gd name="adj2" fmla="val 3999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419112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PLANIFICACION ESTRATE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7724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 Planificación estratégica es un proceso que mantiene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ido al equipo directivo para traducir la misión, visión y estrategia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n resultados tangibles, reduce los conflictos, fomenta la participación  y el compromiso a todos los niveles de la organización con los esfuerzos requeridos para hacer realidad el futuro que se desea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istinción entre planificación y estrateg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-    P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aneación se asocia más al hemisferio izquierdo: actividades, recursos, tiempos; estrategia al hemisferio derecho: creatividad, intui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-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a planeación es un proceso de análisis; la estrategia es uno de síntesi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-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a planeación tiende hacia el incrementalismo: vender más, gastar menos, eficiencia; la estrategia hacia la discontinuidad: ser diferentes, capitalizar puntos de inflex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ANALISIS FO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ortaleza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: Representan los principales puntos a favor con los que cuenta la empresa o instit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ilidades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mitaciones relacionadas con potencial humano, capacidad de proceso o finanzas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Oportunidade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: Son eventos o circunstancias que se espera que ocurran o pueden inducirse a que ocurran en el mundo exterior y que podrían tener un impacto positivo en el futuro de la empre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menaza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: Son eventos o circunstancias que pueden ocurrir en el mundo exterior y que pudieran tener un impacto negativo en el futuro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848720" cy="60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tregar el producto al menor costo posible a una calidad mundial, a una calidad que sea global y que pueda vender mi producto en Chile o en cualquier parte del mundo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Buscamos la satisfacción del cliente y el continuo apoyo para que éstos aprovechen al máximo los servicio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ste proceso aspiramos a realizarlo con calidad tanto en los procesos como en la entrega final de productos y servicio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Queremos dar un servicio óptimo, oportuno, vanguardista y para eso estamos invirtiendo en nuevas tecnologías y capacitación del person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81788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IRADAS SOBRE EL PROCESO DE FORMACIÓN DE LAS ESTRATEG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istemas formales de planeació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nfoque normativo que señala cuales son los factores que deben incluirse en una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nfoque centrado en el poder y en la conduc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e centra en las relaciones psicológicas, de poder y de comportamiento y su relevancia para la conformación de una estrateg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ncrementalismo lóg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 el desarrollo deliberado de una estrategia a través del “aprender haciend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1788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NÁLISIS DEL EN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En entornos con condiciones simples o estáticas es relativamente fácil de comprender y no se producen cambios significativo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En los entornos con condiciones dinámicas hay una mayor complejidad que se puede salvar con la planificación de escenario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En entornos con condiciones complejas es difícil de entender y tienen un alto nivel de incertidumb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82760" y="342720"/>
            <a:ext cx="8178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EMENTOS QUE SE DEBEN CONSIDERAR AL HACER UN ANALISIS DEL EN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actores políticos/Legale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: Legislación sobre monopolios, legislación sobre protección del medio ambiente, etc.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P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olítica de impuestos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eyes laborales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olítica arancelarias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tabilidad política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2.    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actores económico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iclos económicos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T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ndencias del PIB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asas de interés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Oferta monetaria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I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flación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esempleo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isponibilidad y costos de medios energéticos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actores Tecnológico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Gastos gubernamentales en investigación y desarrollo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nterés del gobierno y la industria en el esfuerzo tecnológico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uevos descubrimientos y desarrollos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Velocidad en la transferencia tecnológica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ctitud hacia la innovación tecnológica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NALISIS COMPAR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álisis histórico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: analiza la utilización de recursos y sus rendimientos comparándolos con los años anteriores, para identificar los principales camb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álisis de los estándares de la industria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: compara los rendimientos relativos de las organizaciones de la misma industria (o del mismo servicio público) en función de un conjunto de indicadores de rendi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Benchmarking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: trata de determinar las competencias de una organización en función del “mejor de la clase”. Los peores buscan “consejo” de los “mejores” a través de buscar, compartir e implementar las mejores prác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strucc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ben hacer 4 gru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ada grupo debe elegir a un lí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líderes deben recoger el máximo de materiales. Ellos serán guiados por el resto de su equ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solidarse como líder de la industria, no es estrategia, es un deseo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ender lo mejor al mejor precio, no es estrategia, es la "estrategia" de todo el mundo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btener la mayor productividad, no es estrategia, es una medida de eficiencia 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No existe una única definición 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uso común, estrategia se utiliza como sinónimo de: objetivo, misión, táctica, procedimiento, actividad, etc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3818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n el campo de la administración, una estrategia es el plan o patrón que integra las principales metas y políticas de una organización, y a la vez, establece la secuencia coherente de las acciones a realizar. Una estrategia adecuadamente formulada ayuda a poner orden y a asignar los recursos de una organización, con el fin de lograr una situación viable y original, así como anticipar los posibles cambios en el entorno y acciones imprevistas de los oponentes inteligentes” (Quin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40464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Definición de 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ARACTERÍSTICAS DE LAS DECISIONES ESTRATÉGICAS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Relacionadas con la dirección de largo plazo</a:t>
            </a: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Relacionadas con el alcance de las actividades de la organización</a:t>
            </a: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tablece la adecuación de las actividades de una organización al entorno en el que opera</a:t>
            </a: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sociadas a lograr ventajas para la organizació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INTZBERG DEFINE LA ESTRATEGIA COMO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- I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formal y visionaria, más que formal y programada</a:t>
            </a: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- Sustentada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n el subconconsciente</a:t>
            </a: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- Demandante de un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pensamiento divergente e intuitivo</a:t>
            </a: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- Pr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oceso creativo, irregular, instintivo y disru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AS 5 P DE LA 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Plan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curso de acción conscientemente deseado y determinado de forma anticipada, con la finalidad de asegurar el logro de los objetivos de la empresa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Pauta de Acción: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uede visualiza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a simple vista como una trampa, una maniobra, que oculta la verdadera estrategi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Patrón: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modelo en el flujo de acciones. Se infiere consistencia con el actuar. Para que sea deliberada debe provenir de los altos man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Posición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medio para ubicar a una organización en el “medio ambiente”.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Busca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ubicar a la organización en un entorno externo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en posiciones concre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Perspectiva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la estrategia es para las organizaciones lo que la personalidad es para el individuo. Es una forma de actuar consolid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Times New Roman"/>
              </a:rPr>
              <a:t>LA ESTRATEGIA DELIBERADA Y EMERG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705720" y="1980720"/>
            <a:ext cx="220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0280" y="1828800"/>
            <a:ext cx="7543800" cy="4800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NIVELES DE LA 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0010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strategia Corporativa: relacionada con el objetivo y alcance global de la organización para satisfacer las expectativas de los propietarios y añadir valor a las distintas partes de la empre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strategia de Unidad de Negocios: se refiere a cómo competir con éxito en un determinado merc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strategias operativas: se ocupan de cómo los distintos componentes de la organización, recursos, procesos, personas y sus habilidades contribuyen de manera efectiva a la dirección estratégica, corporativa y de 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6765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9718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0384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umno</cp:lastModifiedBy>
  <dcterms:modified xsi:type="dcterms:W3CDTF">2007-08-06T14:51:58Z</dcterms:modified>
  <cp:revision>27</cp:revision>
  <dc:subject/>
  <dc:title>PowerPoint Presentation</dc:title>
</cp:coreProperties>
</file>