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864D-D990-4591-B4C8-05271A4F7F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B9F-69ED-4634-99D8-7A6FEA75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085-2EFA-411A-9733-682717B5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E9-2BB8-413A-B7D9-DBDD1EB4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027-5150-4A47-B894-65A9C073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C5-3C43-43CC-8AAA-D2F69ECC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C12-AB12-4C50-AF72-7AA659B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64E-B377-437D-ABD3-C0936E01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671-8965-4D63-BCDC-73117070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F08-305E-4F5A-9B77-3ECC273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205-F5BE-4B5D-BD96-0E2EE5E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EB9-3788-492B-8286-8B9AF1B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720-C0B6-4F8D-8403-2AB9DE4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2CB9-54FB-4E2B-B98D-D655141373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920" y="22096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LAS CINCO PARTES FUNDAMENTALES DE LA ORGANIZAC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260280"/>
          <a:ext cx="8715600" cy="2419560"/>
        </p:xfrm>
        <a:graphic>
          <a:graphicData uri="http://schemas.openxmlformats.org/drawingml/2006/table">
            <a:tbl>
              <a:tblPr/>
              <a:tblGrid>
                <a:gridCol w="847800"/>
                <a:gridCol w="1450440"/>
                <a:gridCol w="1524600"/>
                <a:gridCol w="1374120"/>
                <a:gridCol w="1744200"/>
                <a:gridCol w="1559160"/>
                <a:gridCol w="21600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AS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ayl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ay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e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ay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duct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s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cedimien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ientíf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perac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Burocrátic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mportamen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79280" y="3284640"/>
          <a:ext cx="8713800" cy="3087720"/>
        </p:xfrm>
        <a:graphic>
          <a:graphicData uri="http://schemas.openxmlformats.org/drawingml/2006/table">
            <a:tbl>
              <a:tblPr/>
              <a:tblGrid>
                <a:gridCol w="854280"/>
                <a:gridCol w="1452600"/>
                <a:gridCol w="1085760"/>
                <a:gridCol w="1431720"/>
                <a:gridCol w="1344600"/>
                <a:gridCol w="1389240"/>
                <a:gridCol w="11556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V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ODER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o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Katz-Ka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hand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c-Greg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isntzberg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ming Cros by Ju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co de Inte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pende de situación 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ers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liente proc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nf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sté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nting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eoría X 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dm. Estraté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lida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ertientes de Análisis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84464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ciología de la Bur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Administración Cient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Rela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oría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de Contin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rroll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00"/>
                </a:solidFill>
                <a:latin typeface="Arial"/>
              </a:rPr>
              <a:t>Sociología de la Buroc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470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x Weber distinguió 4 tipos de acción so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fines, donde fines y medios son escogidos raci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racional orientada a valores, en que se persigue un fin valórico por medios 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efectiva o emocional, que se basa en el estado emocional del 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ción tradicional, guiada por hábitos y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005360"/>
            <a:ext cx="914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relacionar la sociedad con los tipos de acción social, caracterizó a la sociedad moderna por el predominio de las normas impersonales y de la racionalidad medios-f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 la organización burocrática como un tipo ideal, para enfrentar los requerimientos de la sociedad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nstituciones burocráticas son dominantes, con estructuras formales, normas establecidas, jerarquías, criterios de promoción y se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62864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es un ser racional. Toma decisiones para maximizar los resultados de su acción. Orientado a la búsqueda del beneficio o lucro (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economicus</a:t>
            </a:r>
            <a:r>
              <a:rPr b="0" lang="es-ES_tradnl" sz="16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 una forma correcta y única de organizar el trabajo. Maximiza la efic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administración debe encontrar esa mejor forma a través de estudios y mediciones científicas. Establecer normas y procedimientos para ser aplicados en el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asegurar el cumplimiento de las normas: implementar mecanismos eficientes selección de personal, incentivos económicos y de superv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Clásica - Administración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500280"/>
            <a:ext cx="8642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funciones de una organización er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écnicas: elaboración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erciales: compras, ventas y perm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eras: búsqueda y administración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: protección de bienes y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abilidad: conocer la situación de la empresa y hacia donde se or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ministrativa: formular el programa general de acción de una empresa y ponerlo en marcha ( previsión, organización, mando,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752480"/>
            <a:ext cx="822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hombre no puede ser reducido a esquemas mecánicos. Condicionado por aspectos sociales y biológicos. Cada persona tiene características y necesidades particulares que no necesariamente son económicas, sino de orden social y afectivo (idea de 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o social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as organizaciones no existen trabajadores individuales, sino grupos sociales que condicionan fuertemente la conducta de cada trabaja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la estructura formal de la organización hay que sumarle la organización inf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productividad de los trabajadores se consigue motivándolos a sumarse a los objetivos de la organización,  a través de la participación y la mejora de las condiciones labo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scuela de Relaciones Hum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437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s fundamen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relaciones mas cercanas entre empleados, contribuyendo a la producción y a la baja del ause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umento de la cooperación, cada uno trabaja a su propio rit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463760"/>
            <a:ext cx="8229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ersonas desempeñan roles específicos en las organizaciones  (cargos) y mediante ellos se mantienen interrelacionadas y coordinad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hombre fun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cargo tiene asociado un conjunto de expectativas en torno a las que se definen las acciones propias y las de l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organizaciones son sistemas de relaciones abiertos, que se ven afectados por las características de los subsistemas organizacional, interpersonal y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iversidad de variables que intervienen en la conducta en las organizaciones dan lugar a frecuentes conflictos de rol: expectativas contradictorias sobre un rol presionan sobre la conduc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otivación es el tema clave para definir los esquemas de incentivos, los que deben ser de tipo mi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Teoría de Sis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752480"/>
            <a:ext cx="82296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 una única forma de administrar de manera óptima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xisten estructuras organizacionales, estilos de liderazgo ni controles que sean adecuados para todas los casos. Hay que evitar la aplicación dogmática de cualquier esquema. Supone un 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mbre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as diversas partes de una organización -tareas, personas, gerencia- se generan relaciones de interdependencia que es necesario estudiar para lograr un funcionamiento ópti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area de los administradores es encontrar la solución adecuada en cada caso, aplicando combinaciones de ellos, conforme la realidad de cada parte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Enfoque de Conting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1197000"/>
            <a:ext cx="822960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organizaciones están en permanente proceso de transformación, en conjunto con las variaciones del entorno económico y so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 este proceso pueden cambiar los métodos de producción, las características de los productos, la organización y condiciones de trabaj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conocimiento de las organizaciones está en permanente desarrollo y las decisiones administrativas no pueden suponer que se cuenta con la verdad ni tampoco esperar una teoría definitiv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 necesario desarrollar estrategias para que los cambios organizacionales sean planificados, en función de los problemas y necesidades que la organización debe enfrent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emas claves son los diagnósticos completos y la definición de planes de con metas claras, conocidas y compartidas. Basado en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“hombre participativo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00"/>
                </a:solidFill>
                <a:latin typeface="Arial"/>
              </a:rPr>
              <a:t>Desarroll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00"/>
                </a:solidFill>
                <a:latin typeface="Arial"/>
              </a:rPr>
              <a:t>TEMAS IMPORTANTES EN UNA ORGANIZ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ocer la propia 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y tamaño de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volución y revolu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ahoma"/>
              </a:rPr>
              <a:t>El entorno social y económ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86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93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628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96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7640" y="1068480"/>
            <a:ext cx="1216080" cy="487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64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58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951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1408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3340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2720" y="701640"/>
            <a:ext cx="102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-1136880" y="3268440"/>
            <a:ext cx="36766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ÑODE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0040" y="111276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080" y="5532480"/>
            <a:ext cx="119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9000" y="6108840"/>
            <a:ext cx="344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6097680"/>
            <a:ext cx="86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JO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03920" y="6097680"/>
            <a:ext cx="108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455840" y="47196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13040" y="42620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65320" y="42750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41640" y="44143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3920" y="44276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70240" y="44143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674800" y="41860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132000" y="37285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84640" y="37418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360600" y="38815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13240" y="38941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589200" y="38815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94120" y="36529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1320" y="31953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3600" y="32083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9920" y="33476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32200" y="33606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808520" y="33480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113440" y="311940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570640" y="2661840"/>
            <a:ext cx="137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2920" y="2674800"/>
            <a:ext cx="6192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99240" y="2814120"/>
            <a:ext cx="13788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51520" y="2827440"/>
            <a:ext cx="6192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27840" y="2814120"/>
            <a:ext cx="29052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32400" y="2585880"/>
            <a:ext cx="44316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789600" y="212832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2240" y="214164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018200" y="2281320"/>
            <a:ext cx="13824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70840" y="229392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46800" y="228132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51720" y="2052720"/>
            <a:ext cx="442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8920" y="1595160"/>
            <a:ext cx="13824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61200" y="1608120"/>
            <a:ext cx="61920" cy="67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37520" y="1747440"/>
            <a:ext cx="13824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9800" y="1760400"/>
            <a:ext cx="619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8466120" y="1747800"/>
            <a:ext cx="29052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6240" y="3516480"/>
            <a:ext cx="1044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49960" y="2982960"/>
            <a:ext cx="1083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UT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260208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88600" y="1906560"/>
            <a:ext cx="1092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NFORM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REUN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10440" y="1306440"/>
            <a:ext cx="961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Crisi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6480" y="1068480"/>
            <a:ext cx="127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Crisis de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0880" y="4964040"/>
            <a:ext cx="1179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1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RE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9120" y="4506840"/>
            <a:ext cx="1397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2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ESTRUCT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040" y="3963960"/>
            <a:ext cx="1156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3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ELEG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6960" y="34304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ORDI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26280" y="2973240"/>
            <a:ext cx="1067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DENTIFIC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2000" y="2592360"/>
            <a:ext cx="1205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6.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ediant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ORIE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L 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04640" y="103320"/>
            <a:ext cx="650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es-ES_tradnl" sz="2400" spc="-1" strike="noStrike">
                <a:solidFill>
                  <a:srgbClr val="006600"/>
                </a:solidFill>
                <a:latin typeface="Times New Roman"/>
              </a:rPr>
              <a:t>RISIS Y SOLUCIONE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9180000">
            <a:off x="5433120" y="2660040"/>
            <a:ext cx="144972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41400">
            <a:off x="5412960" y="2434680"/>
            <a:ext cx="719280" cy="72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0000">
            <a:off x="2406240" y="2678040"/>
            <a:ext cx="1449360" cy="279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741400">
            <a:off x="3534120" y="2718720"/>
            <a:ext cx="388800" cy="244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e influencias internas y exter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2438280"/>
            <a:ext cx="106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re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0400" y="3886200"/>
            <a:ext cx="88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286000"/>
            <a:ext cx="1981080" cy="60948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741400">
            <a:off x="6399000" y="4889160"/>
            <a:ext cx="718920" cy="72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158400">
            <a:off x="5562720" y="2742840"/>
            <a:ext cx="1449360" cy="26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3440" y="3809880"/>
            <a:ext cx="146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741400">
            <a:off x="1918800" y="4919760"/>
            <a:ext cx="731880" cy="763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20000">
            <a:off x="2287440" y="2666520"/>
            <a:ext cx="1449360" cy="274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960" y="3962520"/>
            <a:ext cx="986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nal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040" y="5562720"/>
            <a:ext cx="230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perarios/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334120"/>
            <a:ext cx="5790960" cy="761760"/>
          </a:xfrm>
          <a:prstGeom prst="roundRect">
            <a:avLst>
              <a:gd name="adj" fmla="val 416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819520"/>
            <a:ext cx="1371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257800"/>
            <a:ext cx="38862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60000">
            <a:off x="3886200" y="2819520"/>
            <a:ext cx="7632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3389400">
            <a:off x="5317560" y="2846880"/>
            <a:ext cx="745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8954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cubicBezTo>
                  <a:pt x="0" y="0"/>
                  <a:pt x="24" y="24"/>
                  <a:pt x="48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905120"/>
            <a:ext cx="7772400" cy="4343400"/>
            <a:chOff x="609480" y="1905120"/>
            <a:chExt cx="7772400" cy="4343400"/>
          </a:xfrm>
        </p:grpSpPr>
        <p:sp>
          <p:nvSpPr>
            <p:cNvPr id="71" name=""/>
            <p:cNvSpPr/>
            <p:nvPr/>
          </p:nvSpPr>
          <p:spPr>
            <a:xfrm>
              <a:off x="609480" y="1905120"/>
              <a:ext cx="7772400" cy="4343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180000">
              <a:off x="5331960" y="2654280"/>
              <a:ext cx="1087560" cy="219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741400">
              <a:off x="5307120" y="2489040"/>
              <a:ext cx="56052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20000">
              <a:off x="3061800" y="2668320"/>
              <a:ext cx="1087560" cy="21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741400">
              <a:off x="3902400" y="2702880"/>
              <a:ext cx="303120" cy="18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23960" y="2481120"/>
              <a:ext cx="843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0120" y="3610080"/>
              <a:ext cx="71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an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med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2362320"/>
              <a:ext cx="1485720" cy="47628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741400">
              <a:off x="6046920" y="4403520"/>
              <a:ext cx="560160" cy="54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158400">
              <a:off x="5428440" y="2719440"/>
              <a:ext cx="1087560" cy="205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28080" y="3551400"/>
              <a:ext cx="1149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ff 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741400">
              <a:off x="2685960" y="4427280"/>
              <a:ext cx="569880" cy="57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20000">
              <a:off x="2972880" y="2658600"/>
              <a:ext cx="1087560" cy="214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2080" y="36720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Anal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2840" y="4917960"/>
              <a:ext cx="1798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Profesores/Trabajad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4740120"/>
              <a:ext cx="4343400" cy="594000"/>
            </a:xfrm>
            <a:prstGeom prst="roundRect">
              <a:avLst>
                <a:gd name="adj" fmla="val 4166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9280" y="2778120"/>
              <a:ext cx="102852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0400" y="4680000"/>
              <a:ext cx="291456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8960000">
              <a:off x="4172040" y="2777760"/>
              <a:ext cx="5724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389400">
              <a:off x="5244120" y="2801160"/>
              <a:ext cx="59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2040" y="2838600"/>
              <a:ext cx="57240" cy="586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cubicBezTo>
                    <a:pt x="0" y="0"/>
                    <a:pt x="24" y="24"/>
                    <a:pt x="48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33920" y="1981080"/>
            <a:ext cx="190476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486400"/>
            <a:ext cx="411480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indicatos y agrupaciones de trabaj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6019920"/>
            <a:ext cx="6400800" cy="3045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tores Asoci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8920" y="5943600"/>
            <a:ext cx="68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3080" y="6172200"/>
            <a:ext cx="93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3680" y="6172200"/>
            <a:ext cx="1035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41880" y="5867280"/>
            <a:ext cx="1343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ocios estraté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55640" y="1197000"/>
            <a:ext cx="7772400" cy="5181480"/>
            <a:chOff x="755640" y="1197000"/>
            <a:chExt cx="7772400" cy="5181480"/>
          </a:xfrm>
        </p:grpSpPr>
        <p:sp>
          <p:nvSpPr>
            <p:cNvPr id="100" name=""/>
            <p:cNvSpPr/>
            <p:nvPr/>
          </p:nvSpPr>
          <p:spPr>
            <a:xfrm>
              <a:off x="755640" y="1501560"/>
              <a:ext cx="7772400" cy="487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9040" y="1197000"/>
              <a:ext cx="128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úbl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369080" y="2286000"/>
            <a:ext cx="1389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1800" y="2362320"/>
            <a:ext cx="1377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unicip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240" y="4038480"/>
            <a:ext cx="1206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rganis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iscaliz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0960" y="5029200"/>
            <a:ext cx="9428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úblic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5960" y="6400800"/>
            <a:ext cx="15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upos de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2520" y="630360"/>
            <a:ext cx="56037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LAS CAMBIOS DE LÓGICAS DE 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98360" y="985680"/>
            <a:ext cx="594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200" spc="-1" strike="noStrike">
                <a:solidFill>
                  <a:srgbClr val="006600"/>
                </a:solidFill>
                <a:latin typeface="Arial"/>
              </a:rPr>
              <a:t>NUEVOS PARADIGMAS ADMINISTRACIÓN</a:t>
            </a: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91480" y="2030400"/>
            <a:ext cx="580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MBIOS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</a:rPr>
              <a:t>DE LOGICAS Y DE ENFO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1200" y="2741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8240" y="2819520"/>
            <a:ext cx="155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27320" y="2773440"/>
            <a:ext cx="216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1200" y="345276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7120" y="3500280"/>
            <a:ext cx="2351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la 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resul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11920" y="348444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11560" y="3840120"/>
            <a:ext cx="341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munidad invest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1200" y="451944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29400" y="4552920"/>
            <a:ext cx="29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org.  protectora</a:t>
            </a:r>
            <a:r>
              <a:rPr b="1" lang="es-ES_tradnl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11200" y="4552920"/>
            <a:ext cx="26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org. reflex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1200" y="5230800"/>
            <a:ext cx="44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6040" y="5229360"/>
            <a:ext cx="306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líder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10840" y="5264280"/>
            <a:ext cx="292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la comun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1360" y="1928880"/>
            <a:ext cx="7718400" cy="4257720"/>
          </a:xfrm>
          <a:prstGeom prst="rect">
            <a:avLst/>
          </a:prstGeom>
          <a:noFill/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ÚCLEO DE OP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mbros que realizan el trabajo básico relacionado a la producción de producto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egurar inputs par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ormar los inputs en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ribuir los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r apoyo directo a las funciones de input, transformación y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PICE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sonas encargadas de una responsabilidad general en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principal: asegurarse que la organización cumpla efectivamente con su misión y que satisfaga los intereses de las personas que tienen poder en el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blig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ervisión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estión de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ÍNEA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 de directivos provistos de autoridad f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les del director general pero en el contexto de gestión de su propia u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CNO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pertenecen al flujo de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: afianzar la normalización en l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pos: analista de estudios de trabajo, de planificación y control y de pers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AFF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Unidades especializadas que proporcionan apoyo a la organización fuera del trabajo de oper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16280"/>
            <a:ext cx="904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MODELOS DE ORGANIZACIÓN Y GEST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768240"/>
            <a:ext cx="0" cy="463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9480" y="5410080"/>
            <a:ext cx="661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1600" y="625320"/>
            <a:ext cx="4694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10040" y="588312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9760" y="5388120"/>
            <a:ext cx="62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UELAS -  MOVIMIENTOS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9480" y="4952880"/>
            <a:ext cx="4442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00200" y="4565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668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4184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7560" y="4191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3803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4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19520" y="3422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25640" y="3429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0400" y="3041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6880" y="304812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360" y="3860640"/>
            <a:ext cx="139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PRESCRIP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040" y="2666880"/>
            <a:ext cx="116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EXPLIC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657600" y="2660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64080" y="26668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14800" y="227952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212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8320" y="18986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1905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7400" y="1219320"/>
            <a:ext cx="140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SCRIP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OS - EXP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05520" y="15174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1640" y="15238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10602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476720" y="4941720"/>
            <a:ext cx="101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1. Cl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1893240" y="4495680"/>
            <a:ext cx="122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2.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2350080" y="4114800"/>
            <a:ext cx="1091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3. RR.H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0" y="3733920"/>
            <a:ext cx="181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3061800" y="3357720"/>
            <a:ext cx="1691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4. Estructur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3569400" y="2971800"/>
            <a:ext cx="217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5. Comportamental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4026240" y="2590920"/>
            <a:ext cx="12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6. Sisté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4574880" y="2209680"/>
            <a:ext cx="159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99"/>
                </a:solidFill>
                <a:latin typeface="Times New Roman"/>
              </a:rPr>
              <a:t>7. Continge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" action="ppaction://hlinksldjump"/>
          </p:cNvPr>
          <p:cNvSpPr/>
          <p:nvPr/>
        </p:nvSpPr>
        <p:spPr>
          <a:xfrm>
            <a:off x="5014800" y="1523880"/>
            <a:ext cx="2773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8. Desarrollo 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9" action="ppaction://hlinksldjump"/>
          </p:cNvPr>
          <p:cNvSpPr/>
          <p:nvPr/>
        </p:nvSpPr>
        <p:spPr>
          <a:xfrm>
            <a:off x="5866920" y="6172200"/>
            <a:ext cx="30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gt;&gt; EVOLUCIÓN DE LAS TEOR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35:39Z</dcterms:created>
  <dc:creator>Soledad Valdes</dc:creator>
  <dc:description/>
  <dc:language>en-US</dc:language>
  <cp:lastModifiedBy>Isabel Guerrero</cp:lastModifiedBy>
  <dcterms:modified xsi:type="dcterms:W3CDTF">2007-07-29T14:20:45Z</dcterms:modified>
  <cp:revision>7</cp:revision>
  <dc:subject/>
  <dc:title>Diapositiva 1</dc:title>
</cp:coreProperties>
</file>