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A7490-9FB5-4661-80E4-ACEB8E2D5BD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9CE2-5E2E-4ADE-810F-00F423216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91F8-5034-4A74-A449-CF0E8B441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AB90-CE91-4C22-BB2C-DEB6508F6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A513-66DA-4DE2-89BE-A05FDBFEB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179D-3FD9-4BAB-A651-B46613F62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E176-D033-4BDA-A98E-238B832A8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9CEA-6B9B-4843-98C2-0B3F5C0BB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EE23-02BC-4FE0-99F2-03EFB32F8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238D-6A07-4328-8EC9-F315201D8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AB0B-E347-449F-8C93-0AFC6F2D2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E5CE-0228-4F69-9655-DB9DBD5F0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45BD-F5DF-4277-AE4E-377E0A6B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8C019-EF9A-47EA-BD2D-C894BF6869C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58920" y="2209680"/>
            <a:ext cx="842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000000"/>
                </a:solidFill>
                <a:latin typeface="Arial"/>
              </a:rPr>
              <a:t>LAS CINCO PARTES FUNDAMENTALES DE LA ORGANIZAC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179280" y="260280"/>
          <a:ext cx="8715600" cy="2419560"/>
        </p:xfrm>
        <a:graphic>
          <a:graphicData uri="http://schemas.openxmlformats.org/drawingml/2006/table">
            <a:tbl>
              <a:tblPr/>
              <a:tblGrid>
                <a:gridCol w="847800"/>
                <a:gridCol w="1450440"/>
                <a:gridCol w="1524600"/>
                <a:gridCol w="1374120"/>
                <a:gridCol w="1744200"/>
                <a:gridCol w="1559160"/>
                <a:gridCol w="216000"/>
              </a:tblGrid>
              <a:tr h="59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AÑO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MOVIMIEN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VARIAB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CLASIC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9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9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Exponen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Taylo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Fayo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Webe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May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Foco de Interé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Productiv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Proceso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Procedimiento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Persona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Enfoq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Científic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Operaciona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Burocrátic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Comportamenta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179280" y="3284640"/>
          <a:ext cx="8713800" cy="3087720"/>
        </p:xfrm>
        <a:graphic>
          <a:graphicData uri="http://schemas.openxmlformats.org/drawingml/2006/table">
            <a:tbl>
              <a:tblPr/>
              <a:tblGrid>
                <a:gridCol w="854280"/>
                <a:gridCol w="1452600"/>
                <a:gridCol w="1085760"/>
                <a:gridCol w="1431720"/>
                <a:gridCol w="1344600"/>
                <a:gridCol w="1389240"/>
                <a:gridCol w="1155600"/>
              </a:tblGrid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AÑO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MOVIMIEN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VARIAB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MODERN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9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9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Expon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Katz-Kah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Chandl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Mc-Greg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Misntzberg Por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Deming Cros by Jur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Foco de Inter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Siste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Depende de situación E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Perso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Ambi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Cliente proc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Enfo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Sistém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Contingenc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Teoría X  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Adm. Estratég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Calidad 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Vertientes de Análisis Organizac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1844640"/>
            <a:ext cx="7920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ociología de la Burocra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cuela de Administración Científ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cuela de Relaciones Huma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eoría de Siste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nfoque de Contingen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sarrollo Organiza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6600"/>
                </a:solidFill>
                <a:latin typeface="Arial"/>
              </a:rPr>
              <a:t>Sociología de la Burocra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447040" cy="27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x Weber distinguió 4 tipos de acción soci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cción racional orientada a fines, donde fines y medios son escogidos racional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cción racional orientada a valores, en que se persigue un fin valórico por medios rac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cción efectiva o emocional, que se basa en el estado emocional del ac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cción tradicional, guiada por hábitos y costumb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4005360"/>
            <a:ext cx="914400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 relacionar la sociedad con los tipos de acción social, caracterizó a la sociedad moderna por el predominio de las normas impersonales y de la racionalidad medios-fi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esenta la organización burocrática como un tipo ideal, para enfrentar los requerimientos de la sociedad mode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instituciones burocráticas son dominantes, con estructuras formales, normas establecidas, jerarquías, criterios de promoción y selec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68360" y="1628640"/>
            <a:ext cx="8424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l hombre es un ser racional. Toma decisiones para maximizar los resultados de su acción. Orientado a la búsqueda del beneficio o lucro (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homo economicus</a:t>
            </a:r>
            <a:r>
              <a:rPr b="0" lang="es-ES_tradnl" sz="1600" spc="-1" strike="noStrike">
                <a:solidFill>
                  <a:srgbClr val="009999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xiste una forma correcta y única de organizar el trabajo. Maximiza la eficienc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a administración debe encontrar esa mejor forma a través de estudios y mediciones científicas. Establecer normas y procedimientos para ser aplicados en el trabaj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ara asegurar el cumplimiento de las normas: implementar mecanismos eficientes selección de personal, incentivos económicos y de supervis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6600"/>
                </a:solidFill>
                <a:latin typeface="Arial"/>
              </a:rPr>
              <a:t>Escuela Clásica - Administración Científ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0920" y="3500280"/>
            <a:ext cx="86421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s funciones de una organización era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écnicas: elaboración del produ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merciales: compras, ventas y permu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inancieras: búsqueda y administración de capit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guridad: protección de bienes y perso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ntabilidad: conocer la situación de la empresa y hacia donde se ori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dministrativa: formular el programa general de acción de una empresa y ponerlo en marcha ( previsión, organización, mando, contro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533520" y="1752480"/>
            <a:ext cx="82296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l hombre no puede ser reducido a esquemas mecánicos. Condicionado por aspectos sociales y biológicos. Cada persona tiene características y necesidades particulares que no necesariamente son económicas, sino de orden social y afectivo (idea de “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homo social”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n las organizaciones no existen trabajadores individuales, sino grupos sociales que condicionan fuertemente la conducta de cada trabajado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 la estructura formal de la organización hay que sumarle la organización inform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a productividad de los trabajadores se consigue motivándolos a sumarse a los objetivos de la organización,  a través de la participación y la mejora de las condiciones labor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6600"/>
                </a:solidFill>
                <a:latin typeface="Arial"/>
              </a:rPr>
              <a:t>Escuela de Relaciones Huma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39640" y="4437000"/>
            <a:ext cx="8353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us fundamentos s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sarrollo de relaciones mas cercanas entre empleados, contribuyendo a la producción y a la baja del ausent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umento de la cooperación, cada uno trabaja a su propio rit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468360" y="1463760"/>
            <a:ext cx="82296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personas desempeñan roles específicos en las organizaciones  (cargos) y mediante ellos se mantienen interrelacionadas y coordinada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hombre funciona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da cargo tiene asociado un conjunto de expectativas en torno a las que se definen las acciones propias y las de los ot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organizaciones son sistemas de relaciones abiertos, que se ven afectados por las características de los subsistemas organizacional, interpersonal y pers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diversidad de variables que intervienen en la conducta en las organizaciones dan lugar a frecuentes conflictos de rol: expectativas contradictorias sobre un rol presionan sobre la conduc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motivación es el tema clave para definir los esquemas de incentivos, los que deben ser de tipo mix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6600"/>
                </a:solidFill>
                <a:latin typeface="Arial"/>
              </a:rPr>
              <a:t>Teoría de Siste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533520" y="1752480"/>
            <a:ext cx="822960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 existe una única forma de administrar de manera óptima una organizac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 existen estructuras organizacionales, estilos de liderazgo ni controles que sean adecuados para todas los casos. Hay que evitar la aplicación dogmática de cualquier esquema. Supone un “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ombre flexibl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tre las diversas partes de una organización -tareas, personas, gerencia- se generan relaciones de interdependencia que es necesario estudiar para lograr un funcionamiento óptim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tarea de los administradores es encontrar la solución adecuada en cada caso, aplicando combinaciones de ellos, conforme la realidad de cada parte de la organiz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6600"/>
                </a:solidFill>
                <a:latin typeface="Arial"/>
              </a:rPr>
              <a:t>Enfoque de Continge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68360" y="1197000"/>
            <a:ext cx="8229600" cy="55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Las organizaciones están en permanente proceso de transformación, en conjunto con las variaciones del entorno económico y social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En este proceso pueden cambiar los métodos de producción, las características de los productos, la organización y condiciones de trabaj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El conocimiento de las organizaciones está en permanente desarrollo y las decisiones administrativas no pueden suponer que se cuenta con la verdad ni tampoco esperar una teoría definitiv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Es necesario desarrollar estrategias para que los cambios organizacionales sean planificados, en función de los problemas y necesidades que la organización debe enfrenta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Temas claves son los diagnósticos completos y la definición de planes de con metas claras, conocidas y compartidas. Basado en 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“hombre participativo”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6600"/>
                </a:solidFill>
                <a:latin typeface="Arial"/>
              </a:rPr>
              <a:t>Desarrollo Organizac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6600"/>
                </a:solidFill>
                <a:latin typeface="Arial"/>
              </a:rPr>
              <a:t>TEMAS IMPORTANTES EN UNA ORGANIZACIÓ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ocer la propia histo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dad y tamaño de la organiz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Tahoma"/>
              </a:rPr>
              <a:t>Evolución y revolució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Tahoma"/>
              </a:rPr>
              <a:t>El entorno social y económic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668680" y="1068480"/>
            <a:ext cx="1216080" cy="487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449360" y="1068480"/>
            <a:ext cx="1216080" cy="487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545240" y="1068480"/>
            <a:ext cx="1216080" cy="487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26280" y="1068480"/>
            <a:ext cx="1216080" cy="487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106960" y="1068480"/>
            <a:ext cx="1216080" cy="487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87640" y="1068480"/>
            <a:ext cx="1216080" cy="487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356480" y="701640"/>
            <a:ext cx="1024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FAS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575800" y="701640"/>
            <a:ext cx="1024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FAS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795120" y="701640"/>
            <a:ext cx="1024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FAS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014080" y="701640"/>
            <a:ext cx="1024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FASE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233400" y="701640"/>
            <a:ext cx="1024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FASE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452720" y="701640"/>
            <a:ext cx="1024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FASE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16200000">
            <a:off x="-1136880" y="3268440"/>
            <a:ext cx="3676680" cy="3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MAÑODELA ORGAN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30040" y="1112760"/>
            <a:ext cx="1059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GRAN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54080" y="5532480"/>
            <a:ext cx="1194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EQUEÑ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339000" y="6108840"/>
            <a:ext cx="3448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AD DE LA ORGAN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357200" y="6097680"/>
            <a:ext cx="868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JOV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603920" y="6097680"/>
            <a:ext cx="1082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AD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455840" y="4719600"/>
            <a:ext cx="442800" cy="23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13040" y="4262040"/>
            <a:ext cx="137880" cy="46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065320" y="4275000"/>
            <a:ext cx="61920" cy="67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2141640" y="4414320"/>
            <a:ext cx="137880" cy="54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293920" y="4427640"/>
            <a:ext cx="61920" cy="13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2370240" y="4414320"/>
            <a:ext cx="290520" cy="16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2674800" y="4186080"/>
            <a:ext cx="443160" cy="23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3132000" y="3728520"/>
            <a:ext cx="138240" cy="46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84640" y="3741840"/>
            <a:ext cx="61920" cy="671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3360600" y="3881520"/>
            <a:ext cx="138240" cy="544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513240" y="3894120"/>
            <a:ext cx="61920" cy="1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3589200" y="3881520"/>
            <a:ext cx="290520" cy="1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3894120" y="3652920"/>
            <a:ext cx="442800" cy="23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4351320" y="3195360"/>
            <a:ext cx="138240" cy="46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503600" y="3208320"/>
            <a:ext cx="61920" cy="671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4579920" y="3347640"/>
            <a:ext cx="138240" cy="54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732200" y="3360600"/>
            <a:ext cx="61920" cy="1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4808520" y="3348000"/>
            <a:ext cx="290520" cy="1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5113440" y="3119400"/>
            <a:ext cx="442800" cy="23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5570640" y="2661840"/>
            <a:ext cx="137880" cy="46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722920" y="2674800"/>
            <a:ext cx="61920" cy="67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5799240" y="2814120"/>
            <a:ext cx="137880" cy="54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951520" y="2827440"/>
            <a:ext cx="61920" cy="13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6027840" y="2814120"/>
            <a:ext cx="290520" cy="16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6332400" y="2585880"/>
            <a:ext cx="443160" cy="23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6789600" y="2128320"/>
            <a:ext cx="138240" cy="46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942240" y="2141640"/>
            <a:ext cx="61920" cy="671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7018200" y="2281320"/>
            <a:ext cx="138240" cy="544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170840" y="2293920"/>
            <a:ext cx="61920" cy="1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7246800" y="2281320"/>
            <a:ext cx="290520" cy="1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7551720" y="2052720"/>
            <a:ext cx="442800" cy="23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8008920" y="1595160"/>
            <a:ext cx="138240" cy="46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161200" y="1608120"/>
            <a:ext cx="61920" cy="671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8237520" y="1747440"/>
            <a:ext cx="138240" cy="54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389800" y="1760400"/>
            <a:ext cx="61920" cy="1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8466120" y="1747800"/>
            <a:ext cx="290520" cy="1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506240" y="3516480"/>
            <a:ext cx="10440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1. Crisis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LIDERAZ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49960" y="2982960"/>
            <a:ext cx="10836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2. Crisis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AUTONOM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871800" y="2602080"/>
            <a:ext cx="10029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3.  Crisis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088600" y="1906560"/>
            <a:ext cx="109296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4.  Crisis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INFORMES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REUN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10440" y="1306440"/>
            <a:ext cx="9615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5. Crisis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CA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566480" y="1068480"/>
            <a:ext cx="1272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6. Crisis de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370880" y="4964040"/>
            <a:ext cx="117972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1. Desarro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mediante 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CREATIV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589120" y="4506840"/>
            <a:ext cx="139752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2. Desarro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mediante 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DIRECC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ESTRUCTUR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84040" y="3963960"/>
            <a:ext cx="11566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3. Desarro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mediante 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DELEGAC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106960" y="3430440"/>
            <a:ext cx="106704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4. Desarro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mediante 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COORDINA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C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26280" y="2973240"/>
            <a:ext cx="106704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5. Desarro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mediante 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IDENTIFICA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C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542000" y="2592360"/>
            <a:ext cx="120564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6. Desarro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mediante 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ORIENTAC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AL  CLI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304640" y="103320"/>
            <a:ext cx="65091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00"/>
                </a:solidFill>
                <a:latin typeface="Times New Roman"/>
              </a:rPr>
              <a:t>C</a:t>
            </a:r>
            <a:r>
              <a:rPr b="1" lang="es-ES_tradnl" sz="2400" spc="-1" strike="noStrike">
                <a:solidFill>
                  <a:srgbClr val="006600"/>
                </a:solidFill>
                <a:latin typeface="Times New Roman"/>
              </a:rPr>
              <a:t>RISIS Y SOLUCIONES DEL DESARRO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 rot="9180000">
            <a:off x="5433120" y="2660040"/>
            <a:ext cx="1449720" cy="281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2741400">
            <a:off x="5412960" y="2434680"/>
            <a:ext cx="719280" cy="725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920000">
            <a:off x="2406240" y="2678040"/>
            <a:ext cx="1449360" cy="2793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2741400">
            <a:off x="3534120" y="2718720"/>
            <a:ext cx="388800" cy="244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80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structura e influencias internas y exter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15880" y="2438280"/>
            <a:ext cx="1064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Direc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0400" y="3886200"/>
            <a:ext cx="885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Man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med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657600" y="2286000"/>
            <a:ext cx="1981080" cy="609480"/>
          </a:xfrm>
          <a:prstGeom prst="roundRect">
            <a:avLst>
              <a:gd name="adj" fmla="val 4166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2741400">
            <a:off x="6399000" y="4889160"/>
            <a:ext cx="718920" cy="725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9158400">
            <a:off x="5562720" y="2742840"/>
            <a:ext cx="1449360" cy="263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563440" y="3809880"/>
            <a:ext cx="1469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aff de Apoy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2741400">
            <a:off x="1918800" y="4919760"/>
            <a:ext cx="731880" cy="763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920000">
            <a:off x="2287440" y="2666520"/>
            <a:ext cx="1449360" cy="2743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14960" y="3962520"/>
            <a:ext cx="986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Analis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59040" y="5562720"/>
            <a:ext cx="2306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Operarios/Trabaja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676520" y="5334120"/>
            <a:ext cx="5790960" cy="761760"/>
          </a:xfrm>
          <a:prstGeom prst="roundRect">
            <a:avLst>
              <a:gd name="adj" fmla="val 4166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62520" y="2819520"/>
            <a:ext cx="137160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90920" y="5257800"/>
            <a:ext cx="38862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18960000">
            <a:off x="3886200" y="2819520"/>
            <a:ext cx="7632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3389400">
            <a:off x="5317560" y="2846880"/>
            <a:ext cx="74520" cy="114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86200" y="2895480"/>
            <a:ext cx="7632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0" y="0"/>
                </a:moveTo>
                <a:cubicBezTo>
                  <a:pt x="0" y="0"/>
                  <a:pt x="24" y="24"/>
                  <a:pt x="48" y="48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609480" y="1905120"/>
            <a:ext cx="7772400" cy="4343400"/>
            <a:chOff x="609480" y="1905120"/>
            <a:chExt cx="7772400" cy="4343400"/>
          </a:xfrm>
        </p:grpSpPr>
        <p:sp>
          <p:nvSpPr>
            <p:cNvPr id="71" name=""/>
            <p:cNvSpPr/>
            <p:nvPr/>
          </p:nvSpPr>
          <p:spPr>
            <a:xfrm>
              <a:off x="609480" y="1905120"/>
              <a:ext cx="7772400" cy="43434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9180000">
              <a:off x="5331960" y="2654280"/>
              <a:ext cx="1087560" cy="2198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rot="2741400">
              <a:off x="5307120" y="2489040"/>
              <a:ext cx="560520" cy="544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rot="1920000">
              <a:off x="3061800" y="2668320"/>
              <a:ext cx="1087560" cy="2178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rot="2741400">
              <a:off x="3902400" y="2702880"/>
              <a:ext cx="303120" cy="183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323960" y="2481120"/>
              <a:ext cx="8434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Directiv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380120" y="3610080"/>
              <a:ext cx="7110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Mand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medi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000680" y="2362320"/>
              <a:ext cx="1485720" cy="476280"/>
            </a:xfrm>
            <a:prstGeom prst="roundRect">
              <a:avLst>
                <a:gd name="adj" fmla="val 41662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2741400">
              <a:off x="6046920" y="4403520"/>
              <a:ext cx="560160" cy="544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rot="9158400">
              <a:off x="5428440" y="2719440"/>
              <a:ext cx="1087560" cy="2052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428080" y="3551400"/>
              <a:ext cx="1149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taff de Apoy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741400">
              <a:off x="2685960" y="4427280"/>
              <a:ext cx="569880" cy="573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920000">
              <a:off x="2972880" y="2658600"/>
              <a:ext cx="1087560" cy="2140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142080" y="3672000"/>
              <a:ext cx="7869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Analist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002840" y="4917960"/>
              <a:ext cx="17989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Profesores/Trabajador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514600" y="4740120"/>
              <a:ext cx="4343400" cy="594000"/>
            </a:xfrm>
            <a:prstGeom prst="roundRect">
              <a:avLst>
                <a:gd name="adj" fmla="val 41662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229280" y="2778120"/>
              <a:ext cx="1028520" cy="119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200400" y="4680000"/>
              <a:ext cx="2914560" cy="177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8960000">
              <a:off x="4172040" y="2777760"/>
              <a:ext cx="57240" cy="119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rot="3389400">
              <a:off x="5244120" y="2801160"/>
              <a:ext cx="59040" cy="85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172040" y="2838600"/>
              <a:ext cx="57240" cy="586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0" y="0"/>
                  </a:moveTo>
                  <a:cubicBezTo>
                    <a:pt x="0" y="0"/>
                    <a:pt x="24" y="24"/>
                    <a:pt x="48" y="48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3733920" y="1981080"/>
            <a:ext cx="190476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Propieta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5486400"/>
            <a:ext cx="4114800" cy="304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Sindicatos y agrupaciones de trabajad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371600" y="6019920"/>
            <a:ext cx="6400800" cy="3045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Actores Asoci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488920" y="5943600"/>
            <a:ext cx="6807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i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03080" y="6172200"/>
            <a:ext cx="932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Provee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403680" y="6172200"/>
            <a:ext cx="1035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ompeti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441880" y="5867280"/>
            <a:ext cx="13435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Socios estratég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755640" y="1197000"/>
            <a:ext cx="7772400" cy="5181480"/>
            <a:chOff x="755640" y="1197000"/>
            <a:chExt cx="7772400" cy="5181480"/>
          </a:xfrm>
        </p:grpSpPr>
        <p:sp>
          <p:nvSpPr>
            <p:cNvPr id="100" name=""/>
            <p:cNvSpPr/>
            <p:nvPr/>
          </p:nvSpPr>
          <p:spPr>
            <a:xfrm>
              <a:off x="755640" y="1501560"/>
              <a:ext cx="7772400" cy="4876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109040" y="1197000"/>
              <a:ext cx="12826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Públic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1369080" y="2286000"/>
            <a:ext cx="1389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Gobierno cent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1800" y="2362320"/>
            <a:ext cx="1377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Municipalida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35240" y="4038480"/>
            <a:ext cx="120636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Organism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iscalizad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770960" y="5029200"/>
            <a:ext cx="9428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Público 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35960" y="6400800"/>
            <a:ext cx="1503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Grupos de Pres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1532520" y="630360"/>
            <a:ext cx="56037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i="1" lang="es-ES_tradnl" sz="2200" spc="-1" strike="noStrike">
                <a:solidFill>
                  <a:srgbClr val="006600"/>
                </a:solidFill>
                <a:latin typeface="Arial"/>
              </a:rPr>
              <a:t>LAS CAMBIOS DE LÓGICAS DE L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998360" y="985680"/>
            <a:ext cx="5940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200" spc="-1" strike="noStrike">
                <a:solidFill>
                  <a:srgbClr val="006600"/>
                </a:solidFill>
                <a:latin typeface="Arial"/>
              </a:rPr>
              <a:t>NUEVOS PARADIGMAS ADMINISTRACIÓN</a:t>
            </a:r>
            <a:r>
              <a:rPr b="1" i="1" lang="es-ES_tradnl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491480" y="2030400"/>
            <a:ext cx="5801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CAMBIOS</a:t>
            </a:r>
            <a:r>
              <a:rPr b="1" i="1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_tradnl" sz="2200" spc="-1" strike="noStrike">
                <a:solidFill>
                  <a:srgbClr val="000000"/>
                </a:solidFill>
                <a:latin typeface="Arial"/>
              </a:rPr>
              <a:t>DE LOGICAS Y DE ENFOQ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91200" y="2741760"/>
            <a:ext cx="449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218240" y="2819520"/>
            <a:ext cx="1553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l po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927320" y="2773440"/>
            <a:ext cx="2164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 la autor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1200" y="3452760"/>
            <a:ext cx="449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257120" y="3500280"/>
            <a:ext cx="23515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 la efici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(resulta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011920" y="3484440"/>
            <a:ext cx="2368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 la efectiv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011560" y="3840120"/>
            <a:ext cx="3416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(comunidad investig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91200" y="4519440"/>
            <a:ext cx="449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229400" y="4552920"/>
            <a:ext cx="2961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 org.  protectora</a:t>
            </a:r>
            <a:r>
              <a:rPr b="1" lang="es-ES_tradnl" sz="2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011200" y="4552920"/>
            <a:ext cx="2674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 la org. reflex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91200" y="5230800"/>
            <a:ext cx="449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256040" y="5229360"/>
            <a:ext cx="3061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l líder comun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010840" y="5264280"/>
            <a:ext cx="29260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 la comunidad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íde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11360" y="1928880"/>
            <a:ext cx="7718400" cy="4257720"/>
          </a:xfrm>
          <a:prstGeom prst="rect">
            <a:avLst/>
          </a:prstGeom>
          <a:noFill/>
          <a:ln w="507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NÚCLEO DE OPER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iembros que realizan el trabajo básico relacionado a la producción de productos y servic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unciones principa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segurar inputs para la pro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ransformar los inputs en 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istribuir los 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ar apoyo directo a las funciones de input, transformación y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ÁPICE ESTRATÉG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ersonas encargadas de una responsabilidad general en la organiz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unción principal: asegurarse que la organización cumpla efectivamente con su misión y que satisfaga los intereses de las personas que tienen poder en el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Obligacio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upervisión direc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Gestión de condi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sarrollo de estrate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ÍNEA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adena de directivos provistos de autoridad form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Función: feedb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oles del director general pero en el contexto de gestión de su propia un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ECNOESTRUC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No pertenecen al flujo de trabajo de operaci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Función: afianzar la normalización en la organiz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ipos: analista de estudios de trabajo, de planificación y control y de pers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TAFF DE APOY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32416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- Unidades especializadas que proporcionan apoyo a la organización fuera del trabajo de operaci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1916280"/>
            <a:ext cx="9042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000000"/>
                </a:solidFill>
                <a:latin typeface="Arial"/>
              </a:rPr>
              <a:t>MODELOS DE ORGANIZACIÓN Y GESTIÓ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143000" y="768240"/>
            <a:ext cx="0" cy="4635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49480" y="5410080"/>
            <a:ext cx="6616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61600" y="625320"/>
            <a:ext cx="469440" cy="48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110040" y="5883120"/>
            <a:ext cx="18072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49760" y="5388120"/>
            <a:ext cx="62211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SCUELAS -  MOVIMIENTOS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49480" y="4952880"/>
            <a:ext cx="4442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600200" y="4565520"/>
            <a:ext cx="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06680" y="457200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981080" y="4184640"/>
            <a:ext cx="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987560" y="419112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3803400"/>
            <a:ext cx="0" cy="39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444760" y="380988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819520" y="3422520"/>
            <a:ext cx="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825640" y="342900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200400" y="3041640"/>
            <a:ext cx="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6880" y="3048120"/>
            <a:ext cx="44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16360" y="3860640"/>
            <a:ext cx="13989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PRESCRIP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057040" y="2666880"/>
            <a:ext cx="11613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6699"/>
                </a:solidFill>
                <a:latin typeface="Times New Roman"/>
              </a:rPr>
              <a:t>EXPLICA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6699"/>
                </a:solidFill>
                <a:latin typeface="Times New Roman"/>
              </a:rPr>
              <a:t>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3657600" y="2660400"/>
            <a:ext cx="0" cy="39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664080" y="2666880"/>
            <a:ext cx="44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114800" y="2279520"/>
            <a:ext cx="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1212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4648320" y="1898640"/>
            <a:ext cx="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54440" y="190512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47400" y="1219320"/>
            <a:ext cx="140976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PRESCRIP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VOS - EXP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105520" y="1517400"/>
            <a:ext cx="0" cy="39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11640" y="152388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638680" y="1060200"/>
            <a:ext cx="0" cy="46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>
            <a:hlinkClick r:id="rId1" action="ppaction://hlinksldjump"/>
          </p:cNvPr>
          <p:cNvSpPr/>
          <p:nvPr/>
        </p:nvSpPr>
        <p:spPr>
          <a:xfrm>
            <a:off x="1476720" y="4941720"/>
            <a:ext cx="1016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Times New Roman"/>
              </a:rPr>
              <a:t>1. Clás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>
            <a:hlinkClick r:id="rId2" action="ppaction://hlinksldjump"/>
          </p:cNvPr>
          <p:cNvSpPr/>
          <p:nvPr/>
        </p:nvSpPr>
        <p:spPr>
          <a:xfrm>
            <a:off x="1893240" y="4495680"/>
            <a:ext cx="1228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Times New Roman"/>
              </a:rPr>
              <a:t>2. Científ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>
            <a:hlinkClick r:id="rId3" action="ppaction://hlinksldjump"/>
          </p:cNvPr>
          <p:cNvSpPr/>
          <p:nvPr/>
        </p:nvSpPr>
        <p:spPr>
          <a:xfrm>
            <a:off x="2350080" y="4114800"/>
            <a:ext cx="1091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Times New Roman"/>
              </a:rPr>
              <a:t>3. RR.H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728800" y="3733920"/>
            <a:ext cx="1810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rId4" action="ppaction://hlinksldjump"/>
          </p:cNvPr>
          <p:cNvSpPr/>
          <p:nvPr/>
        </p:nvSpPr>
        <p:spPr>
          <a:xfrm>
            <a:off x="3061800" y="3357720"/>
            <a:ext cx="1691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6699"/>
                </a:solidFill>
                <a:latin typeface="Times New Roman"/>
              </a:rPr>
              <a:t>4. Estructuralis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rId5" action="ppaction://hlinksldjump"/>
          </p:cNvPr>
          <p:cNvSpPr/>
          <p:nvPr/>
        </p:nvSpPr>
        <p:spPr>
          <a:xfrm>
            <a:off x="3569400" y="2971800"/>
            <a:ext cx="2178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6699"/>
                </a:solidFill>
                <a:latin typeface="Times New Roman"/>
              </a:rPr>
              <a:t>5. Comportamentalis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>
            <a:hlinkClick r:id="rId6" action="ppaction://hlinksldjump"/>
          </p:cNvPr>
          <p:cNvSpPr/>
          <p:nvPr/>
        </p:nvSpPr>
        <p:spPr>
          <a:xfrm>
            <a:off x="4026240" y="2590920"/>
            <a:ext cx="1207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6699"/>
                </a:solidFill>
                <a:latin typeface="Times New Roman"/>
              </a:rPr>
              <a:t>6. Sistém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>
            <a:hlinkClick r:id="rId7" action="ppaction://hlinksldjump"/>
          </p:cNvPr>
          <p:cNvSpPr/>
          <p:nvPr/>
        </p:nvSpPr>
        <p:spPr>
          <a:xfrm>
            <a:off x="4574880" y="2209680"/>
            <a:ext cx="1591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6699"/>
                </a:solidFill>
                <a:latin typeface="Times New Roman"/>
              </a:rPr>
              <a:t>7. Contingen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>
            <a:hlinkClick r:id="rId8" action="ppaction://hlinksldjump"/>
          </p:cNvPr>
          <p:cNvSpPr/>
          <p:nvPr/>
        </p:nvSpPr>
        <p:spPr>
          <a:xfrm>
            <a:off x="5014800" y="1523880"/>
            <a:ext cx="2773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8. Desarrollo Organizac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>
            <a:hlinkClick r:id="rId9" action="ppaction://hlinksldjump"/>
          </p:cNvPr>
          <p:cNvSpPr/>
          <p:nvPr/>
        </p:nvSpPr>
        <p:spPr>
          <a:xfrm>
            <a:off x="5866920" y="6172200"/>
            <a:ext cx="30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&gt;&gt; EVOLUCIÓN DE LAS TEORÍ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2T17:35:39Z</dcterms:created>
  <dc:creator>Soledad Valdes</dc:creator>
  <dc:description/>
  <dc:language>en-US</dc:language>
  <cp:lastModifiedBy>Isabel Guerrero</cp:lastModifiedBy>
  <dcterms:modified xsi:type="dcterms:W3CDTF">2007-07-29T14:20:45Z</dcterms:modified>
  <cp:revision>7</cp:revision>
  <dc:subject/>
  <dc:title>Diapositiva 1</dc:title>
</cp:coreProperties>
</file>