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FC1-FB1E-4743-85A0-930ABA44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7CD-4158-4377-B455-326DB3F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ACC-B224-4D81-8C22-CDB24FB7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768-A0CD-4608-B058-6DA0DF0A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07B-4187-4977-97C4-C297AEB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B44-4AF6-43CE-9DE7-2861C4D5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C68-B33F-4DAA-AA80-B949BB6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677-C203-4CCC-9D0E-9668A81A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040-320F-4A74-A2C8-77B624CA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8D0-6533-4972-9990-3441417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25B-B94E-4E75-BFC6-420E517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4A4-B288-47D4-9BC5-DCA5D06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ED9-7DF2-46A1-9F49-E446CE0A3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66"/>
                </a:solidFill>
                <a:latin typeface="Arial"/>
              </a:rPr>
              <a:t>SOCIOLOGÍA DE LAS ORGANIZ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CUELA DE ENFE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Dimensiones de la organización</a:t>
            </a:r>
            <a:br>
              <a:rPr sz="4000"/>
            </a:b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(Porter, Lawler y Hackman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posición de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Individuos o grup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Grupo cooperativo (W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Dos o más personas (Barn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Una red de individuos (Wei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Sistema Social (Mat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Unidad Social (Etzio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 Orientación hacia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n vista a conseguir ciertos fines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Un fin hacia el cual todos laboran (Wei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Creada para alcanzar objetivos relativamente específicos (Sco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3. Diferenciació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Configuración de 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Funciones correl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Red de funciones: división del traba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Red de individuos que ejercen f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4. Coordinación 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Cabeza” garantiza la configuración de 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Patrón de comportamiento individual determinado por sistema de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eglas y órdenes que se ponen en prác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istema estable de relaciones que posee una cadena de mando que dirige y direcciona las ac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5. Continuidad a través d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n cierta continuidad a través d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Sobre una base continua (Sco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Sistema estable (Wei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Actividades perdurables y limitadas en el espacio y tiempo (Katz y Kah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Arial"/>
              </a:rPr>
              <a:t>¿Qué es una organiz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2060280"/>
            <a:ext cx="77058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Organización es un conjunto de personas que trabajan juntas para lograr metas personales y organizacion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n donde cada una tiene un rol asignado forma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Arial"/>
              </a:rPr>
              <a:t>¿Es la familia una organiz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difus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condiciones de pertene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finalidades contractuales establec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hay adecuación de medios a f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s irremplazables y únic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iene categorías de miemb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específic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ciones de pertene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ecuación de medios a f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reemplaz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ee categorías de miemb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68360" y="206064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Arial"/>
              </a:rPr>
              <a:t>Características de las Organiz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tenencia voluntaria pero condicionada mediante identificación, pertenencia, diferenciación, logros, y satisfacciones  y 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eños racionales orientados a objetivos definidos,  dotados de medios para su consecución y de sistemas de chequeo de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ordenados de medios para el logro de fines acordados y/o aceptados por person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delimitados (fronteras reconocibles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tados de un sistema de poder, distribuido y aceptado por sus integrantes, como medio para la producción, coordinación y control de algo ordenado en función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 de organización del trabajo que procura la eficiencia en el uso de recursos personales, información, conocimiento, financieros, tiempo y mater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tados de un sistema de relaciones entre personas que comparten valores y generan climas de confianza y 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Arial"/>
              </a:rPr>
              <a:t>Definiciones de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organizaciones son sistemas conscientemente coordinados de actividades o fuerzas de dos o más personas. La actividad se realiza mediante una coordinación consciente, deliberada y con propósitos. Las organizaciones requieren comunicaciones, voluntad de los miembros para contribuir y un propósito común entre ell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hester Barnard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938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 O M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BJETIV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colectividad con una frontera relativamente identificable, un orden normativo, niveles de autoridad, sistemas de comunicaciones y sistemas de coordinación.  Esta colectividad existe de manera continua en un ambiente y se involucra en actividades que se relacionan con un conjunto de metas.  Las actividades tienen resultados para los miembros de la organización, la organización misma y la socie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l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994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26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¿Qué es una organiz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36572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36572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te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1773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1773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pervi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717000" y="981000"/>
            <a:ext cx="1316160" cy="5690520"/>
            <a:chOff x="3717000" y="981000"/>
            <a:chExt cx="1316160" cy="5690520"/>
          </a:xfrm>
        </p:grpSpPr>
        <p:sp>
          <p:nvSpPr>
            <p:cNvPr id="59" name=""/>
            <p:cNvSpPr/>
            <p:nvPr/>
          </p:nvSpPr>
          <p:spPr>
            <a:xfrm>
              <a:off x="3717000" y="6334200"/>
              <a:ext cx="131616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COTIDI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4160" y="1361880"/>
              <a:ext cx="0" cy="48769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7840" y="981000"/>
              <a:ext cx="102348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FUTU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0920" y="2859120"/>
            <a:ext cx="8314920" cy="1575000"/>
            <a:chOff x="250920" y="2859120"/>
            <a:chExt cx="8314920" cy="1575000"/>
          </a:xfrm>
        </p:grpSpPr>
        <p:sp>
          <p:nvSpPr>
            <p:cNvPr id="63" name=""/>
            <p:cNvSpPr/>
            <p:nvPr/>
          </p:nvSpPr>
          <p:spPr>
            <a:xfrm rot="16200000">
              <a:off x="7737480" y="3605760"/>
              <a:ext cx="13190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PERSO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000" y="3602520"/>
              <a:ext cx="71784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-64800" y="3174840"/>
              <a:ext cx="1395360" cy="763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66"/>
                  </a:solidFill>
                  <a:latin typeface="Arial"/>
                </a:rPr>
                <a:t>PRODUC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66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4005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933720"/>
            <a:ext cx="2286000" cy="14479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uctura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41300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ategias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41300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isión de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ap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001760" y="620640"/>
            <a:ext cx="1543320" cy="5690520"/>
            <a:chOff x="4001760" y="620640"/>
            <a:chExt cx="1543320" cy="5690520"/>
          </a:xfrm>
        </p:grpSpPr>
        <p:sp>
          <p:nvSpPr>
            <p:cNvPr id="71" name=""/>
            <p:cNvSpPr/>
            <p:nvPr/>
          </p:nvSpPr>
          <p:spPr>
            <a:xfrm>
              <a:off x="4001760" y="5973840"/>
              <a:ext cx="154332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EST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1440" y="1001520"/>
              <a:ext cx="0" cy="48769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55480" y="620640"/>
              <a:ext cx="10022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11280" y="2427480"/>
            <a:ext cx="7958520" cy="1846440"/>
            <a:chOff x="611280" y="2427480"/>
            <a:chExt cx="7958520" cy="1846440"/>
          </a:xfrm>
        </p:grpSpPr>
        <p:sp>
          <p:nvSpPr>
            <p:cNvPr id="75" name=""/>
            <p:cNvSpPr/>
            <p:nvPr/>
          </p:nvSpPr>
          <p:spPr>
            <a:xfrm rot="16200000">
              <a:off x="7477920" y="3182040"/>
              <a:ext cx="18464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ADAPT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7680" y="3422880"/>
              <a:ext cx="68576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109440" y="3251520"/>
              <a:ext cx="13406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IDENTIDA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1:54:10Z</dcterms:created>
  <dc:creator>Soledad Valdes</dc:creator>
  <dc:description/>
  <dc:language>en-US</dc:language>
  <cp:lastModifiedBy>Soledad Valdes</cp:lastModifiedBy>
  <dcterms:modified xsi:type="dcterms:W3CDTF">2007-07-10T23:29:06Z</dcterms:modified>
  <cp:revision>8</cp:revision>
  <dc:subject/>
  <dc:title>Diapositiva 1</dc:title>
</cp:coreProperties>
</file>