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B23F-61DD-4374-8FE1-B17737C43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B6BF-CAAD-4C2E-BD98-9C32F2ED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DCA8-2B1F-4550-BF55-E73D3425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045A-E105-4F45-A1A6-5750E08D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1357-1284-4778-AD6F-7265FB49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A01C-6F26-44FA-8F49-01A315CD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05F5-5D5B-4735-B17A-F1764657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E493-1A28-4531-8AE6-EAF582E9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A74B-4833-46BF-8D85-543FC0E3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E8BE-40EA-4C70-BCA1-293E9054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1DBA-90B1-4487-9EE9-0324AA1C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0C1F-25EC-45CF-80A7-1CFB9CCE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D345-04C8-4BBE-BE4A-285E95FB3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66"/>
                </a:solidFill>
                <a:latin typeface="Arial"/>
              </a:rPr>
              <a:t>SOCIOLOGÍA DE LAS ORGANIZACI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SCUELA DE ENFERM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JAVIERA PIZAR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OLEDAD VAL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66"/>
                </a:solidFill>
                <a:latin typeface="Arial"/>
              </a:rPr>
              <a:t>Dimensiones de la organización</a:t>
            </a:r>
            <a:br>
              <a:rPr sz="4000"/>
            </a:br>
            <a:r>
              <a:rPr b="1" lang="es-ES_tradnl" sz="4000" spc="-1" strike="noStrike">
                <a:solidFill>
                  <a:srgbClr val="000066"/>
                </a:solidFill>
                <a:latin typeface="Arial"/>
              </a:rPr>
              <a:t>(Porter, Lawler y Hackman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omposición de la organ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- Individuos o grup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- Grupo cooperativo (Web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- Dos o más personas (Barna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- Una red de individuos (Wei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- Sistema Social (Mate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- Unidad Social (Etzio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2. Orientación hacia 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En vista a conseguir ciertos fines y obje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- Un fin hacia el cual todos laboran (Weis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- Creada para alcanzar objetivos relativamente específicos (Scot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3. Diferenciación de 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04560" y="198108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Configuración de ro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Funciones correlativ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Red de funciones: división del trabaj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Red de individuos que ejercen fun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4. Coordinación R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Cabeza” garantiza la configuración de ro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Patrón de comportamiento individual determinado por sistema de rel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Reglas y órdenes que se ponen en prác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</a:rPr>
              <a:t>Sistema estable de relaciones que posee una cadena de mando que dirige y direcciona las ac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5. Continuidad a través del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Con cierta continuidad a través del tiem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- Sobre una base continua (Scot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- Sistema estable (Weis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- Actividades perdurables y limitadas en el espacio y tiempo (Katz y Kah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Arial"/>
              </a:rPr>
              <a:t>¿Qué es una organiz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6560" y="2060280"/>
            <a:ext cx="7705800" cy="35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Una Organización es un conjunto de personas que trabajan juntas para lograr metas personales y organizacional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en donde cada una tiene un rol asignado formal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66"/>
                </a:solidFill>
                <a:latin typeface="Arial"/>
              </a:rPr>
              <a:t>¿Es la familia una organizació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MIL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les difus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 condiciones de pertenenc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 finalidades contractuales establecid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hay adecuación de medios a fin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as irremplazables y únic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tiene categorías de miembr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GANIZ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les específic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diciones de pertenenc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ecuación de medios a fin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les reemplazabl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ee categorías de miembr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468360" y="206064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66"/>
                </a:solidFill>
                <a:latin typeface="Arial"/>
              </a:rPr>
              <a:t>Características de las Organiz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ertenencia voluntaria pero condicionada mediante identificación, pertenencia, diferenciación, logros, y satisfacciones  y san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eños racionales orientados a objetivos definidos,  dotados de medios para su consecución y de sistemas de chequeo de resul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stemas ordenados de medios para el logro de fines acordados y/o aceptados por person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stemas delimitados (fronteras reconocibles)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otados de un sistema de poder, distribuido y aceptado por sus integrantes, como medio para la producción, coordinación y control de algo ordenado en función de obje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stema de organización del trabajo que procura la eficiencia en el uso de recursos personales, información, conocimiento, financieros, tiempo y materia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otados de un sistema de relaciones entre personas que comparten valores y generan climas de confianza y un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Arial"/>
              </a:rPr>
              <a:t>Definiciones de Organ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s organizaciones son sistemas conscientemente coordinados de actividades o fuerzas de dos o más personas. La actividad se realiza mediante una coordinación consciente, deliberada y con propósitos. Las organizaciones requieren comunicaciones, voluntad de los miembros para contribuir y un propósito común entre ell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hester Barnard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938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S O MAS PER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TERA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BJETIVOS COMU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a colectividad con una frontera relativamente identificable, un orden normativo, niveles de autoridad, sistemas de comunicaciones y sistemas de coordinación.  Esta colectividad existe de manera continua en un ambiente y se involucra en actividades que se relacionan con un conjunto de metas.  Las actividades tienen resultados para los miembros de la organización, la organización misma y la sociedad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Hall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1994)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16000" y="2602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Arial"/>
              </a:rPr>
              <a:t>¿Qué es una organizaci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47640" y="4365720"/>
            <a:ext cx="2286000" cy="144756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rocedi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76720" y="4365720"/>
            <a:ext cx="2286000" cy="144756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rten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el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mun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enti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76720" y="1773360"/>
            <a:ext cx="2286000" cy="144756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ntin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roy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arr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76360" y="1773360"/>
            <a:ext cx="2286000" cy="144756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uperviv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717000" y="981000"/>
            <a:ext cx="1316160" cy="5690520"/>
            <a:chOff x="3717000" y="981000"/>
            <a:chExt cx="1316160" cy="5690520"/>
          </a:xfrm>
        </p:grpSpPr>
        <p:sp>
          <p:nvSpPr>
            <p:cNvPr id="59" name=""/>
            <p:cNvSpPr/>
            <p:nvPr/>
          </p:nvSpPr>
          <p:spPr>
            <a:xfrm>
              <a:off x="3717000" y="6334200"/>
              <a:ext cx="1316160" cy="33732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66"/>
                  </a:solidFill>
                  <a:latin typeface="Arial"/>
                </a:rPr>
                <a:t>COTIDIA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94160" y="1361880"/>
              <a:ext cx="0" cy="487692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7840" y="981000"/>
              <a:ext cx="1023480" cy="33732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66"/>
                  </a:solidFill>
                  <a:latin typeface="Arial"/>
                </a:rPr>
                <a:t>FUTU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50920" y="2859120"/>
            <a:ext cx="8314920" cy="1575000"/>
            <a:chOff x="250920" y="2859120"/>
            <a:chExt cx="8314920" cy="1575000"/>
          </a:xfrm>
        </p:grpSpPr>
        <p:sp>
          <p:nvSpPr>
            <p:cNvPr id="63" name=""/>
            <p:cNvSpPr/>
            <p:nvPr/>
          </p:nvSpPr>
          <p:spPr>
            <a:xfrm rot="16200000">
              <a:off x="7737480" y="3605760"/>
              <a:ext cx="1319040" cy="33732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66"/>
                  </a:solidFill>
                  <a:latin typeface="Arial"/>
                </a:rPr>
                <a:t>PERSO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19000" y="3602520"/>
              <a:ext cx="717840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6200000">
              <a:off x="-64800" y="3174840"/>
              <a:ext cx="1395360" cy="76356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66"/>
                  </a:solidFill>
                  <a:latin typeface="Arial"/>
                </a:rPr>
                <a:t>PROCES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66"/>
                  </a:solidFill>
                  <a:latin typeface="Arial"/>
                </a:rPr>
                <a:t>PRODUCC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66"/>
                  </a:solidFill>
                  <a:latin typeface="Arial"/>
                </a:rPr>
                <a:t>GES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763640" y="4005360"/>
            <a:ext cx="2286000" cy="144756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r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rganiz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48360" y="3933720"/>
            <a:ext cx="2286000" cy="14479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tructura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19640" y="1413000"/>
            <a:ext cx="2286000" cy="144756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trategias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lan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1413000"/>
            <a:ext cx="2286000" cy="144756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isión de fut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dapt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001760" y="620640"/>
            <a:ext cx="1543320" cy="5690520"/>
            <a:chOff x="4001760" y="620640"/>
            <a:chExt cx="1543320" cy="5690520"/>
          </a:xfrm>
        </p:grpSpPr>
        <p:sp>
          <p:nvSpPr>
            <p:cNvPr id="71" name=""/>
            <p:cNvSpPr/>
            <p:nvPr/>
          </p:nvSpPr>
          <p:spPr>
            <a:xfrm>
              <a:off x="4001760" y="5973840"/>
              <a:ext cx="1543320" cy="33732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66"/>
                  </a:solidFill>
                  <a:latin typeface="Arial"/>
                </a:rPr>
                <a:t>ESTABIL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81440" y="1001520"/>
              <a:ext cx="0" cy="487692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155480" y="620640"/>
              <a:ext cx="1002240" cy="33732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66"/>
                  </a:solidFill>
                  <a:latin typeface="Arial"/>
                </a:rPr>
                <a:t>CAMB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11280" y="2427480"/>
            <a:ext cx="7958520" cy="1846440"/>
            <a:chOff x="611280" y="2427480"/>
            <a:chExt cx="7958520" cy="1846440"/>
          </a:xfrm>
        </p:grpSpPr>
        <p:sp>
          <p:nvSpPr>
            <p:cNvPr id="75" name=""/>
            <p:cNvSpPr/>
            <p:nvPr/>
          </p:nvSpPr>
          <p:spPr>
            <a:xfrm rot="16200000">
              <a:off x="7477920" y="3182040"/>
              <a:ext cx="1846440" cy="33732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66"/>
                  </a:solidFill>
                  <a:latin typeface="Arial"/>
                </a:rPr>
                <a:t>ADAPTABIL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47680" y="3422880"/>
              <a:ext cx="6857640" cy="0"/>
            </a:xfrm>
            <a:prstGeom prst="line">
              <a:avLst/>
            </a:prstGeom>
            <a:ln w="50760">
              <a:solidFill>
                <a:srgbClr val="cc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109440" y="3251520"/>
              <a:ext cx="1340640" cy="33732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66"/>
                  </a:solidFill>
                  <a:latin typeface="Arial"/>
                </a:rPr>
                <a:t>IDENTIDA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21:54:10Z</dcterms:created>
  <dc:creator>Soledad Valdes</dc:creator>
  <dc:description/>
  <dc:language>en-US</dc:language>
  <cp:lastModifiedBy>Soledad Valdes</cp:lastModifiedBy>
  <dcterms:modified xsi:type="dcterms:W3CDTF">2007-07-10T23:29:06Z</dcterms:modified>
  <cp:revision>8</cp:revision>
  <dc:subject/>
  <dc:title>Diapositiva 1</dc:title>
</cp:coreProperties>
</file>