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FD11-D7F9-46BD-8D8D-57F01EF6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1CA-12ED-47CA-9B23-88673F6D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3664-F0B7-4213-B03C-6379414A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EFB-AE65-45A4-822C-579CFE43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45E-F289-4331-9DE3-CD11B4EC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340-51B0-4A23-8C0E-32A5117A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7BF-E15B-4703-9EE8-66EF3D0E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C8D-026D-4A34-83DD-CA92D5CA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3FE0-50C3-4FF5-A2E1-3C80047F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911-BB31-467E-A474-63487C31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3D3-8713-4EB8-B32C-989498C9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5BB-B513-446B-9907-88043AD2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4EA8-C150-4DA7-AA4F-588C9B89C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as méd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137160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 enfermedad como fenómeno social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Carácter universal de la enfermedad (enferm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Todos los grupos humanos han desarrollado sistemas para enfrentar la enferm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Cada marco cultural crea teorías para explicar, diagnósticar (justificar) la enferm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as méd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8380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LUD-ENFER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usencia de enfermedad” (tradic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 estado de completo bienestar físico, psicológico y social” (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 estado en que un individuo goza de un suficiente grado de bienestar físico, psicológico y social para que, sin apoyo medicamentoso,  pueda desarrollar productivamente sus actividades habituales, propias de su edad y rol, con agrado, sin sufrimiento, angustia, ni conflictos con los demás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stado en que un individuo, sin desearlo, está incapacitado física o sicológicamente para realizar sus labores habituales o las lleva a cabo con sufrimiento físico o psicológico o en serio conflicto con los demás; o bien que, para poder realizarlas requiere apoyo medicamentoso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a entidad clínica estructurada , caracterizada por una combinación de síntomas y signos que la diferencian de otr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as méd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S MÉD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dicina----------------------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formas de respuesta deliberada frente a    la enfermed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s Médicos---------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junto organizado de recursos humanos,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ecnologías y servicios específicamente destinados al desarrollo y la práctica de una medic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“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structuras pluralistas..conjunto de prácticas medicas mantienen una relación competitiva o complementaria en el manejo de la enfermedad” (Leslie, 198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as méd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Tecnologías------Practicantes--------Sustrato ide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Sistema dominante (hegemónico)----sistemas    subord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dicina Moderna----------Medicina Tra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Oficial, Cosmopolita)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Folk, Hibrid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odelo Biomédico         (naturalista;espiritualista;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ágico)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Intercambio e 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Posición social------------------percepción e interpretación de 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exp. Individual-cultural) 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enfermedades y 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s de 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as méd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odelos explicativos:  Profesional----Folk----Popula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dividuales y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odelo  Explicativo  popular: Estratificado según clase, etnía,mig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to de procesos sociales específicos. Es dinámico y responde a estrategias de supervivencia de cole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cesos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pularización del modelo 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propiación de capital cultural de salud (pasivización del suje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dicalización del modelo popular (hibridaje, automedic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dicalización de los “cultos curativos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as méd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errogantes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¿Integración o Democrat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¿distribución equitativa de los recursos de sal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puesta de Sistemas Médicos Pluralistas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existencia de  estrategias adaptativas culturales valiosas para la supervivencia y el manejo de las enfermedades y dol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.-Participación  de todos los sectores en sistemas locales de salud. Incorporar destrezas específicas en sistema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corporar nuevas tecnologías  en tratamiento de practicantes folk.Investigación y desarrollo de tecnologías tr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.-Desarrollo de nuevos modelos de atención y práctica clí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reconocimiento  del modelo Folk de enfermedades y dolencias de base 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.-Comprensión del efecto de procesos históricos, sociales y culturales en la aparición y distribución de la enfermedad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as méd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dicina Moderna-------------Medicina Trad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Biomédica, Causal)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Holística, énf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l. terapeuta paciente)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.-Raport entre terapeuta pa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.-Efectividad terapéutica y profiláctica de los símbo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.-Efecto placebo (cura simból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as méd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90360" y="137160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as méd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s de cuidado de la salud como instituciones soci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.-Organizaciones diversas que se formulan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ta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relacionada con el bienestar de las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.-Identifican  conjunto (s) de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stina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.-Abordan, inician o fomentan un conjunto de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area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(“cerrados” o “abiertos” a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4.-Poseen recursos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imario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vinculados con la salud y el bienestar)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y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cundario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(que permiten la reproducción  funcional de la organ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5.-Tienen un cierto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stil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o manera de operar caracter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odo sistema debe ser analizado en sus polo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ern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y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as méd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 sujetos de la enfermedad (doliente, sociedad, especialistas) que participan de manera distinta, de acuerdo a si la enfermedad se consid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guda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(aparición inesperada, interrumpe la vida y amenazante para la cotidianeidad, duración)  Implica subordinación a especia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tidianas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Relación indirecta o nula con expe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tastrofica y súbita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(Amenaza la vida, urgencia por sobrevivir) Subordinación a exp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ónica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(global e irreversible) Coparticipacíón con expe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 comportamiento saludable (cuidado de la salud) tiene más que ver con comportamientos culturales integrales que con preceptos de especial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as méd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LUD Y ENFERMEDAD DESDE UNA MIRADA ANTROP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strucción Social (etiología, diagnosis, tratamien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tic-Emic: Enfermedad y Dol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eorías de la enfermedad: (Fos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ersonales (acción de  agentes orientados a la perso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aturales (impersonales): Med. Occidental; med. popular (ai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mocionales: creencias (susto) , psicoaná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as méd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360" y="137160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olencia y afección:----- necesidad de superar el dualismo </a:t>
            </a:r>
            <a:r>
              <a:rPr b="1" i="1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nte-cuer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laciones </a:t>
            </a:r>
            <a:r>
              <a:rPr b="0" i="1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ma-Psique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 necesidad de una mirada holística de la enfermedad que asuma la realidad dual del cuerpo (manifestación externa, “ajena” e interna,”propia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rente a la actual preeminencia de la queja corporal objetivada en la mirada sanitaria actual. Integrar: lo conductual y lo subjetivo (experiencial) a lo netamente fisiológ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  niveles interrelacionados: (cada uno con un poder de explicación y ac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as méd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9903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fermedad: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onstrucción teórica que distingue, definición histórica y culturalmente determinada. Establece una distinción respecto al simple trastorno.  En la que se distinguen 3 nive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periencia subjetiva (sentirse enferm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valuación   social (ser visto como enferm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valuación médica técnica (oficialmente ser nombrado como enfermo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námica del enfermar implica un proceso de negociación entre esos 3 niveles de relaciones,  donde influyen los componentes ideológicos y valóricos del sistema cultural. ( no todos llegan a “ser enfermos”, ni lo son de la misma man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as méd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1760" y="9144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r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mover la causa productora de enfermedad por la cual ésta desapare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dicar (bioméd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iviar, alejar una dolencia. Actuar en la subjetividad de la dol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ompañar (sicosoc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mo la enfermedad implica tres niveles (soma, papel societal, experiencia intima) Muchas veces curación no equivale a sanidad, pues actúa en un nivel corporal abstracto (técnico instrumental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as méd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360" y="137160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“Cuidado del Otro”, 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erspectiva integrativ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 de creación de sentido en el acto médico: deseo del paciente de conocer sobre su enfermedad y de sí mismo---- de acuerdo al tipo de dolencia (aguda, crónica, cotidiana  o amenazadora de vida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utocuidado. Medicina Dia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as méd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Normalidad-Anormalidad :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strucción cultural. Relativa.  Cambiante (paso de un estado a ot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finición de acuerdo a criter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stadísticos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normal como lo habitual) de acuerdo a un valor promedio, estableciendo límites de disper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deal o valórico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(lo que la sociedad valora como positivo y dese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daptivo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lo func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medicina existiría un criterio </a:t>
            </a: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línico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basado en el saber del médico donde éste articula criterios ideales(sobre estructura y funcionamiento del cuerpo): Por un lado, se verifica la integridad orgánica del sujeto; por otro,  se aplican instrumentos conceptuales  que ordenan los síntomas en “entidades clínicas” o “enfermedades”. Sin embargo, no hay un criterio universal de normalidad aplicables a todos los individuos  de todas las sociedades, atempo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05:26:22Z</dcterms:created>
  <dc:creator>Mandi Mandi</dc:creator>
  <dc:description/>
  <dc:language>en-US</dc:language>
  <cp:lastModifiedBy>Mandi Mandi</cp:lastModifiedBy>
  <dcterms:modified xsi:type="dcterms:W3CDTF">2006-05-18T05:14:37Z</dcterms:modified>
  <cp:revision>9</cp:revision>
  <dc:subject/>
  <dc:title>Sistemas médicos</dc:title>
</cp:coreProperties>
</file>