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8216-1986-4020-B1AF-823183C2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AAEB-27DE-4F11-B2B9-67EC29C6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A41C-B1E5-4C6A-9EFA-7068B58A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3B5B-7982-40FD-B111-A5B2826A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CD9C-7F70-4FD4-B794-5B23DB44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C27E-8C12-4516-9E44-E54452AF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68DC-9D1C-43D3-A607-AF7F8221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5274-0010-4604-ABF4-DDBE340F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C660-6FE9-4EAD-AA16-9EAF96B3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0F4B-16DE-4C9E-8E39-38BEC1D5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C65D-A093-4D72-8A66-13F7921A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8CD1-E70B-46F6-B2BE-AC298A1D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2A56-F765-4D12-84B1-9385BF8D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9037-E4C5-48DD-84B6-ECFA2F93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4662-69E2-4765-9D71-2CE38A37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E9CD-693A-48D4-A290-692DCC17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4579-900C-4C6C-BFFC-C652E742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189D-8EDB-49FF-A779-202E19BA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6B5F-F68F-4F24-80A1-37DF9A85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46F3-0212-4684-A30F-7C12F1AB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838E-C900-4FBC-BF21-5560967F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6590-6898-4219-9F6F-228101AA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AD4-48EB-4703-B2A4-293C2814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558F-8063-4575-A96F-0822562A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21FF-F7CB-44BE-B406-C3F7CDFCB208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9BE1-D712-4867-AD5C-A084AC727DED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617040"/>
            <a:ext cx="7756560" cy="24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i="1" lang="es-ES" sz="4400" spc="-1" strike="noStrike">
                <a:solidFill>
                  <a:srgbClr val="333399"/>
                </a:solidFill>
                <a:latin typeface="Tahoma"/>
              </a:rPr>
              <a:t>Productos Culinar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3284280"/>
            <a:ext cx="8208720" cy="28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Tahoma"/>
              </a:rPr>
              <a:t>Prof. Delfina López R – Mª Eugenia Romo 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Tahoma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Arial"/>
              </a:rPr>
              <a:t>ENTRADAS FRÍA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i="1" lang="es-CL" sz="2400" spc="-1" strike="noStrike">
                <a:solidFill>
                  <a:srgbClr val="333399"/>
                </a:solidFill>
                <a:latin typeface="Arial"/>
              </a:rPr>
              <a:t>Especi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333399"/>
                </a:solidFill>
                <a:latin typeface="Arial"/>
              </a:rPr>
              <a:t>Se diferencian de las clásicas en que,  los alimentos utilizados tienen mayor valor, desde un punto de vista social, económico  y cultural. (hígado de ganso, ostras, langosta, centolla, caviar) o bien corresponden a una preparación (Palta reina, huevos rellen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Arial"/>
              </a:rPr>
              <a:t>ENTRADAS CALIENT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07696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Vol au 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Pequeño pastel de masa de hoja que se puede rellenar con diferentes alimentos</a:t>
            </a:r>
            <a:r>
              <a:rPr b="0" lang="es-E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Petites bouché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Vol au vent de pequeño tamañ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Risoll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Empanadas de masa de hoja con diversos relle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ENTRADAS CALIENTE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421000"/>
            <a:ext cx="777240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Piz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Tartaleta sal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Empanad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Masa simple rellena con diferentes alimen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Omelet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Tortilla de huevos, sola o relle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Arial"/>
              </a:rPr>
              <a:t>LAS ENSALADA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285640"/>
            <a:ext cx="720576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Preparación fría, que indistintamente se puede servir como primer  servicio o bien como acompañamiento, plato principal o postre Están constituidas principalmente por vegetales crudos, mezclados con algún aderezo (dressing)  y hierbas aromátic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Tienen como fin, mejorar  la presentación y el valor nutritivo del men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Arial"/>
              </a:rPr>
              <a:t>CARACTERÍSTICAS</a:t>
            </a:r>
            <a:r>
              <a:rPr b="1" lang="es-E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361960"/>
            <a:ext cx="7656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Los ingredientes deben ser de óptima calidad y deben combinar adecuadamente, entre s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La combinación de colores debe ser armónica y contrastante. Su presentación debe ser sencilla</a:t>
            </a:r>
            <a:r>
              <a:rPr b="0" i="1" lang="es-CL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Deben poseer humedad y frescura óptima. Se deben mantener y servir a temperaturas no superiores a los  5º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Arial"/>
              </a:rPr>
              <a:t>CLASIFICACIÓ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2017440"/>
            <a:ext cx="8153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SIMPLES 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Se preparan con un solo tipo de verdu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MIXTAS 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Son una combinación de dos o más vegetales. Se sirven sin mezc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COMPUESTAS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Son la combinación de varios ingredientes que se complementa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entre si ( alimentos proteicos, cereales y verduras), ligadas con u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salsa.  Pueden constituirse en un plato princip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333399"/>
                </a:solidFill>
                <a:latin typeface="Arial"/>
              </a:rPr>
              <a:t>SALSAS FRÍAS O DRESSING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Son preparaciones que acompañan a las ensaladas, con el objeto  de realzar su sabor y pres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Su selección debe guardar estrecha relación con los ingredientes, el color y la presentación de la ensal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Se deben usar en la cantidad suficiente para cubrirlas, pero no en exce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Generalmente se sirven aparte o bien mezcladas con la ensalada, al momento de servirlas, salvo excep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517356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CLASIFICACIÓ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Mayone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Aderezo Francés</a:t>
            </a: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  (French Dress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Arial"/>
              </a:rPr>
              <a:t>MAYONES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017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Emulsión de aceite y yema de huevo con adición de sal, mostaza y jugo de limón o vinag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Se utiliza como base para preparar otras salsas, como ligante, en algunas ensaladas y como complemento de algunos platos frí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SALSAS DERIVADAS DE LA MAYONES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240" y="1828440"/>
            <a:ext cx="75042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Salsa Muselina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Mayonesa 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+ Crema semibat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Salsa Tártara 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Mayonesa 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+ Pepinillos,cebolla 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perla y perej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Salsa Golf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Mayonesa + 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Ketchup, crema 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semibatida y whisky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Salsa Americana                    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Mayonesa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 + Ketchup,ají, jugo 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 de limón, coñac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Salsa Alioli 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333399"/>
                </a:solidFill>
                <a:latin typeface="Arial"/>
              </a:rPr>
              <a:t>Mayonesa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 + Ajo prens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333399"/>
                </a:solidFill>
                <a:latin typeface="Tahoma"/>
              </a:rPr>
              <a:t>Ayudas de Cocin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879480" y="2008080"/>
            <a:ext cx="678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2997360"/>
            <a:ext cx="794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Arial"/>
              </a:rPr>
              <a:t>Corresponden a preparaciones específicas, que contribuyen  a realzar el sabor y aroma de algunas preparaciones o bien a modificar la consistencia (espesa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cc"/>
                </a:solidFill>
                <a:latin typeface="Arial"/>
              </a:rPr>
              <a:t>Fondos, agentes aromáticos, agentes espesa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FRENCH DRESSING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8153280" cy="36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Emulsión de aceite y vinagre o jugo de limón, condimentada 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sal y pimi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Se pueden utilizar en cualquier tipo de ensalada y Como base, pa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preparar otras sal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SALSAS DERIVADAS DEL FRENCH  DRESSING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0773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Chiffonade dressing</a:t>
            </a: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F D + 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Perejil, huevo duro,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páprika,aceitunas y pepinillo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Cream dressing</a:t>
            </a: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F D + crema 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de leche o crema 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agria .</a:t>
            </a:r>
            <a:r>
              <a:rPr b="0" i="1" lang="es-ES" sz="32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Cheese dressing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F D +  Mostaza, salsa inglesa y 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queso roquefort rallad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99"/>
                </a:solidFill>
                <a:latin typeface="Arial"/>
              </a:rPr>
              <a:t>Russian Dressing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F D + Mayonesa, huevo duro, salsa 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de ají y pimentón ver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333399"/>
                </a:solidFill>
                <a:latin typeface="Tahoma"/>
              </a:rPr>
              <a:t>Fon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879480" y="2295360"/>
            <a:ext cx="75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3480" y="2008080"/>
            <a:ext cx="8085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Arial"/>
              </a:rPr>
              <a:t>Corresponden al producto de la cocción lenta y prolongada principalmente de huesos de vacuno, ave o pescado. También se pueden preparar fondos a base de verdu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Arial"/>
              </a:rPr>
              <a:t>Deben ser  transparentes e incoloros y tener el sabor pronunciado del alimento que se hierve. Al enfriarse debe tener consistencia gelatino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Arial"/>
              </a:rPr>
              <a:t>Constituyen la base de todas las salsas y so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Arial"/>
              </a:rPr>
              <a:t>Se distinguen fondos blancos  y oscu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99"/>
                </a:solidFill>
                <a:latin typeface="Tahoma"/>
              </a:rPr>
              <a:t>Agentes Aromátic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9128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3333cc"/>
                </a:solidFill>
                <a:latin typeface="Tahoma"/>
              </a:rPr>
              <a:t>Preparaciones a base de verduras, hierbas y especias, cuyo objetivo es mejorar o realzar el sabor-aroma  de sopas, salsas, carnes o mas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3333cc"/>
                </a:solidFill>
                <a:latin typeface="Tahoma"/>
              </a:rPr>
              <a:t>Mirepoix  </a:t>
            </a:r>
            <a:r>
              <a:rPr b="0" i="1" lang="es-ES" sz="2000" spc="-1" strike="noStrike">
                <a:solidFill>
                  <a:srgbClr val="3333cc"/>
                </a:solidFill>
                <a:latin typeface="Tahoma"/>
              </a:rPr>
              <a:t>Mezcla de zanahoria, cebolla, apio, puerros y ajos, cortados en emincé o parmentier, que se hierve por un tiempo prolongado (1/2 a 1 hr.) en agua o un fon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3333cc"/>
                </a:solidFill>
                <a:latin typeface="Tahoma"/>
              </a:rPr>
              <a:t>Bouquet Garni  </a:t>
            </a:r>
            <a:r>
              <a:rPr b="0" i="1" lang="es-ES" sz="2000" spc="-1" strike="noStrike">
                <a:solidFill>
                  <a:srgbClr val="3333cc"/>
                </a:solidFill>
                <a:latin typeface="Tahoma"/>
              </a:rPr>
              <a:t>Ramo preparado con hojas de puerro, que en su interior lleva ajo, pimienta negra entera, perejil, romero, laure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3333cc"/>
                </a:solidFill>
                <a:latin typeface="Tahoma"/>
              </a:rPr>
              <a:t>Ambas preparaciones, se retiran una vez que han entregado su sab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99"/>
                </a:solidFill>
                <a:latin typeface="Tahoma"/>
              </a:rPr>
              <a:t>Agentes Espesan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13600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3333cc"/>
                </a:solidFill>
                <a:latin typeface="Tahoma"/>
              </a:rPr>
              <a:t>Corresponden a diferentes alimentos o mezclas de alimentos que permiten obtener una preparación de mayor viscosidad (salsas o crem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3333cc"/>
                </a:solidFill>
                <a:latin typeface="Tahoma"/>
              </a:rPr>
              <a:t>Roux  </a:t>
            </a:r>
            <a:r>
              <a:rPr b="0" i="1" lang="es-ES" sz="2000" spc="-1" strike="noStrike">
                <a:solidFill>
                  <a:srgbClr val="3333cc"/>
                </a:solidFill>
                <a:latin typeface="Tahoma"/>
              </a:rPr>
              <a:t>Mezcla de harina y materia grasa  ( 80 / 60 g x Lt de sals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3333cc"/>
                </a:solidFill>
                <a:latin typeface="Tahoma"/>
              </a:rPr>
              <a:t>Preparación: Fundir materia grasa, añadir de golpe harina, mezclar, dorar (blanco, dorado, oscur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3333cc"/>
                </a:solidFill>
                <a:latin typeface="Tahoma"/>
              </a:rPr>
              <a:t>Beurre mani  </a:t>
            </a:r>
            <a:r>
              <a:rPr b="0" i="1" lang="es-ES" sz="2000" spc="-1" strike="noStrike">
                <a:solidFill>
                  <a:srgbClr val="3333cc"/>
                </a:solidFill>
                <a:latin typeface="Tahoma"/>
              </a:rPr>
              <a:t>Pasta fría de mantequilla y harina (50% / 50%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3333cc"/>
                </a:solidFill>
                <a:latin typeface="Tahoma"/>
              </a:rPr>
              <a:t>Se utiliza para espesar pequeñas cantidades de alguna preparación a la que se desea dar un sabor mas refin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82600" y="1916280"/>
            <a:ext cx="77724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3333cc"/>
                </a:solidFill>
                <a:latin typeface="Tahoma"/>
              </a:rPr>
              <a:t>Liason  </a:t>
            </a:r>
            <a:r>
              <a:rPr b="0" i="1" lang="es-ES" sz="2000" spc="-1" strike="noStrike">
                <a:solidFill>
                  <a:srgbClr val="3333cc"/>
                </a:solidFill>
                <a:latin typeface="Tahoma"/>
              </a:rPr>
              <a:t>Mezcla de crema de leche (100 cc) y yema de huevo(1 u) para 1  litro. . Además de espesar, sirve para suavizar sabores intens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i="1" lang="es-ES" sz="2000" spc="-1" strike="noStrike">
                <a:solidFill>
                  <a:srgbClr val="3333cc"/>
                </a:solidFill>
                <a:latin typeface="Tahoma"/>
              </a:rPr>
              <a:t>Espesantes natur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3333cc"/>
                </a:solidFill>
                <a:latin typeface="Tahoma"/>
              </a:rPr>
              <a:t>Yema de huevo, mostaza (especialmente para fond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3333cc"/>
                </a:solidFill>
                <a:latin typeface="Tahoma"/>
              </a:rPr>
              <a:t>Huevo entero (flanes, masas de carn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3333cc"/>
                </a:solidFill>
                <a:latin typeface="Tahoma"/>
              </a:rPr>
              <a:t>Gelatinas ( salsas frías, cremas, mouse, pastas, productos de pastelerí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i="1" lang="es-ES" sz="2000" spc="-1" strike="noStrike">
                <a:solidFill>
                  <a:srgbClr val="3333cc"/>
                </a:solidFill>
                <a:latin typeface="Tahoma"/>
              </a:rPr>
              <a:t>Fécul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0920" y="2204640"/>
            <a:ext cx="7561080" cy="165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33399"/>
                </a:solidFill>
                <a:latin typeface="Arial"/>
              </a:rPr>
              <a:t>Entradas – Ensaladas -   Salsas frí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333399"/>
                </a:solidFill>
                <a:latin typeface="Arial"/>
              </a:rPr>
              <a:t>Preparación que corresponde al primer servicio de un menú de almuerzo o ce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333399"/>
                </a:solidFill>
                <a:latin typeface="Arial"/>
              </a:rPr>
              <a:t>Consiste en la combinación de varios alimentos decorados con armonía y presentados en vajilla espe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333399"/>
                </a:solidFill>
                <a:latin typeface="Arial"/>
              </a:rPr>
              <a:t>Se clasifican en frías (hors d’oeuvre froids) y calientes (hors d’oeuvre chaud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812960" y="838080"/>
            <a:ext cx="618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333399"/>
                </a:solidFill>
                <a:latin typeface="Arial"/>
              </a:rPr>
              <a:t>ENTRADAS  (hors d’oeuvre</a:t>
            </a:r>
            <a:r>
              <a:rPr b="1" i="1" lang="es-CL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333399"/>
                </a:solidFill>
                <a:latin typeface="Arial"/>
              </a:rPr>
              <a:t>ENTRADAS FRÍA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57040"/>
            <a:ext cx="7351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i="1" lang="es-CL" sz="2400" spc="-1" strike="noStrike">
                <a:solidFill>
                  <a:srgbClr val="333399"/>
                </a:solidFill>
                <a:latin typeface="Arial"/>
              </a:rPr>
              <a:t>Clás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333399"/>
                </a:solidFill>
                <a:latin typeface="Arial"/>
              </a:rPr>
              <a:t>Están constituidas principalmente por alimentos proteicos (cecinas, pescados, mariscos) o ensaladas, decorados con verduras, frutas u otros alimentos de colores vistosos y cortes exót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7:06:55Z</dcterms:created>
  <dc:creator>Facultad de Medicina</dc:creator>
  <dc:description/>
  <dc:language>en-US</dc:language>
  <cp:lastModifiedBy>Fac. de Medicina</cp:lastModifiedBy>
  <dcterms:modified xsi:type="dcterms:W3CDTF">2007-04-02T16:19:49Z</dcterms:modified>
  <cp:revision>23</cp:revision>
  <dc:subject/>
  <dc:title>ENTRADAS (hors d’oeuvre)</dc:title>
</cp:coreProperties>
</file>