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F7E-264D-45A9-B204-627C9F1E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542-D3B4-4A81-B84A-670AD805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6CE-E2B9-4FC2-A315-3C005074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6F3-2F21-4FCC-9EB7-DDAD3259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58E-9BCB-4951-BAAD-8CC79D82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231-8F6F-41FB-9718-C8AF7BFF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9C8-C1D7-46EA-8891-A94F43FF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CB4-0627-40D0-9340-C5D29C2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D97-77EA-4F88-8248-B4C7D97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7ED-8F7A-4380-A62A-837F5E60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35D-6477-4B23-B427-6D67384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ED6-A4CC-43E7-AE6B-9CA82F1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819F-F0B1-4060-A6B4-06040B397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6:09:02Z</dcterms:created>
  <dc:creator>Nina</dc:creator>
  <dc:description/>
  <dc:language>en-US</dc:language>
  <cp:lastModifiedBy>Nina</cp:lastModifiedBy>
  <dcterms:modified xsi:type="dcterms:W3CDTF">2007-03-29T16:11:39Z</dcterms:modified>
  <cp:revision>2</cp:revision>
  <dc:subject/>
  <dc:title>Presentación de PowerPoint</dc:title>
</cp:coreProperties>
</file>