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D61-F629-44F9-AC77-4D1D893E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5E2-10AD-4D13-A28E-F9175C4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7CA-832F-45D9-99CA-21BBC7AA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FFC-521A-4B21-B528-468C93AE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F3D-5FD7-4F03-99AD-C4FEC7B6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6E9-E024-43F2-A741-1428495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311-1718-481E-A30E-43A31C6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DF3-4FF4-499A-8764-C3FA1B1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A3E-8590-42BC-A425-0308A077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E23-A323-4298-8E5D-21490C0F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697-3A18-409D-89B1-A2B4C68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71C-E15E-4412-B5A6-991480D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896-6D95-4A1A-91BB-C81CE9E4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6:09:02Z</dcterms:created>
  <dc:creator>Nina</dc:creator>
  <dc:description/>
  <dc:language>en-US</dc:language>
  <cp:lastModifiedBy>Nina</cp:lastModifiedBy>
  <dcterms:modified xsi:type="dcterms:W3CDTF">2007-03-29T16:11:39Z</dcterms:modified>
  <cp:revision>2</cp:revision>
  <dc:subject/>
  <dc:title>Presentación de PowerPoint</dc:title>
</cp:coreProperties>
</file>