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1094-0C3C-4747-98D0-A0535296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CCC-42FB-410C-89B6-D7874A76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204-03D1-41B8-8634-E0D09D4D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E538-4CB8-4FF6-AB2E-7E7C6F4A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A54-8C12-4DCA-BA5B-BB88FD5A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BFD6-1E0D-4C71-A8A2-2C87DFDD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A17-5C47-48F0-98DA-4A016CB6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BF0C-14CB-4A6B-87FF-98A4E06C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5AE1-AF37-46D0-83D7-F0CF397D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5D3-F616-4FBA-80CB-569E9AB5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2F5-EC4F-4C60-9CA9-D642C2E9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896-421D-4943-9CC0-ECE6EC2E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0DDC-CF43-4821-AC51-96A3CD884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nario Clí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o Clí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namnesis Próx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ciente sexo masculino 35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ulta por cuadro que comienza 2 días antes de su ingreso caracterizado por dolor epigástrico de tipo còlico, irradiado a hipocondrio derecho y región dorsal, de intensidad progresiva, inicialmente 3/10 y luego 8 / 10, aparece con relación a ingesta de alimentos grasos, post prandial precoz. El cuadro cede luego de uso de antiespasmódicos (Viadi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) autoindicado. Concomitantemente presenta aumento de volumen abdominal dif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namnesis Próx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 día siguiente  presenta un cuadro similar, de intensidad 10/10, 1 hora postprandial (“ pan con palta” ), que no cede con Viadi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por lo que decide consultar y se decide su hospital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 interrogatorio dirigido no refiere coloración amarilla de piel o escleras, nauseas, vómitos o prurito. Orinas y deposiciones de coloración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912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namnesis Remo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4546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Antecedentes Mórbidos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Asmático en la niñez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Intervenciones quirúrgica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Tonsilectomiz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Antecedentes de transfusión: (-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Medicamentos: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24360" y="126828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namnesis Remo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Hábit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baco: 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cohol: esporádico. 4 vasos de cerveza al 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eta: balance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vidad física: 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ecuencia miccional: 4 día /0 n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acuación intestinal: 1 vez al d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eño: normal, 8 horas di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ntecedentes Familia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dre: sana, de 55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dre: sano, de 65 años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ermana: Ca mama operado a los 32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namnesis Remo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Antecedentes Socio-económ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do civil: ca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ijo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º personas que componen núcleo familiar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º personas que viven en la casa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sa – habitación: sólido, Urban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ugar de nacimiento: Santi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ugares donde ha vivido: Santi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colaridad : Estudios Universitarios compl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borales: Topógra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visión: Consal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en Fí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ado el día  22/02/08 a las 9:30 A.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xamen Fí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sición y decúbit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cúbito dorsal, activo, indifer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rch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scribe línea recta, paso firme, braceo coordi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tud equilib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cies y expres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no caracterís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o Nutritiv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so: 83 K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lla: 1,68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MC: 29,04 (sobrepe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stitución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domorf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xamen Fí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do de Concienci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igil, orientado témporo, espacial y personalmente, sin alteraciones de mem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el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or: 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mperatura: Ti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urgor: ma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asticidad: manten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iones: equímosis por punción en antebrazo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lantación: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nsidad: manten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oración: ne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ña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in alt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nfonodo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in adenopatías palp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xamen Fí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mperatur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36.7 ° C axilar, examinador pres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sión arterial 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25/80 mmHg humeral derecha , dec dor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ls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73/min, regular, igual, simétrico, tensión y amplitud normales. Pulsos periféricos pres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piración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18/min, no característ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amnesis Remo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tecedentes mórbidos de importa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áb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ineco-obstét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cio-económico-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tecedentes famili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erg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cu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XAMEN FÍSICO SEGMEN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BEZA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ormocraneo, tamaño, posición, movimientos norm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rente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pliegues simétric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ejas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norm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jos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árpados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norm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juntiva palpebral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normal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cleras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sin ictericia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obo ocular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movimientos mantenidos. Visión de detal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órnea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translúcid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upilas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isocóricas reactiv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ariz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simétr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abellón auricular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tamaño, forma e implantación normales. CAE perme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abios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color y forma normales; sin les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engua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papilada, hidratada y rosada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ientes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presenta incisivo lateral, canino, 1er y 2° premolares mandibulares izquier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ncías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rosadas, sin les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ucosa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rosadas, sin lesiones.</a:t>
            </a:r>
            <a:r>
              <a:rPr b="0" lang="es-MX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7999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XAMEN FÍSICO SEGMEN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CUELL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imétrico, móvil, sin adenopatías palpabl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Tiroides: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no palpabl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ulso carotideo: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ambos present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Yugulares: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no ingurgitad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in soplos carotíde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EXAMEN TÓRA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ULMONAR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Inspección: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campos pulmonares simétricos. Excursión respiratoria normal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lpación: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elasticidad conservada, 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vv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presentes, normal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ercusión: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sonoridad mantenid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Auscultación: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presente y simétrico, sin ruidos agregad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CARDIAC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Choque de la punta no palpabl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Ritmo regular en dos tiempos, sin sopl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549360"/>
            <a:ext cx="79995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XAMEN FÍSICO SEGMEN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spección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lano, simétr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icatriz de laparotomia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 fue operado el día martes 19/06/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ercusión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lpación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uperficial: depre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funda: sin masas palp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uscultación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uidos hidroaéreos pres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n soplos abd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ígado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no palp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zo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palp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iñón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palp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AMEN LOCOMOT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ombros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 aumentos de volumen, palpación indol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angos articulares norm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v. Activos normales, indolo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dos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 aumentos de volumen, palpación indol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angos articulares norm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v. Activos normales, indolo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uñecas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 aumentos de volumen, palpación indol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angos articulares norm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v. Activos normales, indolo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XAMEN FÍSICO SEGMEN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XAMEN FÍSICO SEGMEN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5832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os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 aumentos de volumen, ni deformaciones articulare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lpación indol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ngos Articulares norm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v. Activos normales, indolo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deras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pección normal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lpación indol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s articulares norm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v. Activos normales, indolo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dillas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 aumentos de volumen, palpación indol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s articulares norm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v. Activos normales, indolo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billos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 aumentos de volumen, palpación indol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s articulares norm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v. Activos normales, indolo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XAMEN FÍSICO SEGMEN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AMEN NEUROLÓGIC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AMEN 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ivel de Conciencia 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vigil, lú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tención: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moria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rto plazo: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o plazo: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pacidad de Abstracción y juici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nguaje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pontáneo, fluído, estructurado, comprende órd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XAMEN FÍSICO SEGMEN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ÁMEN DE NERVIOS CRANE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. Olfatorio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. Óptic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gudeza visual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. Oculomotor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ertura ocular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vimientos oculares manten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flejo Fotomotor pres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pilas isocór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. Troclear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. Abducen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. Trigémino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tor: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nsitivo: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XAMEN FÍSICO SEGMEN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. Facial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vimientos faciales conserva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ertura y cierre de ojos conser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. Vestíbulo-Cocle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ditivo: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stibular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stagmo (-)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értigo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. Glosofaríngeo y Vago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fagia (-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z Bitonal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. Accesorio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vimientos del cuello conserv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acción ECM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acción Trapecio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. Hipogloso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ngua sin desviaciones, movimientos   conserv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XAMEN FÍSICO SEGMEN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AMEN 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stura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rcha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ofismo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no Muscular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er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flejos Osteotendineo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serv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flejos Cutaneo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dominal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se observan movimientos involu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XAMEN FÍSICO SEGMEN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AMEN SENS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 sensibilidad tactil, dolorosa y tér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onoce posición de su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ÁMEN CEREBEL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stagmo 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artria 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ÁMEN MENING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igidez de nuca  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gno de Brudzinsky 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gno de Kerning 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cedentes mórbidos de importa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tuaciones que hayan motivado reposo prolongado, hospitalización, cirugía, et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ipertensión arterial desde 1999, en tratamiento y control re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ecistectomía laparoscópica hace un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cidente automovilístico con fractura de cadera derecha operada hace 4 m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Hipótesis Diagnóst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ólico biliar prolong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lecistitis ag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lelitiasi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ámenes laborat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cuento glóbulos blancos : 20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CR : 3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ina completa: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cotomografía abdominal : compatible con colecistitis aguda y coleliti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627280" y="256536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opat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546200" y="2637000"/>
          <a:ext cx="1616040" cy="455400"/>
        </p:xfrm>
        <a:graphic>
          <a:graphicData uri="http://schemas.openxmlformats.org/drawingml/2006/table">
            <a:tbl>
              <a:tblPr/>
              <a:tblGrid>
                <a:gridCol w="16160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"/>
                        </a:rPr>
                        <a:t>↑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"/>
                        </a:rPr>
                        <a:t>Secreción Biliar de coleste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66560" y="1773360"/>
          <a:ext cx="4105440" cy="27288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"/>
                        </a:rPr>
                        <a:t>↑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ógenos / Obesidad / Dieta hipercalórica / Fárma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706920" y="4005360"/>
          <a:ext cx="1512720" cy="27288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stales líquid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443640" y="4365720"/>
          <a:ext cx="1301760" cy="272880"/>
        </p:xfrm>
        <a:graphic>
          <a:graphicData uri="http://schemas.openxmlformats.org/drawingml/2006/table">
            <a:tbl>
              <a:tblPr/>
              <a:tblGrid>
                <a:gridCol w="13017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b7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506920" y="1773360"/>
          <a:ext cx="1081080" cy="45540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"/>
                        </a:rPr>
                        <a:t>↑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"/>
                        </a:rPr>
                        <a:t>Perdida intestin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7236000" y="1773360"/>
          <a:ext cx="1081080" cy="45540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"/>
                        </a:rPr>
                        <a:t>↓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"/>
                        </a:rPr>
                        <a:t>Síntesis Hepá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227640" y="2637000"/>
          <a:ext cx="1233360" cy="272880"/>
        </p:xfrm>
        <a:graphic>
          <a:graphicData uri="http://schemas.openxmlformats.org/drawingml/2006/table">
            <a:tbl>
              <a:tblPr/>
              <a:tblGrid>
                <a:gridCol w="12333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"/>
                        </a:rPr>
                        <a:t>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"/>
                        </a:rPr>
                        <a:t>sales bilia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266920" y="3500280"/>
          <a:ext cx="4105080" cy="272880"/>
        </p:xfrm>
        <a:graphic>
          <a:graphicData uri="http://schemas.openxmlformats.org/drawingml/2006/table">
            <a:tbl>
              <a:tblPr/>
              <a:tblGrid>
                <a:gridCol w="4105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bresaturación Biliar de Colesterol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b7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706920" y="4724280"/>
          <a:ext cx="1512720" cy="27324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stales sól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635280" y="5300640"/>
          <a:ext cx="1657080" cy="273240"/>
        </p:xfrm>
        <a:graphic>
          <a:graphicData uri="http://schemas.openxmlformats.org/drawingml/2006/table">
            <a:tbl>
              <a:tblPr/>
              <a:tblGrid>
                <a:gridCol w="1657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álculo de coleste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474920" y="4365720"/>
          <a:ext cx="1301760" cy="272880"/>
        </p:xfrm>
        <a:graphic>
          <a:graphicData uri="http://schemas.openxmlformats.org/drawingml/2006/table">
            <a:tbl>
              <a:tblPr/>
              <a:tblGrid>
                <a:gridCol w="13017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sis bili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cb7e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6227640" y="227664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2764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3789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27640" y="5084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4508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4989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3856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6920" y="328464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26692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804000" y="292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328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020000" y="2276640"/>
            <a:ext cx="287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781440" y="1542960"/>
          <a:ext cx="1315800" cy="333360"/>
        </p:xfrm>
        <a:graphic>
          <a:graphicData uri="http://schemas.openxmlformats.org/drawingml/2006/table">
            <a:tbl>
              <a:tblPr/>
              <a:tblGrid>
                <a:gridCol w="1315800"/>
              </a:tblGrid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lculo Bil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68360" y="2203560"/>
          <a:ext cx="2184480" cy="303120"/>
        </p:xfrm>
        <a:graphic>
          <a:graphicData uri="http://schemas.openxmlformats.org/drawingml/2006/table">
            <a:tbl>
              <a:tblPr/>
              <a:tblGrid>
                <a:gridCol w="2184480"/>
              </a:tblGrid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ósito en la vesícula bili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508720" y="2131920"/>
          <a:ext cx="2089080" cy="28728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strucción de vía bili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066680" y="2795760"/>
          <a:ext cx="960480" cy="303120"/>
        </p:xfrm>
        <a:graphic>
          <a:graphicData uri="http://schemas.openxmlformats.org/drawingml/2006/table">
            <a:tbl>
              <a:tblPr/>
              <a:tblGrid>
                <a:gridCol w="960480"/>
              </a:tblGrid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ecistit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35040" y="3371760"/>
          <a:ext cx="647640" cy="28728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u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716120" y="3371760"/>
          <a:ext cx="792000" cy="28908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ó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19040" y="4019400"/>
          <a:ext cx="863640" cy="287280"/>
        </p:xfrm>
        <a:graphic>
          <a:graphicData uri="http://schemas.openxmlformats.org/drawingml/2006/table">
            <a:tbl>
              <a:tblPr/>
              <a:tblGrid>
                <a:gridCol w="863640"/>
              </a:tblGrid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tonit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716120" y="4019400"/>
          <a:ext cx="1008000" cy="28872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780000" y="3645000"/>
          <a:ext cx="647640" cy="45540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ólico bili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284720" y="2995560"/>
          <a:ext cx="1152360" cy="455400"/>
        </p:xfrm>
        <a:graphic>
          <a:graphicData uri="http://schemas.openxmlformats.org/drawingml/2006/table">
            <a:tbl>
              <a:tblPr/>
              <a:tblGrid>
                <a:gridCol w="11523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ujo biliar interrump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219640" y="3643200"/>
          <a:ext cx="1079640" cy="45540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lamación de vía bili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869080" y="2995560"/>
          <a:ext cx="1079280" cy="28872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creatit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6804000" y="3643200"/>
          <a:ext cx="863280" cy="287280"/>
        </p:xfrm>
        <a:graphic>
          <a:graphicData uri="http://schemas.openxmlformats.org/drawingml/2006/table">
            <a:tbl>
              <a:tblPr/>
              <a:tblGrid>
                <a:gridCol w="863280"/>
              </a:tblGrid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angit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7415280" y="2995560"/>
          <a:ext cx="1297080" cy="455400"/>
        </p:xfrm>
        <a:graphic>
          <a:graphicData uri="http://schemas.openxmlformats.org/drawingml/2006/table">
            <a:tbl>
              <a:tblPr/>
              <a:tblGrid>
                <a:gridCol w="12970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dropesía de vesícula bili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995640" y="4437000"/>
          <a:ext cx="1584360" cy="45576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lujo bilirrubina conjug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778200" y="5302080"/>
          <a:ext cx="2016000" cy="28908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↑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ilirrubina directa sé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067280" y="5950080"/>
          <a:ext cx="1511280" cy="28872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tericia obstruc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7524720" y="4363920"/>
          <a:ext cx="1152360" cy="289080"/>
        </p:xfrm>
        <a:graphic>
          <a:graphicData uri="http://schemas.openxmlformats.org/drawingml/2006/table">
            <a:tbl>
              <a:tblPr/>
              <a:tblGrid>
                <a:gridCol w="115236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i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7524720" y="5084640"/>
          <a:ext cx="1152360" cy="289080"/>
        </p:xfrm>
        <a:graphic>
          <a:graphicData uri="http://schemas.openxmlformats.org/drawingml/2006/table">
            <a:tbl>
              <a:tblPr/>
              <a:tblGrid>
                <a:gridCol w="115236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tonit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 flipH="1">
            <a:off x="1692000" y="1844640"/>
            <a:ext cx="2376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1844640"/>
            <a:ext cx="23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2563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971640" y="3139920"/>
            <a:ext cx="504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20720" y="3139920"/>
            <a:ext cx="503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3716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3716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68720" y="25639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516720" y="24206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8720" y="25639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32360" y="256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3080" y="256392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72360" y="256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29440" y="256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4360" y="256392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800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88000" y="501156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29440" y="35719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29440" y="4724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ció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lecistectomía laparoscópica sin 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560" y="2833200"/>
            <a:ext cx="6296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600" spc="-1" strike="noStrike">
                <a:solidFill>
                  <a:srgbClr val="000000"/>
                </a:solidFill>
                <a:latin typeface="Bell MT"/>
              </a:rPr>
              <a:t>Seminario </a:t>
            </a:r>
            <a:r>
              <a:rPr b="1" lang="es-MX" sz="5600" spc="-1" strike="noStrike">
                <a:solidFill>
                  <a:srgbClr val="000000"/>
                </a:solidFill>
                <a:latin typeface="Bell MT"/>
              </a:rPr>
              <a:t>C</a:t>
            </a:r>
            <a:r>
              <a:rPr b="1" lang="es-ES" sz="5600" spc="-1" strike="noStrike">
                <a:solidFill>
                  <a:srgbClr val="000000"/>
                </a:solidFill>
                <a:latin typeface="Bell MT"/>
              </a:rPr>
              <a:t>línico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82080" y="201600"/>
            <a:ext cx="2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343400" y="5638680"/>
            <a:ext cx="4495680" cy="6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Alumno ( a )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181120" y="-3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ell MT"/>
              </a:rPr>
              <a:t>Anamnesis </a:t>
            </a:r>
            <a:r>
              <a:rPr b="1" lang="es-MX" sz="2800" spc="-1" strike="noStrike">
                <a:solidFill>
                  <a:srgbClr val="000000"/>
                </a:solidFill>
                <a:latin typeface="Bell MT"/>
              </a:rPr>
              <a:t>P</a:t>
            </a:r>
            <a:r>
              <a:rPr b="1" lang="es-ES" sz="2800" spc="-1" strike="noStrike">
                <a:solidFill>
                  <a:srgbClr val="000000"/>
                </a:solidFill>
                <a:latin typeface="Bell MT"/>
              </a:rPr>
              <a:t>r</a:t>
            </a:r>
            <a:r>
              <a:rPr b="1" lang="es-MX" sz="2800" spc="-1" strike="noStrike">
                <a:solidFill>
                  <a:srgbClr val="000000"/>
                </a:solidFill>
                <a:latin typeface="Bell MT"/>
              </a:rPr>
              <a:t>ó</a:t>
            </a:r>
            <a:r>
              <a:rPr b="1" lang="es-ES" sz="2800" spc="-1" strike="noStrike">
                <a:solidFill>
                  <a:srgbClr val="000000"/>
                </a:solidFill>
                <a:latin typeface="Bell MT"/>
              </a:rPr>
              <a:t>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676520"/>
            <a:ext cx="1371600" cy="259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29600" y="3276720"/>
            <a:ext cx="9144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Paciente de 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63 años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,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 sexo masculino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, con antecedentes de 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DM tipo II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 desde 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1977 tratado con hipoglicemiantes orales y HTA diagnosticada en 1992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 en tratamiento con 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enalapril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.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Su cuadro actual comienza 5 días atrás,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 caracterizado por 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dolor cólico en zona lumbar izquierda irradiado al flanco y zona genital izquierda, de intensidad 5/10, comienzo incidioso y evolución continua que cede con el reposo y no cede con aspirina, acompañado de 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disuria, polaquiuria, tenesmo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,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incontinencia urinaria y 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pujo vesical. 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Al tercer día 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se agrega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 sensación febril y 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CEG. Al interrogatorio dirigido, 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el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 paciente refiere orina oscura, de mal olor y sin espuma. 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No refiere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 nictu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El 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15 de Junio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 consulta en Servicio de Urgencia del 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H.C.U.Ch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 donde se decide su 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h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ospitalización para 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el día siguiente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Bell MT"/>
              </a:rPr>
              <a:t>Anamnesis Remo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 u="sng">
                <a:solidFill>
                  <a:srgbClr val="000000"/>
                </a:solidFill>
                <a:uFillTx/>
                <a:latin typeface="Bell MT"/>
              </a:rPr>
              <a:t>Antecedentes Mórbidos</a:t>
            </a:r>
            <a:r>
              <a:rPr b="1" lang="es-MX" sz="2500" spc="-1" strike="noStrike">
                <a:solidFill>
                  <a:srgbClr val="000000"/>
                </a:solidFill>
                <a:latin typeface="Bell MT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Bell MT"/>
              </a:rPr>
              <a:t>(1977) DM</a:t>
            </a:r>
            <a:r>
              <a:rPr b="1" lang="es-MX" sz="2500" spc="-1" strike="noStrike" baseline="-25000">
                <a:solidFill>
                  <a:srgbClr val="000000"/>
                </a:solidFill>
                <a:latin typeface="Bell MT"/>
              </a:rPr>
              <a:t>2 </a:t>
            </a:r>
            <a:r>
              <a:rPr b="1" lang="es-MX" sz="2500" spc="-1" strike="noStrike">
                <a:solidFill>
                  <a:srgbClr val="000000"/>
                </a:solidFill>
                <a:latin typeface="Bell MT"/>
              </a:rPr>
              <a:t>en tto con glibenclamida y metformin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Bell MT"/>
              </a:rPr>
              <a:t>(1992) HTA en tto con enalapri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Bell MT"/>
              </a:rPr>
              <a:t>Alergias ( -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Bell MT"/>
              </a:rPr>
              <a:t>Transfusiones sanguíneas ( -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Bell MT"/>
              </a:rPr>
              <a:t>Antecedentes Quirúrgico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Bell MT"/>
              </a:rPr>
              <a:t>1987: Varicocele e hidrocele izqd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Bell MT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600200"/>
            <a:ext cx="1143000" cy="2590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29600" y="3276720"/>
            <a:ext cx="9144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143000" y="22096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Tabaco </a:t>
            </a: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4 cig/día por 25 años ( 5 paquetes/año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Alcohol: 1 vaso </a:t>
            </a: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/ 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Frecuencia miccional: 4</a:t>
            </a: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-3</a:t>
            </a: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/</a:t>
            </a: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Hábitos defecatorios: </a:t>
            </a: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 ve</a:t>
            </a: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ces</a:t>
            </a: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 al 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Actividad física: sed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Alimentación: no respeta régimen </a:t>
            </a: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bajo en azúc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Medicamentos de uso habitu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Glibencamida y Metfor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Enal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1676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Bell MT"/>
              </a:rPr>
              <a:t>Háb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666880" y="-36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Bell MT"/>
              </a:rPr>
              <a:t>Anamnesis Remo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676520"/>
            <a:ext cx="1371600" cy="259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229600" y="3276720"/>
            <a:ext cx="9144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áb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baco ( índice paquetes/año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cohol: caracterí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ár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rogas ilíc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c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ec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im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tividad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sc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x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4920" y="167616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000000"/>
                </a:solidFill>
                <a:uFillTx/>
                <a:latin typeface="Bell MT"/>
              </a:rPr>
              <a:t>Antecedentes familiares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Bell MT"/>
              </a:rPr>
              <a:t>Padre con DM2 e HTA, muere a los 93 años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Bell MT"/>
              </a:rPr>
              <a:t>Madre muere a los 86 años de enfermedad pulmonar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Bell MT"/>
              </a:rPr>
              <a:t>Hijos y hermanos sin anteced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3284640"/>
            <a:ext cx="76341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2924280"/>
            <a:ext cx="8229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Bell MT"/>
              </a:rPr>
              <a:t>Anamnesis Rem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676520"/>
            <a:ext cx="1371600" cy="259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9600" y="3276720"/>
            <a:ext cx="9144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ll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Bell MT"/>
              </a:rPr>
              <a:t>Estado civil: </a:t>
            </a:r>
            <a:r>
              <a:rPr b="1" lang="es-MX" sz="1800" spc="-1" strike="noStrike">
                <a:solidFill>
                  <a:srgbClr val="000000"/>
                </a:solidFill>
                <a:latin typeface="Bell MT"/>
              </a:rPr>
              <a:t>cas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ll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ell MT"/>
              </a:rPr>
              <a:t>Núcleo familiar: Esposa y dos hijos men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ll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ell MT"/>
              </a:rPr>
              <a:t>Vivienda:</a:t>
            </a:r>
            <a:r>
              <a:rPr b="1" lang="es-ES" sz="1800" spc="-1" strike="noStrike">
                <a:solidFill>
                  <a:srgbClr val="000000"/>
                </a:solidFill>
                <a:latin typeface="Bell MT"/>
              </a:rPr>
              <a:t> material sólido, urban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ll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ell MT"/>
              </a:rPr>
              <a:t>Domicilio</a:t>
            </a:r>
            <a:r>
              <a:rPr b="1" lang="es-ES" sz="1800" spc="-1" strike="noStrike">
                <a:solidFill>
                  <a:srgbClr val="000000"/>
                </a:solidFill>
                <a:latin typeface="Bell MT"/>
              </a:rPr>
              <a:t>:  </a:t>
            </a:r>
            <a:r>
              <a:rPr b="1" lang="es-MX" sz="1800" spc="-1" strike="noStrike">
                <a:solidFill>
                  <a:srgbClr val="000000"/>
                </a:solidFill>
                <a:latin typeface="Bell MT"/>
              </a:rPr>
              <a:t>In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ll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ell MT"/>
              </a:rPr>
              <a:t>Escolaridad: Té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ll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Bell MT"/>
              </a:rPr>
              <a:t>Laborales: </a:t>
            </a:r>
            <a:r>
              <a:rPr b="1" lang="es-MX" sz="1800" spc="-1" strike="noStrike">
                <a:solidFill>
                  <a:srgbClr val="000000"/>
                </a:solidFill>
                <a:latin typeface="Bell MT"/>
              </a:rPr>
              <a:t>Transportista</a:t>
            </a:r>
            <a:r>
              <a:rPr b="1" lang="es-ES" sz="1800" spc="-1" strike="noStrike">
                <a:solidFill>
                  <a:srgbClr val="000000"/>
                </a:solidFill>
                <a:latin typeface="Bell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ll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ell MT"/>
              </a:rPr>
              <a:t>Previsión: </a:t>
            </a:r>
            <a:r>
              <a:rPr b="1" lang="es-ES" sz="1800" spc="-1" strike="noStrike">
                <a:solidFill>
                  <a:srgbClr val="000000"/>
                </a:solidFill>
                <a:latin typeface="Bell MT"/>
              </a:rPr>
              <a:t>FO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89680" y="1052640"/>
            <a:ext cx="462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Bell MT"/>
              </a:rPr>
              <a:t>Antecedentes socio-económ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Bell MT"/>
              </a:rPr>
              <a:t>Anamnesis Remo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676520"/>
            <a:ext cx="1371600" cy="259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29600" y="3276720"/>
            <a:ext cx="9144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90360" y="22856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Bell MT"/>
              </a:rPr>
              <a:t>Examen Físi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ell MT"/>
              </a:rPr>
              <a:t>20 de Junio del 2007, 11:20 </a:t>
            </a:r>
            <a:r>
              <a:rPr b="0" lang="es-ES" sz="2400" spc="-1" strike="noStrike">
                <a:solidFill>
                  <a:srgbClr val="000000"/>
                </a:solidFill>
                <a:latin typeface="Bell MT"/>
              </a:rPr>
              <a:t>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66520" y="151920"/>
            <a:ext cx="35053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Bell MT"/>
              </a:rPr>
              <a:t>Examen F</a:t>
            </a:r>
            <a:r>
              <a:rPr b="1" lang="es-MX" sz="2500" spc="-1" strike="noStrike">
                <a:solidFill>
                  <a:srgbClr val="000000"/>
                </a:solidFill>
                <a:latin typeface="Bell MT"/>
              </a:rPr>
              <a:t>í</a:t>
            </a:r>
            <a:r>
              <a:rPr b="1" lang="es-ES" sz="2500" spc="-1" strike="noStrike">
                <a:solidFill>
                  <a:srgbClr val="000000"/>
                </a:solidFill>
                <a:latin typeface="Bell MT"/>
              </a:rPr>
              <a:t>sico General</a:t>
            </a:r>
            <a:r>
              <a:rPr b="1" lang="es-MX" sz="25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133720"/>
            <a:ext cx="12952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05920" y="3352680"/>
            <a:ext cx="83808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133720"/>
            <a:ext cx="13716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256600" y="3352680"/>
            <a:ext cx="887400" cy="1279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ell MT"/>
              </a:rPr>
              <a:t>1.- 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Posición y decúbito: decúbito dorsal activo indifer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2.- Actitud y marcha: 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No evalu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3.- Facies y expresión: 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Sin facies característica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4.-Estado de conciencia: Vigil. Orientad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o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 témporo, espacial y person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5.-Estado nutricional: Constitución 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endomórfica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Peso: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 90 kg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.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Talla: 1.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79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 mt.       IMC: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 28,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(Datos referidos por el paci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294920" y="1752120"/>
            <a:ext cx="6705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6.- Piel y fanereo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Bell MT"/>
              </a:rPr>
              <a:t>Piel </a:t>
            </a:r>
            <a:r>
              <a:rPr b="1" lang="es-MX" sz="2400" spc="-1" strike="noStrike">
                <a:solidFill>
                  <a:srgbClr val="333399"/>
                </a:solidFill>
                <a:latin typeface="Bell MT"/>
              </a:rPr>
              <a:t>rubicunda y sudorosa</a:t>
            </a: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. Elasticidad </a:t>
            </a: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conservada</a:t>
            </a: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. Temperatura conserv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Fanereos: </a:t>
            </a:r>
            <a:r>
              <a:rPr b="1" lang="es-CL" sz="2400" spc="-1" strike="noStrike">
                <a:solidFill>
                  <a:srgbClr val="000000"/>
                </a:solidFill>
                <a:latin typeface="Bell MT"/>
              </a:rPr>
              <a:t>Llene capilar normal. Onicodistrofia en ambos p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Les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Bell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Bell MT"/>
              </a:rPr>
              <a:t>Telangiectasias en alas y dorso de la nariz, mej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Bell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Bell MT"/>
              </a:rPr>
              <a:t>Acrocordon en región anterior del cu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Bell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Bell MT"/>
              </a:rPr>
              <a:t>Hipercromía en </a:t>
            </a:r>
            <a:r>
              <a:rPr b="1" lang="es-ES" sz="1800" spc="-1" strike="noStrike">
                <a:solidFill>
                  <a:srgbClr val="333399"/>
                </a:solidFill>
                <a:latin typeface="Bell MT"/>
              </a:rPr>
              <a:t>ambas </a:t>
            </a:r>
            <a:r>
              <a:rPr b="1" lang="es-MX" sz="1800" spc="-1" strike="noStrike">
                <a:solidFill>
                  <a:srgbClr val="333399"/>
                </a:solidFill>
                <a:latin typeface="Bell MT"/>
              </a:rPr>
              <a:t>EEII distal</a:t>
            </a:r>
            <a:r>
              <a:rPr b="1" lang="es-ES" sz="1800" spc="-1" strike="noStrike">
                <a:solidFill>
                  <a:srgbClr val="333399"/>
                </a:solidFill>
                <a:latin typeface="Bell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Bell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Bell MT"/>
              </a:rPr>
              <a:t>Lesión costrosa en codo izquie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2666520" y="151920"/>
            <a:ext cx="35053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Bell MT"/>
              </a:rPr>
              <a:t>Examen F</a:t>
            </a:r>
            <a:r>
              <a:rPr b="1" lang="es-MX" sz="2500" spc="-1" strike="noStrike">
                <a:solidFill>
                  <a:srgbClr val="000000"/>
                </a:solidFill>
                <a:latin typeface="Bell MT"/>
              </a:rPr>
              <a:t>í</a:t>
            </a:r>
            <a:r>
              <a:rPr b="1" lang="es-ES" sz="2500" spc="-1" strike="noStrike">
                <a:solidFill>
                  <a:srgbClr val="000000"/>
                </a:solidFill>
                <a:latin typeface="Bell MT"/>
              </a:rPr>
              <a:t>sico General</a:t>
            </a:r>
            <a:r>
              <a:rPr b="1" lang="es-MX" sz="25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133720"/>
            <a:ext cx="12952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5920" y="3352680"/>
            <a:ext cx="83808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133720"/>
            <a:ext cx="13716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56600" y="3352680"/>
            <a:ext cx="887400" cy="1279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666520" y="151920"/>
            <a:ext cx="35053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Bell MT"/>
              </a:rPr>
              <a:t>Examen F</a:t>
            </a:r>
            <a:r>
              <a:rPr b="1" lang="es-MX" sz="2500" spc="-1" strike="noStrike">
                <a:solidFill>
                  <a:srgbClr val="000000"/>
                </a:solidFill>
                <a:latin typeface="Bell MT"/>
              </a:rPr>
              <a:t>í</a:t>
            </a:r>
            <a:r>
              <a:rPr b="1" lang="es-ES" sz="2500" spc="-1" strike="noStrike">
                <a:solidFill>
                  <a:srgbClr val="000000"/>
                </a:solidFill>
                <a:latin typeface="Bell MT"/>
              </a:rPr>
              <a:t>sico General</a:t>
            </a:r>
            <a:r>
              <a:rPr b="1" lang="es-MX" sz="25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2133720"/>
            <a:ext cx="12952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5920" y="3352680"/>
            <a:ext cx="83808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47560" y="1828440"/>
            <a:ext cx="6553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7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.- 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Ganglios Linf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á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ticos: no se palpan adenopat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í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8.- 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Frecuencia respiratoria 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20 cp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9.- 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Pulso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 62 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pulsaciones/minuto. 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R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egular 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e Igual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. Amplitud y tensión normales. </a:t>
            </a:r>
            <a:r>
              <a:rPr b="1" lang="es-ES_tradnl" sz="2000" spc="-1" strike="noStrike">
                <a:solidFill>
                  <a:srgbClr val="000000"/>
                </a:solidFill>
                <a:latin typeface="Bell MT"/>
              </a:rPr>
              <a:t>Todos los pulsos presentes y simétr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10.- 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Presi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ó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n arterial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 146/72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 mmHg braquial derecha, decúbito dor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11.- 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Temperatura: 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36,5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°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C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,  axila derecha seca, examinador presente.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 (12:15)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133720"/>
            <a:ext cx="13716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56600" y="3352680"/>
            <a:ext cx="887400" cy="1279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743200" y="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Examen Físico Segmen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15238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Cabeza y Cu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133720"/>
            <a:ext cx="12952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305920" y="3352680"/>
            <a:ext cx="83808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2133720"/>
            <a:ext cx="13716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057400"/>
            <a:ext cx="8229600" cy="35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Cráneo</a:t>
            </a:r>
            <a:r>
              <a:rPr b="0" lang="es-ES" sz="2000" spc="-1" strike="noStrike">
                <a:solidFill>
                  <a:srgbClr val="000000"/>
                </a:solidFill>
                <a:latin typeface="Bell MT"/>
              </a:rPr>
              <a:t>: Normocráneo</a:t>
            </a:r>
            <a:r>
              <a:rPr b="0" lang="es-MX" sz="20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Pelo</a:t>
            </a:r>
            <a:r>
              <a:rPr b="0" lang="es-MX" sz="2000" spc="-1" strike="noStrike">
                <a:solidFill>
                  <a:srgbClr val="000000"/>
                </a:solidFill>
                <a:latin typeface="Bell MT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MX" sz="2000" spc="-1" strike="noStrike">
                <a:solidFill>
                  <a:srgbClr val="333399"/>
                </a:solidFill>
                <a:latin typeface="Bell MT"/>
              </a:rPr>
              <a:t>Seco, con zonas alopéc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Frente:</a:t>
            </a:r>
            <a:r>
              <a:rPr b="0" lang="es-MX" sz="2000" spc="-1" strike="noStrike">
                <a:solidFill>
                  <a:srgbClr val="000000"/>
                </a:solidFill>
                <a:latin typeface="Bell MT"/>
              </a:rPr>
              <a:t> P</a:t>
            </a:r>
            <a:r>
              <a:rPr b="0" lang="es-ES" sz="2000" spc="-1" strike="noStrike">
                <a:solidFill>
                  <a:srgbClr val="000000"/>
                </a:solidFill>
                <a:latin typeface="Bell MT"/>
              </a:rPr>
              <a:t>liegues simétricos.</a:t>
            </a:r>
            <a:r>
              <a:rPr b="0" lang="es-MX" sz="2000" spc="-1" strike="noStrike">
                <a:solidFill>
                  <a:srgbClr val="000000"/>
                </a:solidFill>
                <a:latin typeface="Bell MT"/>
              </a:rPr>
              <a:t> Presenta cicatriz horizontal de 1 cm en </a:t>
            </a:r>
            <a:r>
              <a:rPr b="0" lang="es-MX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Bell MT"/>
              </a:rPr>
              <a:t>lado </a:t>
            </a:r>
            <a:r>
              <a:rPr b="0" lang="es-MX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Bell MT"/>
              </a:rPr>
              <a:t>izquier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Ojos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Bell MT"/>
              </a:rPr>
              <a:t>Párpados sin alteraciones. </a:t>
            </a:r>
            <a:r>
              <a:rPr b="0" lang="es-ES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Bell MT"/>
              </a:rPr>
              <a:t>Conjuntiva palpebral </a:t>
            </a:r>
            <a:r>
              <a:rPr b="0" lang="es-MX" sz="2000" spc="-1" strike="noStrike">
                <a:solidFill>
                  <a:srgbClr val="333399"/>
                </a:solidFill>
                <a:latin typeface="Bell MT"/>
              </a:rPr>
              <a:t>pálida</a:t>
            </a:r>
            <a:r>
              <a:rPr b="0" lang="es-ES" sz="2000" spc="-1" strike="noStrike">
                <a:solidFill>
                  <a:srgbClr val="000000"/>
                </a:solidFill>
                <a:latin typeface="Bell MT"/>
              </a:rPr>
              <a:t>. Pupilas </a:t>
            </a:r>
            <a:r>
              <a:rPr b="0" lang="es-MX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Bell MT"/>
              </a:rPr>
              <a:t>isocóricas</a:t>
            </a:r>
            <a:r>
              <a:rPr b="0" lang="es-MX" sz="2000" spc="-1" strike="noStrike">
                <a:solidFill>
                  <a:srgbClr val="000000"/>
                </a:solidFill>
                <a:latin typeface="Bell MT"/>
              </a:rPr>
              <a:t> con reflejo pupilar presente y  consensuado.  Escleras </a:t>
            </a:r>
            <a:r>
              <a:rPr b="0" lang="es-MX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Bell MT"/>
              </a:rPr>
              <a:t>limpias</a:t>
            </a:r>
            <a:r>
              <a:rPr b="0" lang="es-ES" sz="2000" spc="-1" strike="noStrike">
                <a:solidFill>
                  <a:srgbClr val="000000"/>
                </a:solidFill>
                <a:latin typeface="Bell MT"/>
              </a:rPr>
              <a:t>.</a:t>
            </a:r>
            <a:r>
              <a:rPr b="0" lang="es-MX" sz="20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Bell MT"/>
              </a:rPr>
              <a:t>Movilidad ocular </a:t>
            </a:r>
            <a:r>
              <a:rPr b="0" lang="es-MX" sz="2000" spc="-1" strike="noStrike">
                <a:solidFill>
                  <a:srgbClr val="000000"/>
                </a:solidFill>
                <a:latin typeface="Bell MT"/>
              </a:rPr>
              <a:t>y visón conserv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ll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56600" y="3352680"/>
            <a:ext cx="887400" cy="1279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133720"/>
            <a:ext cx="12952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05920" y="3352680"/>
            <a:ext cx="838080" cy="1067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Examen Físico Segmen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133720"/>
            <a:ext cx="13716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56600" y="3352680"/>
            <a:ext cx="887400" cy="1279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371240" y="182844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ell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Fosas nasales</a:t>
            </a:r>
            <a:r>
              <a:rPr b="0" lang="es-MX" sz="2400" spc="-1" strike="noStrike">
                <a:solidFill>
                  <a:srgbClr val="000000"/>
                </a:solidFill>
                <a:latin typeface="Bell MT"/>
              </a:rPr>
              <a:t>: Perm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Oído</a:t>
            </a:r>
            <a:r>
              <a:rPr b="0" lang="es-ES" sz="2400" spc="-1" strike="noStrike">
                <a:solidFill>
                  <a:srgbClr val="000000"/>
                </a:solidFill>
                <a:latin typeface="Bell MT"/>
              </a:rPr>
              <a:t>: </a:t>
            </a:r>
            <a:r>
              <a:rPr b="0" lang="es-MX" sz="2400" spc="-1" strike="noStrike">
                <a:solidFill>
                  <a:srgbClr val="000000"/>
                </a:solidFill>
                <a:latin typeface="Bell MT"/>
              </a:rPr>
              <a:t>CAE sin alteraciones. Implantación normal. </a:t>
            </a:r>
            <a:r>
              <a:rPr b="0" lang="es-MX" sz="2400" spc="-1" strike="noStrike">
                <a:solidFill>
                  <a:srgbClr val="000000"/>
                </a:solidFill>
                <a:latin typeface="Bell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Cavidad oral: </a:t>
            </a:r>
            <a:r>
              <a:rPr b="0" lang="es-MX" sz="2400" spc="-1" strike="noStrike">
                <a:solidFill>
                  <a:srgbClr val="000000"/>
                </a:solidFill>
                <a:latin typeface="Bell MT"/>
              </a:rPr>
              <a:t>Apertura oral conservada. </a:t>
            </a:r>
            <a:r>
              <a:rPr b="0" lang="es-ES" sz="2400" spc="-1" strike="noStrike">
                <a:solidFill>
                  <a:srgbClr val="000000"/>
                </a:solidFill>
                <a:latin typeface="Bell MT"/>
              </a:rPr>
              <a:t>Labios</a:t>
            </a:r>
            <a:r>
              <a:rPr b="0" lang="es-MX" sz="2400" spc="-1" strike="noStrike">
                <a:solidFill>
                  <a:srgbClr val="000000"/>
                </a:solidFill>
                <a:latin typeface="Bell MT"/>
              </a:rPr>
              <a:t> simétricos</a:t>
            </a:r>
            <a:r>
              <a:rPr b="0" lang="es-ES" sz="2400" spc="-1" strike="noStrike">
                <a:solidFill>
                  <a:srgbClr val="000000"/>
                </a:solidFill>
                <a:latin typeface="Bell MT"/>
              </a:rPr>
              <a:t>.</a:t>
            </a:r>
            <a:r>
              <a:rPr b="0" lang="es-MX" sz="24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ell MT"/>
              </a:rPr>
              <a:t>          </a:t>
            </a:r>
            <a:r>
              <a:rPr b="0" lang="es-MX" sz="2400" spc="-1" strike="noStrike">
                <a:solidFill>
                  <a:srgbClr val="ffffff"/>
                </a:solidFill>
                <a:latin typeface="Bell MT"/>
              </a:rPr>
              <a:t>Dentadura incompleta, faltan 2 piezas superiores</a:t>
            </a:r>
            <a:r>
              <a:rPr b="0" lang="es-MX" sz="2400" spc="-1" strike="noStrike">
                <a:solidFill>
                  <a:srgbClr val="000000"/>
                </a:solidFill>
                <a:latin typeface="Bell MT"/>
              </a:rPr>
              <a:t>. </a:t>
            </a:r>
            <a:r>
              <a:rPr b="0" lang="es-MX" sz="24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ell MT"/>
              </a:rPr>
              <a:t>          Movilidad de la lengua normal. Lengua saburral.    </a:t>
            </a:r>
            <a:r>
              <a:rPr b="0" lang="es-MX" sz="24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ell MT"/>
              </a:rPr>
              <a:t>          Mucosa oral sin alter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Bell MT"/>
              </a:rPr>
              <a:t>Cuello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ell MT"/>
              </a:rPr>
              <a:t>Simétrico, movilidad conservada. Pulso carotídeo presente. No se   observan yugulares. Sin adenopatías y tiroides no es palp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523880" y="11426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Bell MT"/>
              </a:rPr>
              <a:t>Tórax</a:t>
            </a:r>
            <a:r>
              <a:rPr b="1" lang="es-MX" sz="1800" spc="-1" strike="noStrike">
                <a:solidFill>
                  <a:srgbClr val="000000"/>
                </a:solidFill>
                <a:latin typeface="Bell MT"/>
              </a:rPr>
              <a:t> : morfología norm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Bell MT"/>
              </a:rPr>
              <a:t>Examen Pulmonar</a:t>
            </a:r>
            <a:r>
              <a:rPr b="1" lang="es-MX" sz="18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ell MT"/>
              </a:rPr>
              <a:t>Inspección:Morfología normal.  Sin uso de musculatura accesoria ni tir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ell MT"/>
              </a:rPr>
              <a:t>Palpación: Expansión torácica adecuada VV conserv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ell MT"/>
              </a:rPr>
              <a:t>Percusión: Son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ell MT"/>
              </a:rPr>
              <a:t>Auscultación: </a:t>
            </a:r>
            <a:r>
              <a:rPr b="1" lang="es-MX" sz="1800" spc="-1" strike="noStrike">
                <a:solidFill>
                  <a:srgbClr val="ffffff"/>
                </a:solidFill>
                <a:latin typeface="Bell MT"/>
              </a:rPr>
              <a:t>MP ( + ) con </a:t>
            </a:r>
            <a:r>
              <a:rPr b="1" lang="es-MX" sz="1800" spc="-1" strike="noStrike">
                <a:solidFill>
                  <a:srgbClr val="333399"/>
                </a:solidFill>
                <a:latin typeface="Bell MT"/>
              </a:rPr>
              <a:t>crépitos en ambas bases</a:t>
            </a:r>
            <a:r>
              <a:rPr b="1" lang="es-MX" sz="18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Bell MT"/>
              </a:rPr>
              <a:t>Examen Card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ell MT"/>
              </a:rPr>
              <a:t>Inspección: Choque de la punta no observ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ell MT"/>
              </a:rPr>
              <a:t>Palpación: Choque de la punta no palp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ell MT"/>
              </a:rPr>
              <a:t>Auscultación: RR2T sin sop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Bell MT"/>
              </a:rPr>
              <a:t>Examen Abd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ell MT"/>
              </a:rPr>
              <a:t>Inspección: Abdomen globoso, sin alter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ell MT"/>
              </a:rPr>
              <a:t>Palpación: Depresible, indoloro, sin mas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ell MT"/>
              </a:rPr>
              <a:t>Percusión: Timpá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ell MT"/>
              </a:rPr>
              <a:t>Auscultación: Ruidos hidroaéreos pres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ell MT"/>
              </a:rPr>
              <a:t>Hígado: Proyección hepática de 8 cm. Consistencia manten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Bell MT"/>
              </a:rPr>
              <a:t>Puño Percusión ( -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ell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2133720"/>
            <a:ext cx="12952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05920" y="3352680"/>
            <a:ext cx="83808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Examen Físico Segmen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2133720"/>
            <a:ext cx="13716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56600" y="3352680"/>
            <a:ext cx="887400" cy="1279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366560" y="1015920"/>
            <a:ext cx="71420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Bell MT"/>
              </a:rPr>
              <a:t>Examen Art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1447920"/>
            <a:ext cx="73105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Articulación témporomandibular:  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dolora a la palpación y al mov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Extremidades superiores</a:t>
            </a:r>
            <a:r>
              <a:rPr b="1" lang="es-MX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Simétricos, no presenta cicatrices, lesiones ni cambios  de color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Hombro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: 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Rangos de movilidad conservados, indoloros en movimiento activo y pa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Codo: 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Rangos de movilildad conservados, indoloros en movimiento activo y pas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Mano:</a:t>
            </a:r>
            <a:r>
              <a:rPr b="1" lang="es-MX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Rangos de movilildad conservados, indoloros en movimiento activo y pasivo. </a:t>
            </a:r>
            <a:r>
              <a:rPr b="0" lang="es-C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umento de volumen en ambas manos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Extremidades Inferiores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Simétricos, 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sin cicatrices, lesiones ni cambios de color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Cadera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: 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Rangos de movilildad conservados, indoloros en movimiento activo y pasivo.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Rodilla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: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Flexión y extensión presentes, sin dolor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, ni aumentos de volu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Tobillo y dedos: 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Rangos de movilildad conservados, indoloros en movimiento activo y pasivo.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2133720"/>
            <a:ext cx="12952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05920" y="3352680"/>
            <a:ext cx="83808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Examen Físico Segmen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133720"/>
            <a:ext cx="13716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256600" y="3352680"/>
            <a:ext cx="887400" cy="1279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ineco-obsté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dad menarqu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dad menopaus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echa última reg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itmo Menstrual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uración /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smenorrea gr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 I l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= II  analgés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= III rep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echa último Papanicol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angrado post menstr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so anticoncep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ida sexual a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º de embarazos – Nº partos – Nº abortos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  P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echa último par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esáreas: Cau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bortos espontáneos o provo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Recién nacido de mayor p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fermedades de transmisión sex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2133720"/>
            <a:ext cx="13716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56600" y="3352680"/>
            <a:ext cx="887400" cy="1279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144792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1447920"/>
            <a:ext cx="7848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Bell MT"/>
              </a:rPr>
              <a:t>Examen Me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Conciencia :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Paciente vigil, orientado personal, temporal y espacial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Bell MT"/>
              </a:rPr>
              <a:t>Atención:  </a:t>
            </a:r>
            <a:r>
              <a:rPr b="1" lang="es-MX" sz="1600" spc="-1" strike="noStrike">
                <a:solidFill>
                  <a:srgbClr val="333399"/>
                </a:solidFill>
                <a:latin typeface="Bell MT"/>
              </a:rPr>
              <a:t>  </a:t>
            </a:r>
            <a:r>
              <a:rPr b="0" lang="es-MX" sz="1600" spc="-1" strike="noStrike">
                <a:solidFill>
                  <a:srgbClr val="333399"/>
                </a:solidFill>
                <a:latin typeface="Bell MT"/>
              </a:rPr>
              <a:t>Disminuí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Memoria: </a:t>
            </a: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333399"/>
                </a:solidFill>
                <a:latin typeface="Bell MT"/>
              </a:rPr>
              <a:t>-Memoria de trabajo: </a:t>
            </a:r>
            <a:r>
              <a:rPr b="0" lang="es-ES" sz="1600" spc="-1" strike="noStrike">
                <a:solidFill>
                  <a:srgbClr val="333399"/>
                </a:solidFill>
                <a:latin typeface="Bell MT"/>
              </a:rPr>
              <a:t>	</a:t>
            </a:r>
            <a:r>
              <a:rPr b="0" lang="es-MX" sz="1600" spc="-1" strike="noStrike">
                <a:solidFill>
                  <a:srgbClr val="333399"/>
                </a:solidFill>
                <a:latin typeface="Bell MT"/>
              </a:rPr>
              <a:t>	</a:t>
            </a:r>
            <a:r>
              <a:rPr b="0" lang="es-MX" sz="1600" spc="-1" strike="noStrike">
                <a:solidFill>
                  <a:srgbClr val="333399"/>
                </a:solidFill>
                <a:latin typeface="Bell MT"/>
              </a:rPr>
              <a:t>disminuí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Memoria de corto plazo: 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Memoria de largo plazo: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Bell MT"/>
              </a:rPr>
              <a:t>Capacidad de Abstracción y juici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333399"/>
                </a:solidFill>
                <a:latin typeface="Bell MT"/>
              </a:rPr>
              <a:t>-Reconocer semejanzas:</a:t>
            </a:r>
            <a:r>
              <a:rPr b="0" lang="es-MX" sz="1600" spc="-1" strike="noStrike">
                <a:solidFill>
                  <a:srgbClr val="333399"/>
                </a:solidFill>
                <a:latin typeface="Bell MT"/>
              </a:rPr>
              <a:t> disminuí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Lenguaje: 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Paciente Comprensivo, expresivo y espontáne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Personalidad y Humor: 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Paciente con buen estado de anim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Bell MT"/>
              </a:rPr>
              <a:t>Pseudopercepciones o delirios:</a:t>
            </a:r>
            <a:r>
              <a:rPr b="0" lang="es-MX" sz="1600" spc="-1" strike="noStrike">
                <a:solidFill>
                  <a:srgbClr val="333399"/>
                </a:solidFill>
                <a:latin typeface="Bell MT"/>
              </a:rPr>
              <a:t> Presenta alucinaciones e ilus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30492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Examen Neurológ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71600" y="1022400"/>
            <a:ext cx="75484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ell MT"/>
              </a:rPr>
              <a:t>Examen de Nervios Cranea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Nervio Olfatorio (I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 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Nervio Óptico (I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 Agudeza visual: 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Prueba “Cuenta dedos”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 Campo visual: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Prueba por Confrontación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 Fondo de ojo: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No evalua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Oculomotor (III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 Apertura ocular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 Mirada supero-medial, superior, supero-lateral e Inferolateral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 Reflejo Fotomotor y Consensual  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 Reflejo de Acomodación y Convergencia 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 Pupilas isocó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Troclear (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 Mirada infero-medial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Abducens (VI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 Mirada lateral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2133720"/>
            <a:ext cx="12952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3352680"/>
            <a:ext cx="83808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43200" y="30492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Examen Neurológ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133720"/>
            <a:ext cx="13716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256600" y="3352680"/>
            <a:ext cx="887400" cy="1279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447920" y="990720"/>
            <a:ext cx="769608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Trigémino (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Funciones Motoras:</a:t>
            </a:r>
            <a:r>
              <a:rPr b="0" lang="es-MX" sz="1600" spc="-1" strike="noStrike">
                <a:solidFill>
                  <a:srgbClr val="000000"/>
                </a:solidFill>
                <a:latin typeface="Bell MT"/>
              </a:rPr>
              <a:t> Norm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.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Funciones sensitivas</a:t>
            </a:r>
            <a:r>
              <a:rPr b="0" lang="es-MX" sz="1600" spc="-1" strike="noStrike">
                <a:solidFill>
                  <a:srgbClr val="000000"/>
                </a:solidFill>
                <a:latin typeface="Bell MT"/>
              </a:rPr>
              <a:t>: Normales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Nervio Facial (VII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Mímica facial : </a:t>
            </a:r>
            <a:r>
              <a:rPr b="0" lang="es-MX" sz="1600" spc="-1" strike="noStrike">
                <a:solidFill>
                  <a:srgbClr val="000000"/>
                </a:solidFill>
                <a:latin typeface="Bell MT"/>
              </a:rPr>
              <a:t>Conserv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.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Función Sensorial:</a:t>
            </a:r>
            <a:r>
              <a:rPr b="0" lang="es-MX" sz="16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Conserv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Función Neurovegetativas: Conserv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Vestibulo-Coclear (VIII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Función Auditiva:   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Bell MT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Función Vestibular:</a:t>
            </a:r>
            <a:r>
              <a:rPr b="0" lang="es-MX" sz="16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Prueba de Romberg: No realizada.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Nistagmo (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Vértigo (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Glosofaríngeo (IX) y Vago (X):</a:t>
            </a:r>
            <a:r>
              <a:rPr b="0" lang="es-MX" sz="1600" spc="-1" strike="noStrike">
                <a:solidFill>
                  <a:srgbClr val="000000"/>
                </a:solidFill>
                <a:latin typeface="Bell MT"/>
              </a:rPr>
              <a:t> No describe voz bitonal ni disfag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Accesorio (XI):</a:t>
            </a:r>
            <a:r>
              <a:rPr b="1" lang="es-MX" sz="1600" spc="-1" strike="noStrike">
                <a:solidFill>
                  <a:srgbClr val="000000"/>
                </a:solidFill>
                <a:latin typeface="Bell MT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Bell MT"/>
              </a:rPr>
              <a:t>Contracción de ECM y Trapecio conserv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Hipogloso (XII):</a:t>
            </a:r>
            <a:r>
              <a:rPr b="1" lang="es-MX" sz="16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Lengua</a:t>
            </a:r>
            <a:r>
              <a:rPr b="0" lang="es-MX" sz="1600" spc="-1" strike="noStrike">
                <a:solidFill>
                  <a:srgbClr val="000000"/>
                </a:solidFill>
                <a:latin typeface="Bell MT"/>
              </a:rPr>
              <a:t> con movilidad y  fuerza normal. 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133720"/>
            <a:ext cx="12952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305920" y="3352680"/>
            <a:ext cx="83808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43200" y="30492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Examen Neurológ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133720"/>
            <a:ext cx="13716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56600" y="3352680"/>
            <a:ext cx="887400" cy="1279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47920" y="1295280"/>
            <a:ext cx="70866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ell MT"/>
              </a:rPr>
              <a:t>Examen M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Trofismo:</a:t>
            </a:r>
            <a:r>
              <a:rPr b="1" lang="es-MX" sz="16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Bell MT"/>
              </a:rPr>
              <a:t>Norm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Tono Muscular:</a:t>
            </a:r>
            <a:r>
              <a:rPr b="1" lang="es-MX" sz="16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Bell MT"/>
              </a:rPr>
              <a:t> Conserv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Motilidad: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Bell MT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Reflejos Osteotendineos: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 Bicipital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Derecho (+)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Izquierdo (+</a:t>
            </a:r>
            <a:r>
              <a:rPr b="0" lang="es-MX" sz="1600" spc="-1" strike="noStrike">
                <a:solidFill>
                  <a:srgbClr val="000000"/>
                </a:solidFill>
                <a:latin typeface="Bell MT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 Tricipital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Derecho (+)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Izquierdo (+</a:t>
            </a:r>
            <a:r>
              <a:rPr b="0" lang="es-MX" sz="1600" spc="-1" strike="noStrike">
                <a:solidFill>
                  <a:srgbClr val="000000"/>
                </a:solidFill>
                <a:latin typeface="Bell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 Patelar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Derecho (+)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Izquierdo (+</a:t>
            </a:r>
            <a:r>
              <a:rPr b="0" lang="es-MX" sz="1600" spc="-1" strike="noStrike">
                <a:solidFill>
                  <a:srgbClr val="000000"/>
                </a:solidFill>
                <a:latin typeface="Bell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 Aquiliano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Derecho (+)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Izquierdo (+</a:t>
            </a:r>
            <a:r>
              <a:rPr b="0" lang="es-MX" sz="1600" spc="-1" strike="noStrike">
                <a:solidFill>
                  <a:srgbClr val="000000"/>
                </a:solidFill>
                <a:latin typeface="Bell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 Estiloradial </a:t>
            </a:r>
            <a:r>
              <a:rPr b="0" lang="es-MX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Bell MT"/>
              </a:rPr>
              <a:t>Derecho 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(+)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Izquierdo (+</a:t>
            </a:r>
            <a:r>
              <a:rPr b="0" lang="es-MX" sz="1600" spc="-1" strike="noStrike">
                <a:solidFill>
                  <a:srgbClr val="000000"/>
                </a:solidFill>
                <a:latin typeface="Bell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Reflejos Cut</a:t>
            </a:r>
            <a:r>
              <a:rPr b="1" lang="es-MX" sz="1600" spc="-1" strike="noStrike">
                <a:solidFill>
                  <a:srgbClr val="000000"/>
                </a:solidFill>
                <a:latin typeface="Bell MT"/>
              </a:rPr>
              <a:t>á</a:t>
            </a: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ne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ell MT"/>
              </a:rPr>
              <a:t>- Reflejo plantar </a:t>
            </a:r>
            <a:r>
              <a:rPr b="0" lang="es-MX" sz="1600" spc="-1" strike="noStrike">
                <a:solidFill>
                  <a:srgbClr val="000000"/>
                </a:solidFill>
                <a:latin typeface="Bell MT"/>
              </a:rPr>
              <a:t>(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Movimientos involuntarios (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ll MT"/>
              </a:rPr>
              <a:t>Alteraciones de la marcha</a:t>
            </a:r>
            <a:r>
              <a:rPr b="1" lang="es-MX" sz="16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Bell MT"/>
              </a:rPr>
              <a:t>No evalu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2133720"/>
            <a:ext cx="12952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05920" y="3352680"/>
            <a:ext cx="83808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43200" y="30492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Examen Neurológ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133720"/>
            <a:ext cx="13716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56600" y="3352680"/>
            <a:ext cx="887400" cy="1279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600200" y="1143000"/>
            <a:ext cx="5715000" cy="54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Garamond"/>
              </a:rPr>
              <a:t>Examen Sensitiv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Garamond"/>
              </a:rPr>
              <a:t>Sensibilidad Superficial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Garamond"/>
              </a:rPr>
              <a:t>a) Táctil: </a:t>
            </a:r>
            <a:r>
              <a:rPr b="0" lang="es-MX" sz="1500" spc="-1" strike="noStrike">
                <a:solidFill>
                  <a:srgbClr val="000000"/>
                </a:solidFill>
                <a:latin typeface="Garamond"/>
              </a:rPr>
              <a:t>Conservada</a:t>
            </a:r>
            <a:r>
              <a:rPr b="0" lang="es-ES" sz="1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Garamond"/>
              </a:rPr>
              <a:t>b) Sensibilidad Dolorosa: </a:t>
            </a:r>
            <a:r>
              <a:rPr b="0" lang="es-MX" sz="1500" spc="-1" strike="noStrike">
                <a:solidFill>
                  <a:srgbClr val="000000"/>
                </a:solidFill>
                <a:latin typeface="Garamond"/>
              </a:rPr>
              <a:t>Conservada</a:t>
            </a:r>
            <a:r>
              <a:rPr b="0" lang="es-ES" sz="15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Garamond"/>
              </a:rPr>
              <a:t>c) Sensibilidad Térmica: </a:t>
            </a:r>
            <a:r>
              <a:rPr b="0" lang="es-ES" sz="1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Garamond"/>
              </a:rPr>
              <a:t>No evalua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Garamond"/>
              </a:rPr>
              <a:t>Sensibilidad Profund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Garamond"/>
              </a:rPr>
              <a:t>a) Sensibilidad Postural: </a:t>
            </a:r>
            <a:r>
              <a:rPr b="0" lang="es-ES" sz="1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Garamond"/>
              </a:rPr>
              <a:t>Conserva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Garamond"/>
              </a:rPr>
              <a:t>b) Sensibilidad vibratoria (Palestesia)</a:t>
            </a:r>
            <a:r>
              <a:rPr b="0" lang="es-ES" sz="1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Garamond"/>
              </a:rPr>
              <a:t>No evaluad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Garamond"/>
              </a:rPr>
              <a:t>c) Compresión Profunda (Batiestesia) </a:t>
            </a:r>
            <a:r>
              <a:rPr b="0" lang="es-MX" sz="1500" spc="-1" strike="noStrike">
                <a:solidFill>
                  <a:srgbClr val="000000"/>
                </a:solidFill>
                <a:latin typeface="Garamond"/>
              </a:rPr>
              <a:t>Conserva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Garamond"/>
              </a:rPr>
              <a:t>Sensibilidad Discriminativ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Garamond"/>
              </a:rPr>
              <a:t>a) </a:t>
            </a:r>
            <a:r>
              <a:rPr b="0" lang="es-ES" sz="1500" spc="-1" strike="noStrike">
                <a:solidFill>
                  <a:srgbClr val="000000"/>
                </a:solidFill>
                <a:latin typeface="Garamond"/>
              </a:rPr>
              <a:t>Grafoestesia:</a:t>
            </a:r>
            <a:r>
              <a:rPr b="0" lang="es-MX" sz="1500" spc="-1" strike="noStrike">
                <a:solidFill>
                  <a:srgbClr val="000000"/>
                </a:solidFill>
                <a:latin typeface="Garamond"/>
              </a:rPr>
              <a:t> Conserva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133720"/>
            <a:ext cx="12952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05920" y="3352680"/>
            <a:ext cx="83808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30492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Examen Neurológ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133720"/>
            <a:ext cx="13716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56600" y="3352680"/>
            <a:ext cx="887400" cy="1279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76520" y="1676520"/>
            <a:ext cx="502920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xamen Cerebelo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Nistagmo (-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Disartria (-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gnos Menínge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Rigidez de nuca  (-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Signo de Brudzinsky (-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Signo de Kerning (-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133720"/>
            <a:ext cx="12952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3352680"/>
            <a:ext cx="83808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30492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Examen Neurológ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2133720"/>
            <a:ext cx="13716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256600" y="3352680"/>
            <a:ext cx="887400" cy="1279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295280" y="266688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Garamond"/>
              </a:rPr>
              <a:t>Exámenes de Laborator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609480" y="4800600"/>
          <a:ext cx="7848720" cy="1828800"/>
        </p:xfrm>
        <a:graphic>
          <a:graphicData uri="http://schemas.openxmlformats.org/drawingml/2006/table">
            <a:tbl>
              <a:tblPr/>
              <a:tblGrid>
                <a:gridCol w="1746360"/>
                <a:gridCol w="1952640"/>
                <a:gridCol w="1353960"/>
                <a:gridCol w="1414800"/>
                <a:gridCol w="1380960"/>
              </a:tblGrid>
              <a:tr h="3682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Reactantes de fase ag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Proteína C Re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1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0 - 5) mg/L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V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3 - 15) mm/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0" y="0"/>
            <a:ext cx="6629400" cy="3657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05920" y="3352680"/>
            <a:ext cx="838080" cy="1219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371600" y="304920"/>
          <a:ext cx="6172200" cy="3873240"/>
        </p:xfrm>
        <a:graphic>
          <a:graphicData uri="http://schemas.openxmlformats.org/drawingml/2006/table">
            <a:tbl>
              <a:tblPr/>
              <a:tblGrid>
                <a:gridCol w="2467080"/>
                <a:gridCol w="961920"/>
                <a:gridCol w="1219320"/>
                <a:gridCol w="1523880"/>
              </a:tblGrid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Hemogr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Hematocri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40-54)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Hemoglob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3,2 g/d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3,5-17) g/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Eritroci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,35 x 10 </a:t>
                      </a:r>
                      <a:r>
                        <a:rPr b="1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,1 x10 </a:t>
                      </a:r>
                      <a:r>
                        <a:rPr b="1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4,9-5,7) M/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V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,8 fl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,2 f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82 - 95) f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CH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32 – 36)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H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3 p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5 p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27,0 - 31,0) p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Leucoci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 x 10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52 x 10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4,0 - 10,0) /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Recuento Plaquet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9,5 x 10 </a:t>
                      </a:r>
                      <a:r>
                        <a:rPr b="1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6,4 x 10 </a:t>
                      </a:r>
                      <a:r>
                        <a:rPr b="1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50 - 440) /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Neutrófilos/Bacilifor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2/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6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ell MT"/>
                        </a:rPr>
                        <a:t>Fro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isocito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286000" y="4800600"/>
            <a:ext cx="4794120" cy="144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Bell MT"/>
              </a:rPr>
              <a:t>Urocultiv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Bell MT"/>
              </a:rPr>
              <a:t>16/06/07:</a:t>
            </a:r>
            <a:r>
              <a:rPr b="0" lang="es-CL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Bell MT"/>
              </a:rPr>
              <a:t>100.000 UFC/ml</a:t>
            </a:r>
            <a:r>
              <a:rPr b="0" lang="es-CL" sz="1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Bell MT"/>
              </a:rPr>
              <a:t>Escherichia Co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Bell MT"/>
              </a:rPr>
              <a:t>Hemocultiv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Bell MT"/>
              </a:rPr>
              <a:t>16/06/07: </a:t>
            </a:r>
            <a:r>
              <a:rPr b="1" lang="es-CL" sz="1600" spc="-1" strike="noStrike">
                <a:solidFill>
                  <a:srgbClr val="000000"/>
                </a:solidFill>
                <a:latin typeface="Bell MT"/>
              </a:rPr>
              <a:t>( + ) </a:t>
            </a:r>
            <a:r>
              <a:rPr b="0" lang="es-CL" sz="1600" spc="-1" strike="noStrike">
                <a:solidFill>
                  <a:srgbClr val="000000"/>
                </a:solidFill>
                <a:latin typeface="Bell MT"/>
              </a:rPr>
              <a:t>Enterob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2133720"/>
            <a:ext cx="12952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305920" y="3352680"/>
            <a:ext cx="838080" cy="1219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6629400" cy="3657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066680" y="152280"/>
          <a:ext cx="7238880" cy="4270320"/>
        </p:xfrm>
        <a:graphic>
          <a:graphicData uri="http://schemas.openxmlformats.org/drawingml/2006/table">
            <a:tbl>
              <a:tblPr/>
              <a:tblGrid>
                <a:gridCol w="2055960"/>
                <a:gridCol w="1954080"/>
                <a:gridCol w="1781280"/>
                <a:gridCol w="1447560"/>
              </a:tblGrid>
              <a:tr h="3682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Orina Compl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15/06/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18/06/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Refe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Asp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Bell MT"/>
                        </a:rPr>
                        <a:t>Ligeramente turb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</a:rPr>
                        <a:t>Cla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Gluco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Bell MT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Bell MT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Proteí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Bell MT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Bell MT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Eritroc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Bell MT"/>
                          <a:ea typeface="Arial"/>
                        </a:rPr>
                        <a:t>6-8 por camp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Bell MT"/>
                          <a:ea typeface="Arial"/>
                        </a:rPr>
                        <a:t>1-2 por cam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(0-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Leucoc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No se observ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Bell MT"/>
                          <a:ea typeface="Arial"/>
                        </a:rPr>
                        <a:t>4-6 por cam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(1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Células Epitel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( + 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( +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Bacte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Bell MT"/>
                          <a:ea typeface="Arial"/>
                        </a:rPr>
                        <a:t>( +++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Bell MT"/>
                          <a:ea typeface="Arial"/>
                        </a:rPr>
                        <a:t>( +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Pioc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Bell MT"/>
                          <a:ea typeface="Arial"/>
                        </a:rPr>
                        <a:t>Incon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(  -  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Cilind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No se observ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No se observ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Crist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No se observ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No se observ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2133720"/>
            <a:ext cx="13716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56600" y="3352680"/>
            <a:ext cx="887400" cy="1279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Bell MT"/>
              </a:rPr>
              <a:t>Glicemia</a:t>
            </a:r>
            <a:r>
              <a:rPr b="0" lang="es-MX" sz="2800" spc="-1" strike="noStrike">
                <a:solidFill>
                  <a:srgbClr val="000000"/>
                </a:solidFill>
                <a:latin typeface="Bell MT"/>
              </a:rPr>
              <a:t>: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Bell MT"/>
              </a:rPr>
              <a:t>05/06 : 237mg/dl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Bell MT"/>
              </a:rPr>
              <a:t>18/06 : 17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90720" y="358128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Ecografía</a:t>
            </a:r>
            <a:r>
              <a:rPr b="0" lang="es-MX" sz="24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Abdominal</a:t>
            </a:r>
            <a:r>
              <a:rPr b="0" lang="es-MX" sz="2400" spc="-1" strike="noStrike">
                <a:solidFill>
                  <a:srgbClr val="000000"/>
                </a:solidFill>
                <a:latin typeface="Bell MT"/>
              </a:rPr>
              <a:t>: Cavidad abdominal sin alteraciones, Riñón derecho 11,5 cm. Riñon Izquierdo 11,4 cm en eje longitudinal. Sin signos de hidronefrosis, con parénquima de grosor y ecogenicidad habit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ocio-ec.-ambien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do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º personas que componen núcleo famil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º personas que viven en la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a – habitación: Material ligero – sól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banización (luz eléctrica, agua potable, alcantar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gar de na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gares donde ha viv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colaridad :  lee y escri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rabajo 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rabajos ant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 mensual aproxim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g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ell MT"/>
              </a:rPr>
              <a:t>Hipótesis diagnó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57200" y="2133720"/>
            <a:ext cx="77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Pielonefritis Ag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Sd Confusional Agu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Diabetes Mellitus tip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Hipertensión Ar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Anemia Normocítica Hipocr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Trombocitop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Sd de Condens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Obe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2133720"/>
            <a:ext cx="12952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05920" y="3352680"/>
            <a:ext cx="83808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286000"/>
            <a:ext cx="129528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305920" y="3505320"/>
            <a:ext cx="838080" cy="1218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2133720"/>
            <a:ext cx="13716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56600" y="3352680"/>
            <a:ext cx="887400" cy="1279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Bell MT"/>
              </a:rPr>
              <a:t>Pielonefritis ag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71240" y="2742840"/>
            <a:ext cx="6824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ell MT"/>
                <a:ea typeface="Arial"/>
              </a:rPr>
              <a:t>El diagnóstico de </a:t>
            </a:r>
            <a:r>
              <a:rPr b="1" i="1" lang="es-ES" sz="2800" spc="-1" strike="noStrike">
                <a:solidFill>
                  <a:srgbClr val="000000"/>
                </a:solidFill>
                <a:latin typeface="Bell MT"/>
                <a:ea typeface="Arial"/>
              </a:rPr>
              <a:t>pielonefritis aguda</a:t>
            </a:r>
            <a:r>
              <a:rPr b="1" lang="es-ES" sz="2800" spc="-1" strike="noStrike">
                <a:solidFill>
                  <a:srgbClr val="000000"/>
                </a:solidFill>
                <a:latin typeface="Bell MT"/>
                <a:ea typeface="Arial"/>
              </a:rPr>
              <a:t> es clínico y corresponde al síndrome que acompaña a la respuesta inflamatoria ante una invasión bacteriana del parénquima re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ell MT"/>
                <a:ea typeface="Times New Roman"/>
              </a:rPr>
              <a:t>Escherichia coli</a:t>
            </a:r>
            <a:r>
              <a:rPr b="1" lang="es-ES" sz="2800" spc="-1" strike="noStrike">
                <a:solidFill>
                  <a:srgbClr val="000000"/>
                </a:solidFill>
                <a:latin typeface="Bell MT"/>
                <a:ea typeface="Times New Roman"/>
              </a:rPr>
              <a:t> es responsable del 75% o más de las infecciones urinarias adquiridas fuera del hospital</a:t>
            </a:r>
            <a:r>
              <a:rPr b="1" lang="es-ES" sz="2800" spc="-1" strike="noStrike">
                <a:solidFill>
                  <a:srgbClr val="000000"/>
                </a:solidFill>
                <a:latin typeface="Bell MT"/>
                <a:ea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2133720"/>
            <a:ext cx="12952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3352680"/>
            <a:ext cx="83808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2133720"/>
            <a:ext cx="13716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56600" y="3352680"/>
            <a:ext cx="887400" cy="1279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2133720"/>
            <a:ext cx="129528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305920" y="3352680"/>
            <a:ext cx="838080" cy="1219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47920" y="11430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Bell MT"/>
              </a:rPr>
              <a:t>Síntomas y Sig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105520" y="25142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Bell MT"/>
              </a:rPr>
              <a:t>Disuria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Incremento en la fr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Bell MT"/>
              </a:rPr>
              <a:t>Polaquiu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U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rgencia urin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Nictu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Bell MT"/>
              </a:rPr>
              <a:t>Tenesmo y Pujo ve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Bell MT"/>
              </a:rPr>
              <a:t>Color de orina anormal o turbia</a:t>
            </a:r>
            <a:r>
              <a:rPr b="1" lang="es-MX" sz="2000" spc="-1" strike="noStrike">
                <a:solidFill>
                  <a:srgbClr val="333399"/>
                </a:solidFill>
                <a:latin typeface="Bell MT"/>
              </a:rPr>
              <a:t> y de olor fétido</a:t>
            </a:r>
            <a:r>
              <a:rPr b="1" lang="es-ES" sz="2000" spc="-1" strike="noStrike">
                <a:solidFill>
                  <a:srgbClr val="333399"/>
                </a:solidFill>
                <a:latin typeface="Bell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Bell MT"/>
              </a:rPr>
              <a:t>Hematuria</a:t>
            </a:r>
            <a:r>
              <a:rPr b="1" lang="es-ES" sz="2000" spc="-1" strike="noStrike">
                <a:solidFill>
                  <a:srgbClr val="333399"/>
                </a:solidFill>
                <a:latin typeface="Bell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1294920" y="25905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Bell MT"/>
              </a:rPr>
              <a:t>Dolor </a:t>
            </a:r>
            <a:r>
              <a:rPr b="1" lang="es-MX" sz="2000" spc="-1" strike="noStrike">
                <a:solidFill>
                  <a:srgbClr val="333399"/>
                </a:solidFill>
                <a:latin typeface="Bell MT"/>
              </a:rPr>
              <a:t>lumbar con irradiación al flanco del mismo lado</a:t>
            </a:r>
            <a:r>
              <a:rPr b="1" lang="es-ES" sz="2000" spc="-1" strike="noStrike">
                <a:solidFill>
                  <a:srgbClr val="333399"/>
                </a:solidFill>
                <a:latin typeface="Bell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Dolor abdominal sev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Fiebre 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superior a 38,5°C con e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scalofrío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Bell MT"/>
              </a:rPr>
              <a:t>Piel caliente </a:t>
            </a:r>
            <a:r>
              <a:rPr b="1" lang="es-MX" sz="2000" spc="-1" strike="noStrike">
                <a:solidFill>
                  <a:srgbClr val="333399"/>
                </a:solidFill>
                <a:latin typeface="Bell MT"/>
              </a:rPr>
              <a:t>y sudorosa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Vómitos</a:t>
            </a:r>
            <a:r>
              <a:rPr b="1" lang="es-MX" sz="2000" spc="-1" strike="noStrike">
                <a:solidFill>
                  <a:srgbClr val="000000"/>
                </a:solidFill>
                <a:latin typeface="Bell MT"/>
              </a:rPr>
              <a:t> y </a:t>
            </a:r>
            <a:r>
              <a:rPr b="1" lang="es-ES" sz="2000" spc="-1" strike="noStrike">
                <a:solidFill>
                  <a:srgbClr val="000000"/>
                </a:solidFill>
                <a:latin typeface="Bell MT"/>
              </a:rPr>
              <a:t> náus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Bell MT"/>
              </a:rPr>
              <a:t>Fatiga </a:t>
            </a:r>
            <a:r>
              <a:rPr b="1" lang="es-MX" sz="2000" spc="-1" strike="noStrike">
                <a:solidFill>
                  <a:srgbClr val="333399"/>
                </a:solidFill>
                <a:latin typeface="Bell MT"/>
              </a:rPr>
              <a:t>y C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Bell MT"/>
              </a:rPr>
              <a:t>Cambios mentales o conf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3880" y="1143000"/>
            <a:ext cx="5639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Bell MT"/>
              </a:rPr>
              <a:t>Diagnóstico diferencial</a:t>
            </a:r>
            <a:r>
              <a:rPr b="1" lang="es-ES" sz="26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1" lang="es-MX" sz="2600" spc="-1" strike="noStrike">
                <a:solidFill>
                  <a:srgbClr val="000000"/>
                </a:solidFill>
                <a:latin typeface="Bell MT"/>
              </a:rPr>
              <a:t>de PNA</a:t>
            </a:r>
            <a:br>
              <a:rPr sz="2600"/>
            </a:br>
            <a:r>
              <a:rPr b="1" lang="es-ES" sz="2600" spc="-1" strike="noStrike">
                <a:solidFill>
                  <a:srgbClr val="000000"/>
                </a:solidFill>
                <a:latin typeface="Bell MT"/>
              </a:rPr>
              <a:t>  </a:t>
            </a:r>
            <a:br>
              <a:rPr sz="2600"/>
            </a:br>
            <a:r>
              <a:rPr b="1" lang="es-ES" sz="2600" spc="-1" strike="noStrike">
                <a:solidFill>
                  <a:srgbClr val="000000"/>
                </a:solidFill>
                <a:latin typeface="Bell MT"/>
              </a:rPr>
              <a:t>  </a:t>
            </a:r>
            <a:br>
              <a:rPr sz="2600"/>
            </a:br>
            <a:r>
              <a:rPr b="1" lang="es-ES" sz="2600" spc="-1" strike="noStrike">
                <a:solidFill>
                  <a:srgbClr val="000000"/>
                </a:solidFill>
                <a:latin typeface="Bell MT"/>
              </a:rPr>
              <a:t>   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487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Pancreat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Cistit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Cálculos urin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Neumonía del lóbulo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Enfermedad inflamatoria de la pel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Epididimit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Absceso peri</a:t>
            </a: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rr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ll MT"/>
              </a:rPr>
              <a:t>Absceso Renal</a:t>
            </a: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Aneurisma de la aorta abdo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2133720"/>
            <a:ext cx="129528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05920" y="3352680"/>
            <a:ext cx="838080" cy="1219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33720" y="274320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MX" sz="6600" spc="-1" strike="noStrike">
                <a:solidFill>
                  <a:srgbClr val="000000"/>
                </a:solidFill>
                <a:latin typeface="Bell MT"/>
              </a:rPr>
              <a:t>Fisiopatología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457200"/>
            <a:ext cx="2577960" cy="55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aramond"/>
              </a:rPr>
              <a:t>Patógeno infecta huésp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029200" y="1752480"/>
            <a:ext cx="3111480" cy="77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Garamond"/>
                <a:ea typeface="Arial"/>
              </a:rPr>
              <a:t>Liberación de </a:t>
            </a:r>
            <a:r>
              <a:rPr b="1" lang="es-ES" sz="1500" spc="-1" strike="noStrike">
                <a:solidFill>
                  <a:srgbClr val="000000"/>
                </a:solidFill>
                <a:latin typeface="Garamond"/>
                <a:ea typeface="Arial"/>
              </a:rPr>
              <a:t>citocinas y factores quimiotácticos de neutrófilos</a:t>
            </a:r>
            <a:r>
              <a:rPr b="1" lang="es-ES" sz="15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1219320"/>
            <a:ext cx="25779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Garamond"/>
              </a:rPr>
              <a:t>Daño parénquima re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65840" y="2562120"/>
            <a:ext cx="1955520" cy="77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aramond"/>
              </a:rPr>
              <a:t>Citoquinas inflamatorias (IL-1, TNF-</a:t>
            </a:r>
            <a:r>
              <a:rPr b="1" lang="el-GR" sz="1500" spc="-1" strike="noStrike">
                <a:solidFill>
                  <a:srgbClr val="000000"/>
                </a:solidFill>
                <a:latin typeface="Garamond"/>
                <a:ea typeface="Arial"/>
              </a:rPr>
              <a:t>α</a:t>
            </a:r>
            <a:r>
              <a:rPr b="1" lang="es-ES_tradnl" sz="1500" spc="-1" strike="noStrike">
                <a:solidFill>
                  <a:srgbClr val="000000"/>
                </a:solidFill>
                <a:latin typeface="Garamond"/>
                <a:ea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62320" y="1752480"/>
            <a:ext cx="2044440" cy="55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Garamond"/>
              </a:rPr>
              <a:t>Infiltración de Neutrofil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781680" y="5105520"/>
            <a:ext cx="2044800" cy="77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aramond"/>
              </a:rPr>
              <a:t>Edema inflamatorio y dol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52680" y="3200400"/>
            <a:ext cx="1333800" cy="32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aramond"/>
              </a:rPr>
              <a:t>FIEB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188120" y="4038480"/>
            <a:ext cx="1955880" cy="77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aramond"/>
              </a:rPr>
              <a:t>Formación de exudado inflamator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736880" y="3124080"/>
            <a:ext cx="215640" cy="1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29600" y="4648320"/>
            <a:ext cx="144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188120" y="2819520"/>
            <a:ext cx="1955880" cy="77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aramond"/>
              </a:rPr>
              <a:t>Aumento permeabilidad de vas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153280" y="3581280"/>
            <a:ext cx="18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50800" y="3781440"/>
            <a:ext cx="2017800" cy="32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Garamond"/>
              </a:rPr>
              <a:t>Bactere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2755800" cy="32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Garamond"/>
              </a:rPr>
              <a:t>Vía Hematóge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457200"/>
            <a:ext cx="2755800" cy="32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Garamond"/>
              </a:rPr>
              <a:t>Vía Ascenden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914400"/>
            <a:ext cx="2755800" cy="32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Garamond"/>
              </a:rPr>
              <a:t>Vía Linfát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76720" y="2514600"/>
            <a:ext cx="1218960" cy="55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aramond"/>
              </a:rPr>
              <a:t>Macrófag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1905120" y="2133720"/>
            <a:ext cx="44424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2133720"/>
            <a:ext cx="1778040" cy="123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Garamond"/>
                <a:ea typeface="Times New Roman"/>
              </a:rPr>
              <a:t>producción de radicales libres de oxígeno y la liberación de proteasa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934320" y="3124080"/>
            <a:ext cx="26676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301920" y="3552480"/>
            <a:ext cx="2667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38680" y="6095880"/>
            <a:ext cx="1524240" cy="55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aramond"/>
              </a:rPr>
              <a:t>Dolor Lumb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552720" y="5791320"/>
            <a:ext cx="2667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5105520"/>
            <a:ext cx="2222640" cy="32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aramond"/>
              </a:rPr>
              <a:t>Irritación vesic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6172200" y="533412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5562720"/>
            <a:ext cx="1600200" cy="32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aramond"/>
              </a:rPr>
              <a:t>Polaquiu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81080" y="4572000"/>
            <a:ext cx="1422360" cy="32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aramond"/>
              </a:rPr>
              <a:t>Disu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28800" y="4952880"/>
            <a:ext cx="1422360" cy="55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aramond"/>
              </a:rPr>
              <a:t>Tenesmo vesic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"/>
          <p:cNvCxnSpPr>
            <a:stCxn id="335" idx="0"/>
            <a:endCxn id="319" idx="1"/>
          </p:cNvCxnSpPr>
          <p:nvPr/>
        </p:nvCxnSpPr>
        <p:spPr>
          <a:xfrm flipH="1" flipV="1" rot="5400000">
            <a:off x="1682280" y="615240"/>
            <a:ext cx="724680" cy="2312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6" name=""/>
          <p:cNvCxnSpPr>
            <a:stCxn id="330" idx="3"/>
            <a:endCxn id="317" idx="1"/>
          </p:cNvCxnSpPr>
          <p:nvPr/>
        </p:nvCxnSpPr>
        <p:spPr>
          <a:xfrm>
            <a:off x="2755440" y="166680"/>
            <a:ext cx="5216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31" idx="3"/>
            <a:endCxn id="317" idx="1"/>
          </p:cNvCxnSpPr>
          <p:nvPr/>
        </p:nvCxnSpPr>
        <p:spPr>
          <a:xfrm>
            <a:off x="2755440" y="623520"/>
            <a:ext cx="52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32" idx="3"/>
            <a:endCxn id="317" idx="1"/>
          </p:cNvCxnSpPr>
          <p:nvPr/>
        </p:nvCxnSpPr>
        <p:spPr>
          <a:xfrm flipV="1">
            <a:off x="2755440" y="623520"/>
            <a:ext cx="5216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17" idx="2"/>
            <a:endCxn id="319" idx="0"/>
          </p:cNvCxnSpPr>
          <p:nvPr/>
        </p:nvCxnSpPr>
        <p:spPr>
          <a:xfrm flipH="1">
            <a:off x="4488840" y="790200"/>
            <a:ext cx="766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19" idx="3"/>
            <a:endCxn id="318" idx="0"/>
          </p:cNvCxnSpPr>
          <p:nvPr/>
        </p:nvCxnSpPr>
        <p:spPr>
          <a:xfrm>
            <a:off x="5778000" y="1409760"/>
            <a:ext cx="80748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18" idx="1"/>
            <a:endCxn id="321" idx="3"/>
          </p:cNvCxnSpPr>
          <p:nvPr/>
        </p:nvCxnSpPr>
        <p:spPr>
          <a:xfrm flipH="1">
            <a:off x="4406040" y="2033280"/>
            <a:ext cx="623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18" idx="1"/>
            <a:endCxn id="333" idx="3"/>
          </p:cNvCxnSpPr>
          <p:nvPr/>
        </p:nvCxnSpPr>
        <p:spPr>
          <a:xfrm flipV="1" rot="10800000">
            <a:off x="4494960" y="2032560"/>
            <a:ext cx="534240" cy="64836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33" idx="2"/>
            <a:endCxn id="320" idx="1"/>
          </p:cNvCxnSpPr>
          <p:nvPr/>
        </p:nvCxnSpPr>
        <p:spPr>
          <a:xfrm flipH="1" rot="16200000">
            <a:off x="4370400" y="2362680"/>
            <a:ext cx="110160" cy="1080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18" idx="2"/>
            <a:endCxn id="320" idx="0"/>
          </p:cNvCxnSpPr>
          <p:nvPr/>
        </p:nvCxnSpPr>
        <p:spPr>
          <a:xfrm rot="5400000">
            <a:off x="6139800" y="2117520"/>
            <a:ext cx="248400" cy="642240"/>
          </a:xfrm>
          <a:prstGeom prst="bentConnector3">
            <a:avLst>
              <a:gd name="adj1" fmla="val 49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18" idx="2"/>
            <a:endCxn id="327" idx="0"/>
          </p:cNvCxnSpPr>
          <p:nvPr/>
        </p:nvCxnSpPr>
        <p:spPr>
          <a:xfrm flipH="1" rot="16200000">
            <a:off x="7122960" y="1775880"/>
            <a:ext cx="505800" cy="1581840"/>
          </a:xfrm>
          <a:prstGeom prst="bentConnector3">
            <a:avLst>
              <a:gd name="adj1" fmla="val 301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 flipH="1" flipV="1">
            <a:off x="3429000" y="4800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27636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580920" y="5257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a Clí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amnesis próx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amnesis rem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amen físico general y segmen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ipótesis diagnó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damento de la H.D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ámenes de labor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umen afección 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isiopatología ( diagrama de flujo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94920" y="3200400"/>
            <a:ext cx="62960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Bell MT"/>
              </a:rPr>
              <a:t>¿Dudas?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382080" y="201600"/>
            <a:ext cx="2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 famili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ónyu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IPERTENSION AR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IABETES MELLI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RDIOPAT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PILEP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LCOHO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NAL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ERG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iment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ár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a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CU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 Inmun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amnesis Remo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tecedentes mórbidos de importa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áb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ineco-obstét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cio-económico-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tecedentes famili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erg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cu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1:53:46Z</dcterms:created>
  <dc:creator>Esteban</dc:creator>
  <dc:description/>
  <dc:language>en-US</dc:language>
  <cp:lastModifiedBy>Esteban</cp:lastModifiedBy>
  <dcterms:modified xsi:type="dcterms:W3CDTF">2008-03-14T02:43:42Z</dcterms:modified>
  <cp:revision>8</cp:revision>
  <dc:subject/>
  <dc:title>Seminario Clínico</dc:title>
</cp:coreProperties>
</file>