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3.png" ContentType="image/png"/>
  <Override PartName="/ppt/media/image12.jpeg" ContentType="image/jpeg"/>
  <Override PartName="/ppt/media/image6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813-F6E6-4DDB-B734-D4E549A4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3B6-2C15-499F-828A-24A75331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F6B-3289-4E09-9F7A-E5893404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FFC-3223-4D5D-8E11-7F293C2B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5F10-714B-4E36-A1EB-38B1857B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0F62-2F36-4DBF-A09D-20582D60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1BE5-C3BA-42A4-921D-494690B7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E4A9-A841-41F3-87EE-C85803D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C873-4175-43B5-8D35-F8AE218F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EF8F-4E86-47AC-96FF-1795E58C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5912-93CE-47DE-B484-851381D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B06-6AA5-417E-B883-57DD3161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AD60-F57F-4A95-A7A0-549806C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5395-BE27-4FED-979F-9DE6FE5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8561-AA0F-48C0-BEA9-CC4B6EE5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1CD6-AB9D-4D42-BA50-A7A7F185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9BDB-88B4-4DD9-BF96-CA2AD309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6F9-A0BE-4C98-AED8-2137F43F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521-9E23-46B4-BE4B-4F327730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803-4853-44E0-8BF3-1E4FFB2F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AC6-1A1A-4EF8-B111-112559F2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F50-3715-4C80-BCD2-61FC6256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8DD-D60B-4E30-9109-D5275B1C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EB2-1DFF-4075-A636-9082AF0B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ED0D-F247-4116-9F14-C127E1159D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B99F-9FCB-4177-9C44-2E5E3B496C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22440" y="42228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EUKINE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danza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29200" cy="441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6680" y="236232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13372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41008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1905120"/>
            <a:ext cx="74678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favorece la sensación y expresión de flujos temporales inn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está centrada en el placer del mov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música, ritmos y melodías: Ancestrales, Indígenas, Cadencios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33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RÍT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429000" y="1523880"/>
            <a:ext cx="541008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la coordinación inconsciente, favoreciendo la espontaneidad instintiva y la crea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se vincula a historias disminuyendo el estrés y la autoexig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 a través de: historia, situaciones imaginarias, música, etc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5335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MOTIV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hadas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30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2057400"/>
            <a:ext cx="4800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conducida intelect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124080"/>
            <a:ext cx="7696080" cy="4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está puesta en el problema o activ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4114800"/>
            <a:ext cx="7391160" cy="17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siste en la verbalización de a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sesiones estructuradas, secuenciadas progresivamente y  con dirección o  supervisión constan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609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CON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228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POR IMITACIÓN KINÉ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828800"/>
            <a:ext cx="4038480" cy="43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la imitación de un mod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está centrada en copiar o seguir al mod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sesiones con demostración constant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taichi" descr=""/>
          <p:cNvPicPr/>
          <p:nvPr/>
        </p:nvPicPr>
        <p:blipFill>
          <a:blip r:embed="rId1"/>
          <a:stretch/>
        </p:blipFill>
        <p:spPr>
          <a:xfrm>
            <a:off x="4979880" y="2133720"/>
            <a:ext cx="37832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" y="136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71600" y="907920"/>
            <a:ext cx="6400440" cy="5950080"/>
            <a:chOff x="1371600" y="907920"/>
            <a:chExt cx="6400440" cy="5950080"/>
          </a:xfrm>
        </p:grpSpPr>
        <p:grpSp>
          <p:nvGrpSpPr>
            <p:cNvPr id="90" name=""/>
            <p:cNvGrpSpPr/>
            <p:nvPr/>
          </p:nvGrpSpPr>
          <p:grpSpPr>
            <a:xfrm>
              <a:off x="1377000" y="912600"/>
              <a:ext cx="6388920" cy="5940360"/>
              <a:chOff x="1377000" y="912600"/>
              <a:chExt cx="6388920" cy="594036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1377000" y="912600"/>
                <a:ext cx="1045800" cy="822240"/>
                <a:chOff x="1377000" y="912600"/>
                <a:chExt cx="1045800" cy="8222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428480" y="912600"/>
                  <a:ext cx="9424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Arial"/>
                    </a:rPr>
                    <a:t>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377000" y="912600"/>
                  <a:ext cx="104580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423160" y="912600"/>
                <a:ext cx="1571040" cy="822240"/>
                <a:chOff x="2423160" y="912600"/>
                <a:chExt cx="1571040" cy="8222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474640" y="912600"/>
                  <a:ext cx="14680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Arial"/>
                    </a:rPr>
                    <a:t>ESPAC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423160" y="912600"/>
                  <a:ext cx="157104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94560" y="912600"/>
                <a:ext cx="1256760" cy="822240"/>
                <a:chOff x="3994560" y="912600"/>
                <a:chExt cx="1256760" cy="8222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046400" y="912600"/>
                  <a:ext cx="11530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Arial"/>
                    </a:rPr>
                    <a:t>TIEMP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94560" y="912600"/>
                  <a:ext cx="125676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252040" y="912600"/>
                <a:ext cx="2513880" cy="822240"/>
                <a:chOff x="5252040" y="912600"/>
                <a:chExt cx="2513880" cy="822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303520" y="912600"/>
                  <a:ext cx="241092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Times New Roman"/>
                      <a:ea typeface="Arial"/>
                    </a:rPr>
                    <a:t>EJEMPL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252040" y="912600"/>
                  <a:ext cx="25138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377000" y="1734840"/>
                <a:ext cx="1045800" cy="639720"/>
                <a:chOff x="1377000" y="1734840"/>
                <a:chExt cx="104580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428480" y="173484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377000" y="173484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423160" y="1734840"/>
                <a:ext cx="1571040" cy="639720"/>
                <a:chOff x="2423160" y="1734840"/>
                <a:chExt cx="157104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74640" y="173484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423160" y="173484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994560" y="1734840"/>
                <a:ext cx="1256760" cy="639720"/>
                <a:chOff x="3994560" y="1734840"/>
                <a:chExt cx="125676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046400" y="173484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94560" y="173484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252040" y="1734840"/>
                <a:ext cx="2513880" cy="639720"/>
                <a:chOff x="5252040" y="1734840"/>
                <a:chExt cx="251388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303520" y="173484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lanear, Flui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52040" y="173484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377000" y="2374560"/>
                <a:ext cx="1045800" cy="640080"/>
                <a:chOff x="1377000" y="2374560"/>
                <a:chExt cx="1045800" cy="6400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428480" y="2374560"/>
                  <a:ext cx="9424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377000" y="2374560"/>
                  <a:ext cx="104580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423160" y="2374560"/>
                <a:ext cx="1571040" cy="640080"/>
                <a:chOff x="2423160" y="2374560"/>
                <a:chExt cx="1571040" cy="6400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474640" y="2374560"/>
                  <a:ext cx="14680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23160" y="2374560"/>
                  <a:ext cx="157104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94560" y="2374560"/>
                <a:ext cx="1256760" cy="640080"/>
                <a:chOff x="3994560" y="2374560"/>
                <a:chExt cx="1256760" cy="6400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046400" y="2374560"/>
                  <a:ext cx="11530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94560" y="2374560"/>
                  <a:ext cx="125676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252040" y="2374560"/>
                <a:ext cx="2513880" cy="640080"/>
                <a:chOff x="5252040" y="2374560"/>
                <a:chExt cx="2513880" cy="6400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303520" y="2374560"/>
                  <a:ext cx="241092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uspenderse de Pie, Flot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52040" y="2374560"/>
                  <a:ext cx="25138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377000" y="3014640"/>
                <a:ext cx="1045800" cy="639720"/>
                <a:chOff x="1377000" y="3014640"/>
                <a:chExt cx="10458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428480" y="301464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77000" y="301464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423160" y="3014640"/>
                <a:ext cx="1571040" cy="639720"/>
                <a:chOff x="2423160" y="3014640"/>
                <a:chExt cx="157104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4640" y="301464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23160" y="301464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4560" y="3014640"/>
                <a:ext cx="1256760" cy="639720"/>
                <a:chOff x="3994560" y="3014640"/>
                <a:chExt cx="125676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046400" y="301464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94560" y="301464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252040" y="3014640"/>
                <a:ext cx="2513880" cy="639720"/>
                <a:chOff x="5252040" y="3014640"/>
                <a:chExt cx="251388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303520" y="301464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ambolearse, Palp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252040" y="301464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377000" y="3654360"/>
                <a:ext cx="1045800" cy="639720"/>
                <a:chOff x="1377000" y="3654360"/>
                <a:chExt cx="104580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428480" y="365436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377000" y="365436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423160" y="3654360"/>
                <a:ext cx="1571040" cy="639720"/>
                <a:chOff x="2423160" y="3654360"/>
                <a:chExt cx="157104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474640" y="365436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423160" y="365436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4560" y="3654360"/>
                <a:ext cx="1256760" cy="639720"/>
                <a:chOff x="3994560" y="3654360"/>
                <a:chExt cx="125676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046400" y="365436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94560" y="365436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252040" y="3654360"/>
                <a:ext cx="2513880" cy="639720"/>
                <a:chOff x="5252040" y="3654360"/>
                <a:chExt cx="251388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03520" y="365436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evolotear, Sacudi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52040" y="365436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377000" y="4294080"/>
                <a:ext cx="1045800" cy="639720"/>
                <a:chOff x="1377000" y="4294080"/>
                <a:chExt cx="104580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428480" y="429408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377000" y="429408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423160" y="4294080"/>
                <a:ext cx="1571040" cy="639720"/>
                <a:chOff x="2423160" y="4294080"/>
                <a:chExt cx="157104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474640" y="429408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3160" y="429408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994560" y="4294080"/>
                <a:ext cx="1256760" cy="639720"/>
                <a:chOff x="3994560" y="4294080"/>
                <a:chExt cx="125676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046400" y="429408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94560" y="429408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252040" y="4294080"/>
                <a:ext cx="2513880" cy="639720"/>
                <a:chOff x="5252040" y="4294080"/>
                <a:chExt cx="25138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303520" y="429408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acudirse, Golpe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252040" y="429408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377000" y="4933800"/>
                <a:ext cx="1045800" cy="639720"/>
                <a:chOff x="1377000" y="4933800"/>
                <a:chExt cx="104580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428480" y="493380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377000" y="493380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423160" y="4933800"/>
                <a:ext cx="1571040" cy="639720"/>
                <a:chOff x="2423160" y="4933800"/>
                <a:chExt cx="157104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474640" y="493380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23160" y="493380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94560" y="4933800"/>
                <a:ext cx="1256760" cy="639720"/>
                <a:chOff x="3994560" y="4933800"/>
                <a:chExt cx="125676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046400" y="493380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94560" y="493380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252040" y="4933800"/>
                <a:ext cx="2513880" cy="639720"/>
                <a:chOff x="5252040" y="4933800"/>
                <a:chExt cx="251388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303520" y="493380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cutir, Latigue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252040" y="493380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377000" y="5573520"/>
                <a:ext cx="1045800" cy="639720"/>
                <a:chOff x="1377000" y="5573520"/>
                <a:chExt cx="10458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428480" y="557352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377000" y="557352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423160" y="5573520"/>
                <a:ext cx="1571040" cy="639720"/>
                <a:chOff x="2423160" y="5573520"/>
                <a:chExt cx="157104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474640" y="557352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423160" y="557352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994560" y="5573520"/>
                <a:ext cx="1256760" cy="639720"/>
                <a:chOff x="3994560" y="5573520"/>
                <a:chExt cx="125676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46400" y="557352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94560" y="557352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252040" y="5573520"/>
                <a:ext cx="2513880" cy="639720"/>
                <a:chOff x="5252040" y="5573520"/>
                <a:chExt cx="251388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303520" y="557352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Empujar, Presion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252040" y="557352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377000" y="6213240"/>
                <a:ext cx="1045800" cy="639720"/>
                <a:chOff x="1377000" y="6213240"/>
                <a:chExt cx="104580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428480" y="621324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377000" y="621324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423160" y="6213240"/>
                <a:ext cx="1571040" cy="639720"/>
                <a:chOff x="2423160" y="6213240"/>
                <a:chExt cx="15710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474640" y="621324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23160" y="621324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994560" y="6213240"/>
                <a:ext cx="1256760" cy="639720"/>
                <a:chOff x="3994560" y="6213240"/>
                <a:chExt cx="125676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046400" y="621324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994560" y="621324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252040" y="6213240"/>
                <a:ext cx="2513880" cy="639720"/>
                <a:chOff x="5252040" y="6213240"/>
                <a:chExt cx="25138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303520" y="621324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Tren, Torc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52040" y="621324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1371600" y="907920"/>
              <a:ext cx="6400440" cy="5950080"/>
            </a:xfrm>
            <a:prstGeom prst="rect">
              <a:avLst/>
            </a:prstGeom>
            <a:noFill/>
            <a:ln w="64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40160" y="228600"/>
            <a:ext cx="4368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SPACIO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1828800"/>
            <a:ext cx="2743200" cy="4289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men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ogn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Mo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florsola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500200" cy="29653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203" name="hojasjuntas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2286000" cy="259092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914400"/>
            <a:ext cx="5181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J.  PIAGET: Socialización  del 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7524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Adquisición Derecha - Izquier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743200"/>
            <a:ext cx="7848720" cy="26845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imera Etapa         5-8 años           Desde 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gunda Etapa        8-11 años          Desde los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rcera Etapa         11-12 años        Desde los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04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PERSPECTIVA COGN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445480" y="53352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PERSPECTIVA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4114800"/>
            <a:ext cx="7467480" cy="13816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de seguridad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individual en donde se mantiene el limite con el o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828800"/>
            <a:ext cx="7391160" cy="4597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ctitud Corpor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  Central   o Perif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666880"/>
            <a:ext cx="7391520" cy="11912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Soci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:                                                           Espacio en donde se da                                                      la interacción con el o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1341720" cy="136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477120" y="5181480"/>
            <a:ext cx="137160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45480" y="5335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PERSPECTIVA MO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523880"/>
            <a:ext cx="8001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pers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 ocupado por el propio cuerpo en diferentes posiciones: Espacio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Par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que se puede alcanzar con los segmentos corporales sin desplazamiento: diferentes posiciones y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Total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abarcado por los diferentes desplazamientos: trayectorias, formación de figuras y cambios de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09680" y="380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99"/>
                </a:solidFill>
                <a:latin typeface="Times New Roman"/>
              </a:rPr>
              <a:t>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arboldeabajo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858000" cy="4648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080" y="2057400"/>
            <a:ext cx="1752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s 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243828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tilidad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fotball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3649680" cy="4762440"/>
          </a:xfrm>
          <a:prstGeom prst="rect">
            <a:avLst/>
          </a:prstGeom>
          <a:ln w="0">
            <a:noFill/>
          </a:ln>
        </p:spPr>
      </p:pic>
      <p:pic>
        <p:nvPicPr>
          <p:cNvPr id="221" name="tomarmovil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3048120" cy="2646360"/>
          </a:xfrm>
          <a:prstGeom prst="rect">
            <a:avLst/>
          </a:prstGeom>
          <a:ln w="0">
            <a:noFill/>
          </a:ln>
        </p:spPr>
      </p:pic>
      <p:pic>
        <p:nvPicPr>
          <p:cNvPr id="222" name="ejerc_playa4" descr=""/>
          <p:cNvPicPr/>
          <p:nvPr/>
        </p:nvPicPr>
        <p:blipFill>
          <a:blip r:embed="rId3"/>
          <a:stretch/>
        </p:blipFill>
        <p:spPr>
          <a:xfrm>
            <a:off x="1676520" y="3352680"/>
            <a:ext cx="25444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1752480"/>
            <a:ext cx="586728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 en actividades cotidianas y en el proceso de desarrollo psicomo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actividades que foment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de partes semej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por contra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ón Cuerpo-Espa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rpo-Vis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57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 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reflejomarcha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981440" cy="2639880"/>
          </a:xfrm>
          <a:prstGeom prst="rect">
            <a:avLst/>
          </a:prstGeom>
          <a:ln w="0">
            <a:noFill/>
          </a:ln>
        </p:spPr>
      </p:pic>
      <p:pic>
        <p:nvPicPr>
          <p:cNvPr id="226" name="depie10" descr=""/>
          <p:cNvPicPr/>
          <p:nvPr/>
        </p:nvPicPr>
        <p:blipFill>
          <a:blip r:embed="rId2"/>
          <a:stretch/>
        </p:blipFill>
        <p:spPr>
          <a:xfrm>
            <a:off x="6934320" y="3962520"/>
            <a:ext cx="17748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20:42:26Z</dcterms:created>
  <dc:creator>UNIVERSIDAD DE CHILE</dc:creator>
  <dc:description/>
  <dc:language>en-US</dc:language>
  <cp:lastModifiedBy>terapia</cp:lastModifiedBy>
  <dcterms:modified xsi:type="dcterms:W3CDTF">2006-06-20T13:34:01Z</dcterms:modified>
  <cp:revision>15</cp:revision>
  <dc:subject/>
  <dc:title>Sin título de diapositiva</dc:title>
</cp:coreProperties>
</file>