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845978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520" y="685440"/>
            <a:ext cx="44769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30D5-CD16-4288-8895-B76EDA9A19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90520" y="685800"/>
            <a:ext cx="447696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- encuentro con el “sí mismo” a partir de las connotaciones afectivas y cognitivas, de lo concreto que lo rodea (la corporalidad, lo sensorial, las actividades que desarrol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ploración de las actividades relacionadas. A partir de estas connotaciones, reconocer las actividades que están en sintonía con su propio biene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dificación de la Rutina, incorporando aquellas actividades factibles, participando activamente en el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2D7-6792-4EE5-ABCF-5CD111BF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3720" y="3745080"/>
            <a:ext cx="761544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20A-4F6C-486A-A8E5-1ACA11E7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37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261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D6E-B720-46F1-9CFD-44C4181C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8800" y="15112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73520" y="15112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3720" y="37450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8800" y="37450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73520" y="3745080"/>
            <a:ext cx="245196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BCF-5141-4836-BB38-D7ECB1AB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D01-B264-4487-A858-52EC7201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5C8-C660-4FE8-8055-384FC831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A3E-9ADA-4252-9E6E-21061C97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ABC-5ED2-4EDE-BEB5-655FFC64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3720" y="258480"/>
            <a:ext cx="7615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7E5-5BE6-483E-A01B-670A0C1F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37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435-4F1C-4FD6-AFEF-3820B21B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26120" y="37450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FB1-A779-40EB-BB2D-6C2F1F31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26120" y="1511280"/>
            <a:ext cx="371628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3720" y="3745080"/>
            <a:ext cx="7615440" cy="203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BB6-BDBD-4FF2-AA66-B827B38A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66680" indent="-212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20960" indent="-2127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20960" indent="-2127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20960" indent="-2127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3720" y="5900760"/>
            <a:ext cx="1973520" cy="45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0800" y="5900760"/>
            <a:ext cx="2679840" cy="45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64200" y="5900760"/>
            <a:ext cx="1974960" cy="45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fld id="{34D6137A-6613-40A8-9AF7-A6648C16602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2880" y="1674360"/>
            <a:ext cx="7191720" cy="1389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ctividades de la vida Diaria y Discapacidad Psíquic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32080" y="4124160"/>
            <a:ext cx="5922720" cy="165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ura Rueda 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Juego y recre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800360"/>
            <a:ext cx="7615080" cy="30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aboración de rutina: diaria, semanal, mensual, an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ción e identificación de inter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ción de actividades recrea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oyo de terapia ocup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85640" y="863640"/>
            <a:ext cx="7615440" cy="2881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áb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t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rón de idiosincr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lo de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90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7640" y="4464000"/>
            <a:ext cx="633564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dios y fines terapéu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5040" y="576360"/>
            <a:ext cx="7191360" cy="79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yudas Técnica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4360" y="1800000"/>
            <a:ext cx="7272360" cy="4103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ente facili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cofár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oyo para la comunicación, información y señ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oyo económico para mejorar del entor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eso actividades de tiempo lib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000" y="1800000"/>
            <a:ext cx="7615080" cy="2376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ntervención en situaciones de desequilibrio ocupacional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esequilibrio Ocupaciona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3360" y="1511280"/>
            <a:ext cx="37306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Intervención de Terapia Ocupacional considera principalmente el grado de satisfacción de la persona con su actual estilo de v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02240" y="1295280"/>
          <a:ext cx="2770200" cy="41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2240" y="1295280"/>
                    <a:ext cx="2770200" cy="41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61508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strategias de Evalu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6705720" cy="2743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n la historia de vi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s ambientales que condicionan la problemática actual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ituación contextual de la pers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615080" cy="807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Mecanismos de desempeño: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294480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decu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14360" y="1871640"/>
            <a:ext cx="4392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rograma de Interven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3080" y="1295280"/>
            <a:ext cx="2950920" cy="1938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06680" y="1511280"/>
            <a:ext cx="373212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mente nos enfrentamos a excesiva dedicación a la productividad, o bien excesivo tiempo libre, que lleva a un mal uso de és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27080" y="3527280"/>
            <a:ext cx="21085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3360" y="1511280"/>
            <a:ext cx="37306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área de las AVD, se configura como un regulador que favorece el equilibrio y recupera la satisf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62360" y="1727280"/>
            <a:ext cx="3313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ropósi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391520" cy="4276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 se  genere un queha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ás conciente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825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egido intrínsecamente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825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6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valorado dentro de la rutina diaria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Marco conceptual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2879280"/>
            <a:ext cx="7632720" cy="2233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AVD como expresión pragmática 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lidades psicomo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s 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360" y="4032360"/>
            <a:ext cx="7777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000" y="3887640"/>
            <a:ext cx="792144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640" y="3745080"/>
            <a:ext cx="18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360" y="1727280"/>
            <a:ext cx="785016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AVD y la satisfacción de las necesidades bá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6000" y="4968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AVD y las categorí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acio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tapas de la Interven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3360" y="1511280"/>
            <a:ext cx="373068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 encuentro con el “sí mismo”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ación de las actividades relacionad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icación de la ru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49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26000" y="1511280"/>
            <a:ext cx="2033640" cy="1947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78360" y="3745080"/>
            <a:ext cx="1382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ntrenamiento de AV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730680" cy="275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74000"/>
          </a:bodyPr>
          <a:p>
            <a:pPr marL="23724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mediación entre el sujeto y el Contexto de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 del T.O. Mantener Estado de flujo: Aprendizaje significativo, procur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ビクトル・マリオ・パス（左）　Victor Mario Paz"/>
          <p:cNvPicPr/>
          <p:nvPr/>
        </p:nvPicPr>
        <p:blipFill>
          <a:blip r:embed="rId1"/>
          <a:stretch/>
        </p:blipFill>
        <p:spPr>
          <a:xfrm>
            <a:off x="4267080" y="2133720"/>
            <a:ext cx="3745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353880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1640" y="533160"/>
            <a:ext cx="350532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 se Fortalezca un comportamiento satisfactor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 se Mantenga un comportami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24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Que se Suprima un comportamiento estres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ある朝の練習　　Ensayo con Lucas y Repo"/>
          <p:cNvPicPr/>
          <p:nvPr/>
        </p:nvPicPr>
        <p:blipFill>
          <a:blip r:embed="rId1"/>
          <a:stretch/>
        </p:blipFill>
        <p:spPr>
          <a:xfrm>
            <a:off x="380880" y="1752480"/>
            <a:ext cx="41547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Reeducación de las AVD, en Discapacidad mayo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9640" y="1726920"/>
            <a:ext cx="7615080" cy="3484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ás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o y presentación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men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idado de perten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ontexto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58436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ipo profes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ones oper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ertorio Inicial de apoy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umbres y usos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ursos disponi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stemas de Evalu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ación del repertorio inicial de apoy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ención vis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uimiento de instruc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stemas de Evalu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ación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ínea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ción  grupo de usu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ción lugar físi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osición de mate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ción de instruc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ción y Regis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VD Instrumentales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encias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ejo de presupues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tilización de servicios públ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o adecuado del tiempo li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bilidades labor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spectos registrabl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2015640"/>
            <a:ext cx="7615440" cy="302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imientos estandariz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 Indic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ción de Indic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ección de infor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3720" y="258480"/>
            <a:ext cx="7615440" cy="10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Habilidades Laboral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3720" y="1511280"/>
            <a:ext cx="7615440" cy="4276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encias sociolaborales bás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istencia volunta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ntu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anencia en l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ción de t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etencias laborales específ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1:00:28Z</dcterms:created>
  <dc:creator>Laura Rueda C</dc:creator>
  <dc:description/>
  <dc:language>en-US</dc:language>
  <cp:lastModifiedBy>Fac. de Medicina</cp:lastModifiedBy>
  <dcterms:modified xsi:type="dcterms:W3CDTF">2007-06-08T15:57:09Z</dcterms:modified>
  <cp:revision>39</cp:revision>
  <dc:subject/>
  <dc:title>Actividades de la vida Diaria y Discapacidad Psíquica</dc:title>
</cp:coreProperties>
</file>