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84597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520" y="685440"/>
            <a:ext cx="4476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C522-E711-4BAD-BBA7-60FA36039B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685800"/>
            <a:ext cx="447696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- encuentro con el “sí mismo” a partir de las connotaciones afectivas y cognitivas, de lo concreto que lo rodea (la corporalidad, lo sensorial, las actividades que desarro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oración de las actividades relacionadas. A partir de estas connotaciones, reconocer las actividades que están en sintonía con su propio biene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ción de la Rutina, incorporando aquellas actividades factibles, participando activamente en e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50D-4C85-4E43-876E-15954D6D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3C4-F633-4566-8E2A-39176E5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847-B17E-4DA9-A2B5-383C0D2B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880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35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7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880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35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49D-3781-4D83-8AE8-C42CD0E0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E83-2568-49B6-A4E6-E9AE625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168-D5C0-405C-96F7-FBD4FC4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277-3937-4110-853E-BCCA212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896-065E-4E74-900A-F4ED652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3720" y="258480"/>
            <a:ext cx="761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402-E28E-46DA-8E47-99CBA603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251-C394-4FC9-86C2-9773118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278-BC77-4482-9D7F-306637F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FE7-0050-467D-9B49-D42AA94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6680" indent="-212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3720" y="5900760"/>
            <a:ext cx="197352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0800" y="5900760"/>
            <a:ext cx="267984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64200" y="5900760"/>
            <a:ext cx="197496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fld id="{A4D16276-EC28-4AEB-BAD9-A1038EC0DE8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880" y="1674360"/>
            <a:ext cx="7191720" cy="1389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ctividades de la vida Diaria y Discapacidad Psíquic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2080" y="4124160"/>
            <a:ext cx="5922720" cy="165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Juego y recre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800360"/>
            <a:ext cx="7615080" cy="30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aboración de rutina: diaria, semanal, mensual, an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ción e identificación de inter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de actividades recre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yo de terapia ocup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640" y="863640"/>
            <a:ext cx="7615440" cy="2881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ón de idiosincr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lo de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90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464000"/>
            <a:ext cx="63356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os y fines terapéu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5040" y="576360"/>
            <a:ext cx="7191360" cy="79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yudas Técnic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360" y="1800000"/>
            <a:ext cx="7272360" cy="4103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facil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co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para la comunicación, información y señ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económico para mejorar del ento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o actividades de tiempo lib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7615080" cy="23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ntervención en situaciones de desequilibrio ocupacional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sequilibrio Ocupaciona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tervención de Terapia Ocupacional considera principalmente el grado de satisfacción de la persona con su actual estilo de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02240" y="1295280"/>
          <a:ext cx="277020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1295280"/>
                    <a:ext cx="277020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1508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strategi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n la historia de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ambientales que condicionan la problemática actu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ituación contextual de l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615080" cy="80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ecanismos de desempeño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294480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decu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360" y="1871640"/>
            <a:ext cx="439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grama de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3080" y="1295280"/>
            <a:ext cx="2950920" cy="1938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06680" y="1511280"/>
            <a:ext cx="373212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mente nos enfrentamos a excesiva dedicación a la productividad, o bien excesivo tiempo libre, que lleva a un mal uso de é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27080" y="3527280"/>
            <a:ext cx="2108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área de las AVD, se configura como un regulador que favorece el equilibrio y recupera la satisf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62360" y="172728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91520" cy="427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se  genere un que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ás conci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gido intrínseca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alorado dentro de la rutina diari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arco conceptual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2879280"/>
            <a:ext cx="7632720" cy="223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como expresión pragmática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psi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 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360" y="4032360"/>
            <a:ext cx="777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00" y="3887640"/>
            <a:ext cx="79214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374508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1727280"/>
            <a:ext cx="78501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 satisfacción de las necesidade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6000" y="4968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s categorí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tapas de la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 encuentro con el “sí mismo”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ación de las actividades relacion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ción de la ru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26000" y="1511280"/>
            <a:ext cx="2033640" cy="19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8360" y="3745080"/>
            <a:ext cx="1382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ntrenamiento de AV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730680" cy="275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4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ación entre el sujeto y el Contexto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 del T.O. Mantener Estado de flujo: Aprendizaje significativo, procur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ビクトル・マリオ・パス（左）　Victor Mario Paz"/>
          <p:cNvPicPr/>
          <p:nvPr/>
        </p:nvPicPr>
        <p:blipFill>
          <a:blip r:embed="rId1"/>
          <a:stretch/>
        </p:blipFill>
        <p:spPr>
          <a:xfrm>
            <a:off x="4267080" y="2133720"/>
            <a:ext cx="3745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353880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5331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Fortalezca un comportamiento satisfactor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Mantenga un comportami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Que se Suprima un comportamiento estres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ある朝の練習　　Ensayo con Lucas y Repo"/>
          <p:cNvPicPr/>
          <p:nvPr/>
        </p:nvPicPr>
        <p:blipFill>
          <a:blip r:embed="rId1"/>
          <a:stretch/>
        </p:blipFill>
        <p:spPr>
          <a:xfrm>
            <a:off x="380880" y="1752480"/>
            <a:ext cx="41547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educación de las AVD, en Discapacidad may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9640" y="1726920"/>
            <a:ext cx="7615080" cy="3484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o y presentación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dado de perten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8436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o profe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ones oper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rtorio Inicial de ap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umbres y uso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rsos disponi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l repertorio inicial de apoy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ención vis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uimiento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ción  grupo de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lugar fís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osición de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ción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ción y Regis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VD Instrumentales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ejo de presu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ción de servicios púb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o adecuado del tiempo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pectos registrab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2015640"/>
            <a:ext cx="7615440" cy="302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imientos estandariz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cción de infor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olaborale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stencia volun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ntu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anencia en l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ción de t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laborales específ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1:00:28Z</dcterms:created>
  <dc:creator>Laura Rueda C</dc:creator>
  <dc:description/>
  <dc:language>en-US</dc:language>
  <cp:lastModifiedBy>Fac. de Medicina</cp:lastModifiedBy>
  <dcterms:modified xsi:type="dcterms:W3CDTF">2007-06-08T15:57:09Z</dcterms:modified>
  <cp:revision>39</cp:revision>
  <dc:subject/>
  <dc:title>Actividades de la vida Diaria y Discapacidad Psíquica</dc:title>
</cp:coreProperties>
</file>