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58D-EACB-4D1F-873A-B557FBD7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B8A-1F7F-4B97-A966-1AF9FBB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8C2-5E2F-43E4-B605-FD4ED74C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4C3-0E8A-4D44-8262-EF56334F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3ACB-D0AF-4C0D-A8D6-2A2B7D31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4B6B-2163-41E4-8934-6C12AB05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3266-C917-404F-B6D4-5D5D102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F283-77FA-4191-8906-A959E13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F12-36B7-43A8-B2B2-9EEF09AC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F007-146A-4298-8593-834C769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C36-A844-4F2B-B7E1-8AC7016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D6A-6105-4913-8604-8CAFD91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345B-9B2F-460A-A4CA-2BC2EB48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F50D-751A-4A2C-82FA-F45F6A3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DEF-DFEF-4473-9C6D-7B80460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8B3F-10DA-4B4D-8205-E443BBE6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A6DE-377D-4419-AEBB-63C3E63A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43C-D957-444F-AA05-5DFA0F3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B65-8959-46A4-AFF3-8399CF0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D84-713F-4750-94FC-2C5D9EE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E16-16A8-4041-89EC-992B0111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115-5CBD-4EC9-83DD-1D8A74E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F7B-435A-4183-BB63-6A7D833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E5F-67E9-48F8-94D9-703A70E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00200"/>
            <a:ext cx="9148680" cy="4419360"/>
            <a:chOff x="-4680" y="1600200"/>
            <a:chExt cx="9148680" cy="44193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000840" y="5948280"/>
              <a:ext cx="31431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00200"/>
              <a:ext cx="4495680" cy="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6E3-5AF2-484E-B8C3-159DF61E4859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F4E-BCC0-4B12-8D7A-6C3DDBF8973B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autas de Evaluación Cualitativas</a:t>
            </a:r>
            <a:br>
              <a:rPr sz="44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Modelos de Intervención Psicosocial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ura Rueda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352680"/>
            <a:ext cx="350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Ecológ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Histór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Socio Antrop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Comunica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Autocuid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utocuid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resentación Perso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en la Famil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atmósfera y preservación famili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independencia económ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a persona en el hog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Parentes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acto actual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y actual con los par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48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rej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Sex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activo en establecer una relación con una pareja (solo para individuos sin parej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d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volvimiento act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Ciudadan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gene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ticipación en grupos sociales, asociaciones y/o club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por otros ciudad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So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idad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recuencia y extensión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Ocup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utina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tactos con otr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as actividades diar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eríodo a considerar : ultimas 4 sema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uente de información : 1º el mismo individuo, 2º un informant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asigna puntaje para cada Rol y también por Dimensión. Se considera frecuencia, duración y severidad de las limitaciones, y también la necesidad de ayuda y/o supervis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untajes por dimensión pueden s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 = sin discapa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= alguna discapacida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2 = discapacidad moderad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 = discapacidad sev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untaje global del rol es igual al puntaje más alto de las dimension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consideran categorías para los roles de pareja, de familia y ocupaci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 es necesario establecer un puntaje como síntesis de los 8 roles, ya que la determinación de la severidad de la discapacidad social global es una descripción cualit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311040"/>
            <a:ext cx="71629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Arial"/>
              </a:rPr>
              <a:t>PROCEDIMIENTOS de  ANÁLISIS  NARRATIV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ANÁLISIS de HECH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ESTUDIOS de CAS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RELATOS de HIS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066680"/>
            <a:ext cx="2666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d4d4d"/>
                </a:solidFill>
                <a:latin typeface="Tahoma"/>
              </a:rPr>
              <a:t>HÁBI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11960" cy="722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Arial"/>
              </a:rPr>
              <a:t>Las Historias de Vi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8840" y="1739880"/>
            <a:ext cx="250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COSTUMB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066680"/>
            <a:ext cx="61128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8200" y="2413080"/>
            <a:ext cx="2525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Tahoma"/>
              </a:rPr>
              <a:t>PATRÓN de CREENC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611160"/>
            <a:ext cx="2491200" cy="305280"/>
            <a:chOff x="762120" y="3611160"/>
            <a:chExt cx="2491200" cy="305280"/>
          </a:xfrm>
        </p:grpSpPr>
        <p:sp>
          <p:nvSpPr>
            <p:cNvPr id="121" name=""/>
            <p:cNvSpPr/>
            <p:nvPr/>
          </p:nvSpPr>
          <p:spPr>
            <a:xfrm>
              <a:off x="762120" y="365436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560" y="361116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PRODUCTIVIDAD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2120" y="2163600"/>
            <a:ext cx="1289880" cy="305280"/>
            <a:chOff x="762120" y="2163600"/>
            <a:chExt cx="1289880" cy="305280"/>
          </a:xfrm>
        </p:grpSpPr>
        <p:sp>
          <p:nvSpPr>
            <p:cNvPr id="124" name=""/>
            <p:cNvSpPr/>
            <p:nvPr/>
          </p:nvSpPr>
          <p:spPr>
            <a:xfrm>
              <a:off x="762120" y="21924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2360" y="216360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RUTIN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2819520"/>
            <a:ext cx="298800" cy="365040"/>
            <a:chOff x="685800" y="2819520"/>
            <a:chExt cx="298800" cy="365040"/>
          </a:xfrm>
        </p:grpSpPr>
        <p:sp>
          <p:nvSpPr>
            <p:cNvPr id="127" name=""/>
            <p:cNvSpPr/>
            <p:nvPr/>
          </p:nvSpPr>
          <p:spPr>
            <a:xfrm>
              <a:off x="984240" y="2819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71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76160"/>
            <a:ext cx="2688840" cy="610200"/>
            <a:chOff x="5943600" y="3476160"/>
            <a:chExt cx="2688840" cy="610200"/>
          </a:xfrm>
        </p:grpSpPr>
        <p:sp>
          <p:nvSpPr>
            <p:cNvPr id="130" name=""/>
            <p:cNvSpPr/>
            <p:nvPr/>
          </p:nvSpPr>
          <p:spPr>
            <a:xfrm>
              <a:off x="5943600" y="3657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9600" y="3476160"/>
              <a:ext cx="238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CONCEPCIÓN de l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DA y la MUERT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945040" y="4373280"/>
            <a:ext cx="2692080" cy="305280"/>
            <a:chOff x="5945040" y="4373280"/>
            <a:chExt cx="2692080" cy="305280"/>
          </a:xfrm>
        </p:grpSpPr>
        <p:sp>
          <p:nvSpPr>
            <p:cNvPr id="133" name=""/>
            <p:cNvSpPr/>
            <p:nvPr/>
          </p:nvSpPr>
          <p:spPr>
            <a:xfrm>
              <a:off x="5945040" y="4400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160" y="4373280"/>
              <a:ext cx="238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SIÓN de MUND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3600" y="5000400"/>
            <a:ext cx="2311560" cy="610200"/>
            <a:chOff x="5943600" y="5000400"/>
            <a:chExt cx="2311560" cy="610200"/>
          </a:xfrm>
        </p:grpSpPr>
        <p:sp>
          <p:nvSpPr>
            <p:cNvPr id="136" name=""/>
            <p:cNvSpPr/>
            <p:nvPr/>
          </p:nvSpPr>
          <p:spPr>
            <a:xfrm>
              <a:off x="5943600" y="5181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0120" y="5000400"/>
              <a:ext cx="1985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PERCEPCIÓN d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SÍ MISM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5320" y="3934800"/>
            <a:ext cx="1874160" cy="731880"/>
            <a:chOff x="3505320" y="3934800"/>
            <a:chExt cx="1874160" cy="731880"/>
          </a:xfrm>
        </p:grpSpPr>
        <p:sp>
          <p:nvSpPr>
            <p:cNvPr id="139" name=""/>
            <p:cNvSpPr/>
            <p:nvPr/>
          </p:nvSpPr>
          <p:spPr>
            <a:xfrm>
              <a:off x="3505320" y="419076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45520" y="3934800"/>
              <a:ext cx="153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CULTUR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ORIGINAL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437920"/>
            <a:ext cx="2023920" cy="366120"/>
            <a:chOff x="3505320" y="2437920"/>
            <a:chExt cx="2023920" cy="366120"/>
          </a:xfrm>
        </p:grpSpPr>
        <p:sp>
          <p:nvSpPr>
            <p:cNvPr id="142" name=""/>
            <p:cNvSpPr/>
            <p:nvPr/>
          </p:nvSpPr>
          <p:spPr>
            <a:xfrm>
              <a:off x="3505320" y="24969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4000" y="2437920"/>
              <a:ext cx="169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BIOGRAFÍ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3040920"/>
            <a:ext cx="1829160" cy="731880"/>
            <a:chOff x="3505320" y="3040920"/>
            <a:chExt cx="1829160" cy="731880"/>
          </a:xfrm>
        </p:grpSpPr>
        <p:sp>
          <p:nvSpPr>
            <p:cNvPr id="145" name=""/>
            <p:cNvSpPr/>
            <p:nvPr/>
          </p:nvSpPr>
          <p:spPr>
            <a:xfrm>
              <a:off x="3846240" y="3040920"/>
              <a:ext cx="148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HISTORI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FAMILIAR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3276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99240" y="2392200"/>
            <a:ext cx="61092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8920" y="1719360"/>
            <a:ext cx="611280" cy="61092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Tahoma"/>
              </a:rPr>
              <a:t>SOCIABILID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81840" y="2805120"/>
            <a:ext cx="25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6600"/>
                </a:solidFill>
                <a:uFillTx/>
                <a:latin typeface="Arial"/>
                <a:hlinkClick r:id="rId1" action="ppaction://hlinksldjump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Tahoma"/>
              </a:rPr>
              <a:t>ASPECTOS de INTERÉS en T.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ELEMENTOS MOTIVACI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COMPROMISO con SITUACIÓN V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ADECUACIÓN en PROYECTO de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371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9840" y="17524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"/>
              </a:rPr>
              <a:t>Escalas de Liker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971800"/>
            <a:ext cx="518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nsi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Hosti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Satisfacción.....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gnóstico Multiax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S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Narrativo Construcción de Historias de V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calas de Lik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5760" y="457200"/>
          <a:ext cx="8343720" cy="598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457200"/>
                    <a:ext cx="834372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37160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Evaluación del 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l Método Gottschalk Gles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5029200" y="1676520"/>
            <a:ext cx="1905120" cy="106668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257080" y="4190400"/>
            <a:ext cx="1981080" cy="6858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523880"/>
            <a:ext cx="2210040" cy="121932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sic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81480"/>
            <a:ext cx="2286000" cy="10670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arg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fectiv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800600"/>
            <a:ext cx="2286000" cy="1447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d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nsa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781360"/>
            <a:ext cx="3353040" cy="129528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DUCT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5120" y="4343400"/>
            <a:ext cx="2133360" cy="9144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" y="682560"/>
            <a:ext cx="70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1.- Obtención de material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040" y="1828800"/>
            <a:ext cx="81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discurs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 eliminación de variables dependientes del contexto y/o del entrevistador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texto defini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no responsividad verbal del examin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escrit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xtos producidos con diversos f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ranscripción a borrad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cluír tartamudeos, vocalizaciones no verbal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onidos no verbales (tos, llanto) entre paréntes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us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labras que no se escuchan claramente: variar volúmen, solicitar otro evaluador, intervención de quien tomó la muestra,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</a:rPr>
              <a:t>no adivinar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682560"/>
            <a:ext cx="44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2.- Prepar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362320"/>
            <a:ext cx="679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mínima unidad de codificación que transmite información esencial es la oración (o cláusula) gramatical, esto 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combinación de sujeto y predica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6066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3.- Codific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52388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o me casé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las cosas no marchan como debieran de ser.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Se han ido agravando, agravando, agravando 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en estos momentos ya no podemos estar más juntos los dos,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pero resulta que tenemos dos niño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2440" y="606600"/>
            <a:ext cx="42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4.- Puntu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3623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ganización del material en un metamensa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de categorías con bajo grado de inferenc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denación del material para propósi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omparativ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uantific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cala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nsieda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adentr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ambival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peran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lienación Social – Desorganización Pers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6781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luación multifactor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Dimensiones en ej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ultiaxial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587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sistema multiaxial implica una evaluación en varios ejes, cada uno de los cuales concierne a un área distinta de información que puede ayudar al clínico en el planeamiento del tratamiento y en la predicción de resultados. En la clasificación multiaxial DSM-IV se incluyen ci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 Trastornos clíni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problemas que pueden ser objeto de atención clín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 Trastornos de la personalidad / Retraso men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I Enfermedades méd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V Problemas psicosociales y ambient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V Evaluación de la actividad glob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6240"/>
            <a:ext cx="802800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         </a:t>
            </a:r>
            <a:r>
              <a:rPr b="1" i="1" lang="es-ES_tradnl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AGNÓSTICO MULTIAXIAL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ADA  PERSONA DEBE SER EVALUADA SEGÚN LOS SIGUIENTES EJES:</a:t>
            </a:r>
            <a:br>
              <a:rPr sz="2000"/>
            </a:br>
            <a:r>
              <a:rPr b="0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 I    : SINDROME CLÍNICO Y /O CONDICIÓN NO ATRIBUIBLE A UNA ENFERMEDAD    MENTAL.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  :   TRASTORNO DE PERSONALIDAD Y TRASTORNOS ESPECÍFICOS DEL DESARROLLO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OS EJES COMPRENDEN UN ENFOQUE GLOBAL DE LA PERSONA QUE SE ESTA EVALUANDO, CONSIDERANDO AQUELLOS PROBLEMAS NO DERIVADOS DE LA ENFERMEDAD MENTAL Y QUE TAMBIÉN SON OBJETIVO DE TRATAMIENTO  O ES INTERESANTE DE DESTACAR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368000"/>
            <a:ext cx="863748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I      : ENFERMEDADES FÍSICAS Y CONDICIONES   FÍSICAS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LOS PROBLEMAS DE ÍNDOLE FÍSICA QUE SON POTENCIALMENTE IMPORTANTE PARA LA COMPRENSIÓN O MANEJO DEL INDIVIDUO.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V     :  FACTORES AMBIENTALES DE TIPO PSICOSOCIAL QUE PRODUCEN TENSIÓN O DEMANDA EXCESIVA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CODIFICA LA SEVERIDAD GLOBAL DE FACTORES DE TENSIÓN QUE HAN TENIDO UNA INFLUENCIA SIGNIFICATIVA PARA  LA EXACERBACIÓN O COMPENSACIÓN DE LA ENFERMEDAD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ABLA  DE FACTORES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VALOR PRONÓSTICO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520" y="609120"/>
            <a:ext cx="833256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EJE V    : NIVEL DE FUNCIONAMIENTO ADAPTATIVO  EN EL ÚLTIMO AÑO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UNA VALORACIÓN SOBRE EL MÁXIMO NIVEL DE ADAPTACIÓN  DURANTE EL ÚLTIMO AÑO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LA ADAPTACIÓN SE REFIERE A 3 ÁREAS PRINCIPALES: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RELACIONES SOCIALE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 DE ACUERDO A LAS VINCULACIONES AFECTIVAS CON MIEMBROS DE LA FAMILIA Y AMIGOS. IMPORTA LA INTIMIDAD Y CALIDAD  DE LAS RELACIONES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OCUPACIÓN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SE REFIERE AL FUNCIONAMIENTO COMO TRABAJADOR, ESTUDIANTE, DUEÑA(O) DE CASA. IMPORTA LA 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NTIDAD, COMPLEJIDAD Y CALIDAD DEL TRABAJO REALIZADO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USO DEL TIEMPO LIBRE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INCLUYE ACTIVIDADES RECREATIVAS O ENTRETENCIONES. IMPORTA LA PROFUNDIDAD DEL INTERÉS Y EL AGRADO QUE LA ACTIVIDAD LE APORTA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051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.S.D.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bre la base del GRONINGEN SOCIAL DISABILITIES SCHED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basa en el supuesto que el funcionamiento social debería ser evaluado independientemente de la sintomatología psiquiátr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GSDS puede ser aplicado con personas sin sintomatología psiquiátr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una entrevista semiestructurada para evaluar el funcionamiento social en la discapacidad. Se centra en el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portamiento del individu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mientras desempeña diferentes roles soci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57:04Z</dcterms:created>
  <dc:creator>Terapia</dc:creator>
  <dc:description/>
  <dc:language>en-US</dc:language>
  <cp:lastModifiedBy>Laura Rueda C</cp:lastModifiedBy>
  <dcterms:modified xsi:type="dcterms:W3CDTF">2007-05-07T01:49:29Z</dcterms:modified>
  <cp:revision>34</cp:revision>
  <dc:subject/>
  <dc:title>Pautas de Evaluación Cualitativas</dc:title>
</cp:coreProperties>
</file>