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E3BE9-EDD9-4F59-B175-451D69120E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CE08A-6859-4B79-A637-D8F86534E3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1C046-C4F0-4E2A-9E7E-E0970CC6B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976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1668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74284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2976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1668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F384D-B390-4FF0-AEFB-A78FE54249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2C249-8B0C-4A61-A971-2AA26E343C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13C4E-7A72-48E2-BF2B-5A4A1D8144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53414-3CEB-4952-9FF4-A43D6D9845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0A7C0-A8D1-43A2-9B0A-958BA508B5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F2539-D901-494A-BCF5-4E5CBEAD65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80841-61AC-4BC6-BBC5-BF296A0978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8BA00-17A8-414C-8366-08FADD0258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B9A5C-FE6D-451D-B39C-3ADA72CF6B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65A6E-CB6B-4D91-817B-A5085379FE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60F5B-4C3A-48A4-89E2-3B1A1EFDF4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86BC3-526C-43B8-921B-2B7E7994AD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8320F-8AE7-44B4-B5F9-D573E843C9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976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91668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74284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82976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91668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B2615-BE1B-4C3A-89DA-5FCE2F86DB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30BA7-16E6-4171-80A1-835FE3B4B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1EFD6-C817-4910-AF0D-C64590912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86F4-A281-43C8-A275-9447DB7ED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75448-3A42-43DC-A998-71D426BFE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AD12F-AB16-46D9-9918-AA534DD361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24CDF-472B-4996-8A73-2EC78136E7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1D7BF-E843-4179-B345-7091FE1C2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>
            <a:hlinkClick r:id="" action="ppaction://hlinkshowjump?jump=previousslide"/>
          </p:cNvPr>
          <p:cNvSpPr/>
          <p:nvPr/>
        </p:nvSpPr>
        <p:spPr>
          <a:xfrm>
            <a:off x="7162920" y="6477120"/>
            <a:ext cx="62208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a t r á 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7924680" y="6477120"/>
            <a:ext cx="98928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s i g u i e n t 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6324480" y="647712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i n i c i 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657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6F8D-8873-484C-B482-925C16C1E24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8640"/>
            <a:ext cx="1676520" cy="6399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1040" y="6086520"/>
            <a:ext cx="133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previousslide"/>
          </p:cNvPr>
          <p:cNvSpPr/>
          <p:nvPr/>
        </p:nvSpPr>
        <p:spPr>
          <a:xfrm>
            <a:off x="7149960" y="647712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a t r á 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7926480" y="6477120"/>
            <a:ext cx="98892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s i g u i e n t 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6311880" y="647712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i n i c i 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Num" idx="2"/>
          </p:nvPr>
        </p:nvSpPr>
        <p:spPr>
          <a:xfrm>
            <a:off x="4038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FA63-B91C-4AF0-9C85-6F1B00DD17F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1600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dinarte.es/salud-mental/picts/cuadro.gif&amp;imgrefurl=http://www.dinarte.es/salud-mental/cuadro.htm&amp;h=284&amp;w=432&amp;sz=71&amp;tbnid=-_iSqS9aflIJ:&amp;tbnh=80&amp;tbnw=122&amp;start=10&amp;prev=/images%3Fq%3DSalud%2BComunit%20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orías escogidas des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trop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ilosof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sicología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ciología (economí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685800"/>
            <a:ext cx="6629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s surgidos desde las Ciencias humana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5257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lación Terapéutica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ncronizador de interrelaciones sociales, acompañamiento para la reinserción psicosoc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440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biente Terapéutic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exto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exto famil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paldo profesional, actividades psicoeducación y capacitación para favorecer los factores protect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aluación de indicadores de valor pronóstic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aluación de red soc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6324480" cy="11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FENOMENOLOGÍA</a:t>
            </a:r>
            <a:br>
              <a:rPr sz="32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. HUSSERL (1859 -193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19520" y="2590560"/>
            <a:ext cx="6324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ción académica de Husser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confianza de la certeza 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opone a las tendencias historicistas,románticas y rela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ctividad científica posee un componente subje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taca la prioridad de la conciencia y la subjetiv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2716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0" y="121896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perspectiva fenomenológ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14600" y="2590560"/>
            <a:ext cx="6324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cosas en sí / Las cosas - para- la - conci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elimina lo adquirido en la conciencia por explicación, especulación o suposi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centra en la intuición inmediata de la conciencia: la viv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91440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6324480" cy="11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marco fenomenológico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damenta como ciencia: el psicoanálisis, la psicología y otras disciplinas de la mente huma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intuición contiene el rasgo básico de una investig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erteza es incomunicable en la razón human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99072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62320" y="99036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puesta de la visión fenomenológica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743200" y="25905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mundo no está constituido sólo por hechos y eventos. También lo integran valores, bienes, horizontes, intencionalidades, apariencia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sar del mundo de los hechos (experiencia) al mundo de la vida (vivenci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895480" y="765000"/>
            <a:ext cx="477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95280" y="1844640"/>
            <a:ext cx="6948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étodo Fenomenológico Descriptivo Categorial ( preferente en conflictos agud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étodo Fenomenológico Descriptivo Dimensional: Interacción conflictiva consigo mismo y con otros.( relaciones de conflic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scripción de la situ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ncionalidad de la conci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Observación y evaluación de la experiencia subjetiva (desde la expresión corporal y lenguaj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95640" y="404640"/>
            <a:ext cx="662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( C. Jasper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339640" y="191628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ducción fenomenológica: </a:t>
            </a: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996633"/>
                </a:solidFill>
                <a:latin typeface="Arial"/>
              </a:rPr>
              <a:t>el terapeuta es un espectador que contempla la realidad y lleva a la persona a evalu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so de Evaluación e Interven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ar atento al lenguaje y corporalidad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aborar en elegir las palabras adecuadas y evaluar psicopatología del lengua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26028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 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268360" y="1628640"/>
            <a:ext cx="6553440" cy="28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mover descripciones espontán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nejar acercamiento al confli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sumir actitud terapéutica libre de preju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mitirse expresiones emocionales subjeti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tividades de consejerí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individual, en grupos pequeñ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mas a abordar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arrollo de rutina diaria: descripción, reducción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aciones Interpersonales: descripción, simplic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95640" y="47628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lación Terapéutica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ejero (a), yo auxili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3640" y="2590560"/>
            <a:ext cx="8591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biente Terapéutic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exto priv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tting confor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ctividades reflexiv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delos de Intervención en Psiquiatr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cológico -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enomenológ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stórico -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685800"/>
            <a:ext cx="6629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scuela Existencial Humanístic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5257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aléctica de la Naturalez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os procesos so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participación civ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sarrollo social --&gt; Individ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914400"/>
            <a:ext cx="6705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990720"/>
            <a:ext cx="556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Modelo Histórico - Soci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h. Lersch - C. Marx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J.Ortega y Gas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9144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2209320" y="190476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foque socio cultur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carencias no se dan solo en los bienes de consu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monetarismo lleva  a la deprivación y la determinación de rasgos psicológ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Escasa participación / desafil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Vivir al día / sin ahorro ni proyeccí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Ambiente familiar desprotegido p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frentar crisis del ciclo v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380880"/>
            <a:ext cx="6019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Histórico - Soc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0666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2590920" y="2895120"/>
            <a:ext cx="62481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ías de Solu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eneración de procesos de Apoyo                  Comunit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iencia solid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dentidad cultural y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mentar actitudes protecto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utoayuda y Autocuid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762120"/>
            <a:ext cx="6095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Histórico - Soci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914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0719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images" descr=""/>
          <p:cNvPicPr/>
          <p:nvPr/>
        </p:nvPicPr>
        <p:blipFill>
          <a:blip r:embed="rId2"/>
          <a:stretch/>
        </p:blipFill>
        <p:spPr>
          <a:xfrm>
            <a:off x="4071960" y="3105000"/>
            <a:ext cx="1000080" cy="64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0719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images" descr=""/>
          <p:cNvPicPr/>
          <p:nvPr/>
        </p:nvPicPr>
        <p:blipFill>
          <a:blip r:embed="rId3"/>
          <a:stretch/>
        </p:blipFill>
        <p:spPr>
          <a:xfrm>
            <a:off x="4071960" y="3105000"/>
            <a:ext cx="1000080" cy="64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0719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images" descr=""/>
          <p:cNvPicPr/>
          <p:nvPr/>
        </p:nvPicPr>
        <p:blipFill>
          <a:blip r:embed="rId4"/>
          <a:stretch/>
        </p:blipFill>
        <p:spPr>
          <a:xfrm>
            <a:off x="4071960" y="3105000"/>
            <a:ext cx="1000080" cy="64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77208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novella" descr=""/>
          <p:cNvPicPr/>
          <p:nvPr/>
        </p:nvPicPr>
        <p:blipFill>
          <a:blip r:embed="rId5"/>
          <a:stretch/>
        </p:blipFill>
        <p:spPr>
          <a:xfrm>
            <a:off x="2590920" y="762120"/>
            <a:ext cx="5562360" cy="5333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62120" y="7621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195280" y="1844280"/>
            <a:ext cx="655308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tregar capacidad de gestión y utilización de recursos existentes para constituirse como sujeto de su propio desarro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vorecer la organización de procesos que contribuyan al desarrollo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ercialización de productos de trabajos loc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gitimidad social y política de la organización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195280" y="2205000"/>
            <a:ext cx="694836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s acciones se describen bajo los conceptos de: APROPIACIÓN y EMPODERA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os participantes asumen roles de beneficiarios o promo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79640" y="260280"/>
            <a:ext cx="6629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0" lang="es-ES_tradnl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3300"/>
                </a:solidFill>
                <a:latin typeface="Tahoma"/>
              </a:rPr>
              <a:t> 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2268360" y="1628280"/>
            <a:ext cx="662472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mover la transferencia de conocimientos entre los participa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ficar Orientaciones valor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limitación de los proble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vorecer la toma de decisiones de manera autónoma y organiz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0920" y="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0" lang="es-ES_tradnl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5805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lación Terapéutica: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ducador social, popular. Facilitador cultur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4920" y="2590560"/>
            <a:ext cx="85201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biente Terapéutic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exto Comuni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alleres desarrollo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xpresión y Fomento cult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52440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foto%20pag%2026" descr=""/>
          <p:cNvPicPr/>
          <p:nvPr/>
        </p:nvPicPr>
        <p:blipFill>
          <a:blip r:embed="rId2"/>
          <a:stretch/>
        </p:blipFill>
        <p:spPr>
          <a:xfrm>
            <a:off x="2700360" y="620640"/>
            <a:ext cx="5562720" cy="4648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990720" y="9907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5805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68360" y="3068640"/>
            <a:ext cx="6553440" cy="32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tivación Humana a explorar el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ctores gené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ctores ambiental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tresores psicoso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- Factores somáticos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adqui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racción herencia -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24000" y="620640"/>
            <a:ext cx="670572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Ecológico - Soc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. Maslow / E. Erik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tapa de desarroll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930 – 198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rmación académica: Psic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16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problemas menta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enen sentido antropológ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enen una Multicausa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visualizan como un proc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stituyen parte de la Salud Púb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914400"/>
            <a:ext cx="5943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Ecológico - Soc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12952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>
            <a:hlinkClick r:id="rId2"/>
          </p:cNvPr>
          <p:cNvSpPr/>
          <p:nvPr/>
        </p:nvSpPr>
        <p:spPr>
          <a:xfrm>
            <a:off x="399096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images" descr=""/>
          <p:cNvPicPr/>
          <p:nvPr/>
        </p:nvPicPr>
        <p:blipFill>
          <a:blip r:embed="rId3"/>
          <a:stretch/>
        </p:blipFill>
        <p:spPr>
          <a:xfrm>
            <a:off x="3990960" y="3048120"/>
            <a:ext cx="1162080" cy="761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Red de Salud Mental Comunitaria"/>
          <p:cNvPicPr/>
          <p:nvPr/>
        </p:nvPicPr>
        <p:blipFill>
          <a:blip r:embed="rId4"/>
          <a:stretch/>
        </p:blipFill>
        <p:spPr>
          <a:xfrm>
            <a:off x="2209680" y="1066680"/>
            <a:ext cx="617220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2716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lan Nacional de Atención Psiquiátr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79280" y="191592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entros de Diagnóstico y trata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spital D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lub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gar Proteg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ller Proteg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124000" y="1988640"/>
            <a:ext cx="6553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considera que los principales conceptos de una personalidad resultan del enfrentamiento entre las necesidades y las limitaciones del medio cultu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personalidad se establece así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996633"/>
                </a:solidFill>
                <a:latin typeface="Arial"/>
              </a:rPr>
              <a:t>Confianza básica en el medio           confianza en sí mismo             autonomía         compet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82560" y="404640"/>
            <a:ext cx="7561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Visión de la Intervención terapéutic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2360" y="4581360"/>
            <a:ext cx="57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5013360"/>
            <a:ext cx="57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88000" y="4941720"/>
            <a:ext cx="57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195280" y="206064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desarrolla una acción reciproca entre “lo personal” y “ lo social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 social, es medio familiar, ambiente escolar, comunidad, paí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incorpora el concepto de crisis: punto crucial en la vida del individuo, donde se enfrenta a un nuevo problema y resolver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plicación más usual en Terapia Ocupacional: </a:t>
            </a:r>
            <a:r>
              <a:rPr b="0" i="1" lang="es-ES_tradnl" sz="2400" spc="-1" strike="noStrike">
                <a:solidFill>
                  <a:srgbClr val="996633"/>
                </a:solidFill>
                <a:latin typeface="Arial"/>
              </a:rPr>
              <a:t>Modelos de Intervención Familiar.</a:t>
            </a: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 (conflictos de la salud mental tratados desde la familia)</a:t>
            </a:r>
            <a:r>
              <a:rPr b="1" lang="es-ES_tradnl" sz="24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33336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Intervención terapéutica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bjetivo principal: Orientar decisiones básicas frente 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rados de dependencia e independencia del contexto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dicación y esfuerzo por solucionar los proble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brellevar etapa crí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imitación de los esfuerzos como grupo y de cada integrante familiar (socia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3:14:32Z</dcterms:created>
  <dc:creator>win</dc:creator>
  <dc:description/>
  <dc:language>en-US</dc:language>
  <cp:lastModifiedBy>Laura Rueda C</cp:lastModifiedBy>
  <cp:lastPrinted>2002-04-23T19:24:22Z</cp:lastPrinted>
  <dcterms:modified xsi:type="dcterms:W3CDTF">2007-05-07T02:12:14Z</dcterms:modified>
  <cp:revision>76</cp:revision>
  <dc:subject/>
  <dc:title>  TEORÍA de LOS  PROGRAMAS de INVESTIGACIÓN</dc:title>
</cp:coreProperties>
</file>