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DDDE-0E95-4FE4-AFED-BA25F935E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A58C-54D3-466C-A9D0-0A58A67ED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F5A9-6ED6-472A-A4B1-790D0F6BA0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6A1B-6BEE-4572-A2E7-2AA4F3EA98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EF15-4E20-4DF9-A1F7-515A0C544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3FE9-F82C-486A-8E6F-8D6D64CD22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6C6B-85CD-4C2F-A201-A294162F9D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7E7F-A883-41DD-8921-A8DF5B9B8A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AD45-D831-47EC-8116-4ED339E00C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474C-5512-4216-9107-08B0A0DB66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C9EE-C3E6-477A-A077-64CE8720D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C48D-E036-4A66-B70E-B97736205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CCD0-BA2D-41CA-9C72-895A0DC1A2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A42E-A5AB-423D-8E6C-BBE02018B8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DEBF-C71E-4A24-827C-4439FDD88F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B630-0FEC-4EF0-9247-E4EDC52E3D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39FF-EC9B-428B-B2A2-68E96FB673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5275-796F-4576-B450-BF1BCAEEF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A447-99E7-412F-8CBD-5DC5CE2B6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114C-F15C-47B7-8AD2-1FFF1228F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98A4-B1DC-400A-888B-2AC929743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AF98-FA47-413A-9F06-D6D0E62CD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CA83-CC89-4DCE-B031-ADEBA3FA45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B0A2B-14A8-46B5-8FD6-6B99F8223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>
            <a:hlinkClick r:id="" action="ppaction://hlinkshowjump?jump=previousslide"/>
          </p:cNvPr>
          <p:cNvSpPr/>
          <p:nvPr/>
        </p:nvSpPr>
        <p:spPr>
          <a:xfrm>
            <a:off x="7162920" y="6477120"/>
            <a:ext cx="6220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7924680" y="6477120"/>
            <a:ext cx="989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firstslide"/>
          </p:cNvPr>
          <p:cNvSpPr/>
          <p:nvPr/>
        </p:nvSpPr>
        <p:spPr>
          <a:xfrm>
            <a:off x="63244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26D9-25F4-4B85-879D-AA449B5B77F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714996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a t r á 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7926480" y="6477120"/>
            <a:ext cx="98892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s i g u i e n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>
            <a:off x="6311880" y="6477120"/>
            <a:ext cx="62244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0000"/>
                </a:solidFill>
                <a:latin typeface="Arial"/>
              </a:rPr>
              <a:t>i n i c i 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4038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9617-53C8-4467-B033-CD56E980E09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160020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inarte.es/salud-mental/picts/cuadro.gif&amp;imgrefurl=http://www.dinarte.es/salud-mental/cuadro.htm&amp;h=284&amp;w=432&amp;sz=71&amp;tbnid=-_iSqS9aflIJ:&amp;tbnh=80&amp;tbnw=122&amp;start=10&amp;prev=/images%3Fq%3DSalud%2BComunit%2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orías escogidas des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ntro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ilosof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sicología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ciología (economí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6858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s surgidos desde las Ciencias human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ncronizador de interrelaciones sociales, acompañamiento para la reinserción psicosoci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44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ex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aldo profesional, actividades psicoeducación y capacitación para favorecer los factores protec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indicadores de valor pronóstic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de red 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FENOMENOLOGÍA</a:t>
            </a:r>
            <a:br>
              <a:rPr sz="32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. HUSSERL (1859 -193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52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ción académica de Husser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onfianza de la certeza 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opone a las tendencias historicistas,románticas y rela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ctividad científica posee un componente subje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taca la prioridad de la conciencia y la subje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0" y="12189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perspectiva fenomenoló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14600" y="259056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osas en sí / Las cosas - para- la - conci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elimina lo adquirido en la conciencia por explicación, especulación o su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entra en la intuición inmediata de la conciencia: la viv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91440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2320" y="1066680"/>
            <a:ext cx="6324480" cy="11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l marco fenomenológic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menta como ciencia: el psicoanálisis, la psicología y otras disciplinas de la mente hum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tuición contiene el rasgo básico de una investig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certeza es incomunicable en la razón huma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9907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62320" y="990360"/>
            <a:ext cx="63244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uesta de la visión fenomenológica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3200" y="25905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no está constituido sólo por hechos y eventos. También lo integran valores, bienes, horizontes, intencionalidades, apariencia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r del mundo de los hechos (experiencia) al mundo de la vida (vivenci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895480" y="765000"/>
            <a:ext cx="477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6948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Categorial ( preferente en conflictos agu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étodo Fenomenológico Descriptivo Dimensional: Interacción conflictiva consigo mismo y con otros.( relaciones de conflic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la situ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ncionalidad de la conc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Observación y evaluación de la experiencia subjetiva (desde la expresión corporal y lenguaj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95640" y="40464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( C. Jaspe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39640" y="1916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ducción fenomenológica: 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el terapeuta es un espectador que contempla la realidad y lleva a la persona a evalu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Evaluación e Interven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tento al lenguaje y corporalidad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aborar en elegir las palabras adecuadas y evaluar psicopatología del lengua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260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68360" y="1628640"/>
            <a:ext cx="6553440" cy="28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mover descripciones espontán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nejar acercamiento al confli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sumir actitud terapéutica libre de preju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cc66"/>
              </a:buClr>
              <a:buSzPct val="65000"/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mitirse expresiones emocionales subje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ividades de consejería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individual, en grupos peque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mas a abordar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arrollo de rutina diaria: descripción, reducció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aciones Interpersonales: descripción, sim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47628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ero (a), yo auxili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590560"/>
            <a:ext cx="8591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priv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tting con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ctividades reflex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delos de Intervención en Psiquiat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ológ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órico -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685800"/>
            <a:ext cx="6629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Escuela Existencial Humanís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aléctica de la Naturale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roce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participación civ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sarrollo social --&gt; Individu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914400"/>
            <a:ext cx="6705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99072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h. Lersch - C. Marx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J.Ortega y Gas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914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2209320" y="1904760"/>
            <a:ext cx="6629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oque socio cultur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carencias no se dan solo en los bienes de consu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monetarismo lleva  a la deprivación y la determinación de rasgos psicológ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scasa participación / desafil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Vivir al día / sin ahorro ni proyeccí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Ambiente familiar desprotegido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frentar crisis del ciclo v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380880"/>
            <a:ext cx="6019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066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590920" y="2895120"/>
            <a:ext cx="62481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ías de Sol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ción de procesos de Apoyo                  Comunit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iencia solid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dad cultural y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mentar actitudes protect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utoayuda y Autocuid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76212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Histórico -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9144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s" descr=""/>
          <p:cNvPicPr/>
          <p:nvPr/>
        </p:nvPicPr>
        <p:blipFill>
          <a:blip r:embed="rId2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images" descr=""/>
          <p:cNvPicPr/>
          <p:nvPr/>
        </p:nvPicPr>
        <p:blipFill>
          <a:blip r:embed="rId3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07196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images" descr=""/>
          <p:cNvPicPr/>
          <p:nvPr/>
        </p:nvPicPr>
        <p:blipFill>
          <a:blip r:embed="rId4"/>
          <a:stretch/>
        </p:blipFill>
        <p:spPr>
          <a:xfrm>
            <a:off x="4071960" y="3105000"/>
            <a:ext cx="1000080" cy="64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7208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novella" descr=""/>
          <p:cNvPicPr/>
          <p:nvPr/>
        </p:nvPicPr>
        <p:blipFill>
          <a:blip r:embed="rId5"/>
          <a:stretch/>
        </p:blipFill>
        <p:spPr>
          <a:xfrm>
            <a:off x="2590920" y="762120"/>
            <a:ext cx="5562360" cy="533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62120" y="762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195280" y="1844280"/>
            <a:ext cx="655308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tregar capacidad de gestión y utilización de recursos existentes para constituirse como sujeto de su propio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vorecer la organización de procesos que contribuyan al desarroll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ercialización de productos de trabajos loc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gitimidad social y política de la organización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195280" y="2205000"/>
            <a:ext cx="694836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s acciones se describen bajo los conceptos de: APROPIACIÓN y EMPODER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participantes asumen roles de beneficiarios o promo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602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3300"/>
                </a:solidFill>
                <a:latin typeface="Tahoma"/>
              </a:rPr>
              <a:t> 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268360" y="1628280"/>
            <a:ext cx="6624720" cy="38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mover la transferencia de conocimientos entre los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ficar Orientaciones valor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limitación de los proble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vorecer la toma de decisiones de manera autónoma y organiz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092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0" lang="es-ES_tradnl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lación Terapéutica: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ducador social, popular. Facilitador cultur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590560"/>
            <a:ext cx="85201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mbiente Terapéut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exto Comuni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alleres 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presión y Fomento cultu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2440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foto%20pag%2026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5562720" cy="4648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990720" y="990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80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ura Rueda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553440" cy="32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tivación Humana a explorar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gen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ctores ambient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stresores psicoso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- Factores somá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 adqui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racción herencia -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620640"/>
            <a:ext cx="6705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. Maslow / E. Eri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tapa de desarroll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930 – 198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rmación académica: Psic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90560" y="2895120"/>
            <a:ext cx="6553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problemas menta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sentido antropológ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enen una Multicaus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visualizan como un proc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tituyen parte de la Salud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914400"/>
            <a:ext cx="5943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Modelo Ecológico - Socia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1295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2"/>
          </p:cNvPr>
          <p:cNvSpPr/>
          <p:nvPr/>
        </p:nvSpPr>
        <p:spPr>
          <a:xfrm>
            <a:off x="3990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3990960" y="3048120"/>
            <a:ext cx="116208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ed de Salud Mental Comunitaria"/>
          <p:cNvPicPr/>
          <p:nvPr/>
        </p:nvPicPr>
        <p:blipFill>
          <a:blip r:embed="rId4"/>
          <a:stretch/>
        </p:blipFill>
        <p:spPr>
          <a:xfrm>
            <a:off x="2209680" y="1066680"/>
            <a:ext cx="61722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2716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lan Nacional de Atención Psiquiátr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entros de Diagnóstico y trat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spital D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lub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ga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ler Prot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124000" y="198864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sidera que los principales conceptos de una personalidad resultan del enfrentamiento entre las necesidades y las limitaciones del medio cultur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ersonalidad se establece así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Confianza básica en el medio           confianza en sí mismo             autonomía         compe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82560" y="404640"/>
            <a:ext cx="7561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Visión de la Intervención terapéut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581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5760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8000" y="4941720"/>
            <a:ext cx="5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195280" y="206064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esarrolla una acción reciproca entre “lo personal” y “ lo social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 social, es medio familiar, ambiente escolar, comunidad, paí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incorpora el concepto de crisis: punto crucial en la vida del individuo, donde se enfrenta a un nuevo problema y resolver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licación más usual en Terapia Ocupacional: </a:t>
            </a:r>
            <a:r>
              <a:rPr b="0" i="1" lang="es-ES_tradnl" sz="2400" spc="-1" strike="noStrike">
                <a:solidFill>
                  <a:srgbClr val="996633"/>
                </a:solidFill>
                <a:latin typeface="Arial"/>
              </a:rPr>
              <a:t>Modelos de Intervención Familiar.</a:t>
            </a:r>
            <a:r>
              <a:rPr b="0" lang="es-ES_tradnl" sz="2400" spc="-1" strike="noStrike">
                <a:solidFill>
                  <a:srgbClr val="996633"/>
                </a:solidFill>
                <a:latin typeface="Arial"/>
              </a:rPr>
              <a:t> (conflictos de la salud mental tratados desde la familia)</a:t>
            </a:r>
            <a:r>
              <a:rPr b="1" lang="es-ES_tradnl" sz="24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33336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195280" y="1700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 principal: Orientar decisiones básicas frente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rados de dependencia e independencia del contexto so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ción y esfuerzo por solucionar los proble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llevar etapa crí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imitación de los esfuerzos como grupo y de cada integrante familiar (soc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"/>
              </a:rPr>
              <a:t>La Intervención terapéutica</a:t>
            </a: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  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763560" y="609120"/>
            <a:ext cx="9118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ccff"/>
                </a:solidFill>
                <a:latin typeface="Arial"/>
              </a:rPr>
              <a:t>Modelos de Terapia Ocupacional en Psiquiatría y Salud 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3:14:32Z</dcterms:created>
  <dc:creator>win</dc:creator>
  <dc:description/>
  <dc:language>en-US</dc:language>
  <cp:lastModifiedBy>Laura Rueda C</cp:lastModifiedBy>
  <cp:lastPrinted>2002-04-23T19:24:22Z</cp:lastPrinted>
  <dcterms:modified xsi:type="dcterms:W3CDTF">2007-05-07T02:12:14Z</dcterms:modified>
  <cp:revision>76</cp:revision>
  <dc:subject/>
  <dc:title>  TEORÍA de LOS  PROGRAMAS de INVESTIGACIÓN</dc:title>
</cp:coreProperties>
</file>