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BCE-02B0-45C5-9AF8-2DADB9C0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A54-DD93-4C8D-88D1-57B2F446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613-A36B-4E6F-9F72-A62F7917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0BD-EE90-4112-BA5C-758355E3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9C25-E564-4919-93B4-5CB37B3D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61D0-17D2-4537-840E-5A507735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FC55-CC06-4ADF-B508-481F6FA5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9178-7BF5-41E7-960A-A2110522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C77C-5444-498C-9F7C-E1B04E7C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12E9-9124-4087-BEC7-481C60F9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FCC9-BB1D-4C5E-B259-567E2A19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7F7-5D44-4774-94AE-1A673596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B9AA-CD5D-452E-863F-48D2F63C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0D3D-5A46-4A2A-8A27-DF8C9ACA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2FB3-9A04-41E7-B872-685F65A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C129-1FCF-4504-BC90-C9A31A2D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26FF-14A6-44CF-A59E-A1809E55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DE0-DA5C-4454-A23A-0D46AC3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08E1-A8A0-40B9-8F16-B58DBEF2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89E-5D1E-47B9-81D9-2E288A2A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C46-2D3C-43A9-ABE5-83E7F37E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9D8-4434-439D-9B40-1F3D3BA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3A9-7A0A-4247-8881-24E6220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478-13C8-4C2D-8351-F90C452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0" y="1600200"/>
            <a:ext cx="9148680" cy="4419360"/>
            <a:chOff x="-4680" y="1600200"/>
            <a:chExt cx="9148680" cy="441936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6000840" y="5948280"/>
              <a:ext cx="3143160" cy="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4680" y="1600200"/>
              <a:ext cx="4495680" cy="9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338F-BB9C-4759-B7E2-2D02C3B00649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EFAA-B78B-45C9-9BAE-5D52824DC5B5}" type="slidenum"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Pautas de Evaluación Cualitativas</a:t>
            </a:r>
            <a:br>
              <a:rPr sz="4400"/>
            </a:b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(Modelos de Intervención Psicosocial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7920" y="396252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ura Rueda 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352680"/>
            <a:ext cx="3504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Fenomen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Ecológ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Histórico Soci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Socio Antropológi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cc"/>
                </a:solidFill>
                <a:latin typeface="Arial"/>
              </a:rPr>
              <a:t>Comunica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0040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Autocuidad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Autocuid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Presentación Persona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en la Famil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atmósfera y preservación famili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ribución a la independencia económic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Una persona en el hoga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ol de Parentes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Contacto actual con los padr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99cc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Relación afectiva y actual con los parien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48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rej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Sex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activo en establecer una relación con una pareja (solo para individuos sin parej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de Pad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elación afectiv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nvolvimiento actu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Ciudadan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gene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Participación en grupos sociales, asociaciones y/o club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Interés por otros ciudadan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237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"/>
              </a:rPr>
              <a:t>ROLES Y DIMENSION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Soci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alidad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Frecuencia y extensión de los contact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1333440" indent="-533160">
              <a:spcBef>
                <a:spcPts val="700"/>
              </a:spcBef>
              <a:buClr>
                <a:srgbClr val="ffffcc"/>
              </a:buClr>
              <a:buSzPct val="65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Rol Ocupacion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Rutina Diari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Desempeñ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Contactos con otr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941480" indent="-457200">
              <a:spcBef>
                <a:spcPts val="601"/>
              </a:spcBef>
              <a:buClr>
                <a:srgbClr val="ffffcc"/>
              </a:buClr>
              <a:buSzPct val="6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as actividades diar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Período a considerar : ultimas 4 sema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Fuente de información : 1º el mismo individuo, 2º un informant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Se asigna puntaje para cada Rol y también por Dimensión. Se considera frecuencia, duración y severidad de las limitaciones, y también la necesidad de ayuda y/o supervis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Los puntajes por dimensión pueden se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0 = sin discapac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1 = alguna discapacidad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2 = discapacidad moderada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3 = discapacidad sever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Reglas para asignar punta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puntaje global del rol es igual al puntaje más alto de las dimension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consideran categorías para los roles de pareja, de familia y ocupaci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No es necesario establecer un puntaje como síntesis de los 8 roles, ya que la determinación de la severidad de la discapacidad social global es una descripción cualitativ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8080" y="311040"/>
            <a:ext cx="71629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d4d4d"/>
                </a:solidFill>
                <a:latin typeface="Arial"/>
              </a:rPr>
              <a:t>PROCEDIMIENTOS de  ANÁLISIS  NARRATIV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ANÁLISIS de HECH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ESTUDIOS de CAS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Arial"/>
              </a:rPr>
              <a:t>RELATOS de HIS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47920" y="1066680"/>
            <a:ext cx="26668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d4d4d"/>
                </a:solidFill>
                <a:latin typeface="Tahoma"/>
              </a:rPr>
              <a:t>HÁBI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11960" cy="722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d4d4d"/>
                </a:solidFill>
                <a:latin typeface="Arial"/>
              </a:rPr>
              <a:t>Las Historias de Vi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8840" y="1739880"/>
            <a:ext cx="250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d4d4d"/>
                </a:solidFill>
                <a:latin typeface="Tahoma"/>
              </a:rPr>
              <a:t>COSTUMB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2480" y="1066680"/>
            <a:ext cx="61128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ff33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8200" y="2413080"/>
            <a:ext cx="2525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Tahoma"/>
              </a:rPr>
              <a:t>PATRÓN de CREENCI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62120" y="3611160"/>
            <a:ext cx="2491200" cy="305280"/>
            <a:chOff x="762120" y="3611160"/>
            <a:chExt cx="2491200" cy="305280"/>
          </a:xfrm>
        </p:grpSpPr>
        <p:sp>
          <p:nvSpPr>
            <p:cNvPr id="121" name=""/>
            <p:cNvSpPr/>
            <p:nvPr/>
          </p:nvSpPr>
          <p:spPr>
            <a:xfrm>
              <a:off x="762120" y="365436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4560" y="3611160"/>
              <a:ext cx="2138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PRODUCTIVIDAD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62120" y="2163600"/>
            <a:ext cx="1289880" cy="305280"/>
            <a:chOff x="762120" y="2163600"/>
            <a:chExt cx="1289880" cy="305280"/>
          </a:xfrm>
        </p:grpSpPr>
        <p:sp>
          <p:nvSpPr>
            <p:cNvPr id="124" name=""/>
            <p:cNvSpPr/>
            <p:nvPr/>
          </p:nvSpPr>
          <p:spPr>
            <a:xfrm>
              <a:off x="762120" y="21924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62360" y="2163600"/>
              <a:ext cx="989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6600"/>
                  </a:solidFill>
                  <a:latin typeface="Tahoma"/>
                </a:rPr>
                <a:t>RUTIN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685800" y="2819520"/>
            <a:ext cx="298800" cy="365040"/>
            <a:chOff x="685800" y="2819520"/>
            <a:chExt cx="298800" cy="365040"/>
          </a:xfrm>
        </p:grpSpPr>
        <p:sp>
          <p:nvSpPr>
            <p:cNvPr id="127" name=""/>
            <p:cNvSpPr/>
            <p:nvPr/>
          </p:nvSpPr>
          <p:spPr>
            <a:xfrm>
              <a:off x="984240" y="28195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2871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943600" y="3476160"/>
            <a:ext cx="2688840" cy="610200"/>
            <a:chOff x="5943600" y="3476160"/>
            <a:chExt cx="2688840" cy="610200"/>
          </a:xfrm>
        </p:grpSpPr>
        <p:sp>
          <p:nvSpPr>
            <p:cNvPr id="130" name=""/>
            <p:cNvSpPr/>
            <p:nvPr/>
          </p:nvSpPr>
          <p:spPr>
            <a:xfrm>
              <a:off x="5943600" y="36572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9600" y="3476160"/>
              <a:ext cx="23828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CONCEPCIÓN de la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DA y la MUERT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945040" y="4373280"/>
            <a:ext cx="2692080" cy="305280"/>
            <a:chOff x="5945040" y="4373280"/>
            <a:chExt cx="2692080" cy="305280"/>
          </a:xfrm>
        </p:grpSpPr>
        <p:sp>
          <p:nvSpPr>
            <p:cNvPr id="133" name=""/>
            <p:cNvSpPr/>
            <p:nvPr/>
          </p:nvSpPr>
          <p:spPr>
            <a:xfrm>
              <a:off x="5945040" y="4400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48160" y="4373280"/>
              <a:ext cx="238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VISIÓN de MUND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943600" y="5000400"/>
            <a:ext cx="2311560" cy="610200"/>
            <a:chOff x="5943600" y="5000400"/>
            <a:chExt cx="2311560" cy="610200"/>
          </a:xfrm>
        </p:grpSpPr>
        <p:sp>
          <p:nvSpPr>
            <p:cNvPr id="136" name=""/>
            <p:cNvSpPr/>
            <p:nvPr/>
          </p:nvSpPr>
          <p:spPr>
            <a:xfrm>
              <a:off x="5943600" y="51814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70120" y="5000400"/>
              <a:ext cx="198504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PERCEPCIÓN de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9900"/>
                  </a:solidFill>
                  <a:latin typeface="Tahoma"/>
                </a:rPr>
                <a:t>SÍ MISMO</a:t>
              </a:r>
              <a:endParaRPr b="0" lang="en-US" sz="2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05320" y="3934800"/>
            <a:ext cx="1874160" cy="731880"/>
            <a:chOff x="3505320" y="3934800"/>
            <a:chExt cx="1874160" cy="731880"/>
          </a:xfrm>
        </p:grpSpPr>
        <p:sp>
          <p:nvSpPr>
            <p:cNvPr id="139" name=""/>
            <p:cNvSpPr/>
            <p:nvPr/>
          </p:nvSpPr>
          <p:spPr>
            <a:xfrm>
              <a:off x="3505320" y="419076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45520" y="3934800"/>
              <a:ext cx="1533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CULTUR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ORIGINAL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505320" y="2437920"/>
            <a:ext cx="2023920" cy="366120"/>
            <a:chOff x="3505320" y="2437920"/>
            <a:chExt cx="2023920" cy="366120"/>
          </a:xfrm>
        </p:grpSpPr>
        <p:sp>
          <p:nvSpPr>
            <p:cNvPr id="142" name=""/>
            <p:cNvSpPr/>
            <p:nvPr/>
          </p:nvSpPr>
          <p:spPr>
            <a:xfrm>
              <a:off x="3505320" y="24969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4000" y="2437920"/>
              <a:ext cx="1695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BIOGRAFÍ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505320" y="3040920"/>
            <a:ext cx="1829160" cy="731880"/>
            <a:chOff x="3505320" y="3040920"/>
            <a:chExt cx="1829160" cy="731880"/>
          </a:xfrm>
        </p:grpSpPr>
        <p:sp>
          <p:nvSpPr>
            <p:cNvPr id="145" name=""/>
            <p:cNvSpPr/>
            <p:nvPr/>
          </p:nvSpPr>
          <p:spPr>
            <a:xfrm>
              <a:off x="3846240" y="3040920"/>
              <a:ext cx="14882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HISTORI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990033"/>
                  </a:solidFill>
                  <a:latin typeface="Tahoma"/>
                </a:rPr>
                <a:t>FAMILIAR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05320" y="3276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cccc"/>
                </a:gs>
                <a:gs pos="100000">
                  <a:srgbClr val="0066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5799240" y="2392200"/>
            <a:ext cx="610920" cy="6112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28920" y="1719360"/>
            <a:ext cx="611280" cy="61092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00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00"/>
                </a:solidFill>
                <a:latin typeface="Tahoma"/>
              </a:rPr>
              <a:t>SOCIABILIDA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81840" y="2805120"/>
            <a:ext cx="25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cc6600"/>
                </a:solidFill>
                <a:uFillTx/>
                <a:latin typeface="Arial"/>
                <a:hlinkClick r:id="rId1" action="ppaction://hlinksldjump"/>
              </a:rPr>
              <a:t>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5238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Tahoma"/>
              </a:rPr>
              <a:t>ASPECTOS de INTERÉS en T.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ELEMENTOS MOTIVACION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3581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COMPROMISO con SITUACIÓN V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572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ADECUACIÓN en PROYECTO de VID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1371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9840" y="1752480"/>
            <a:ext cx="481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cc00"/>
                </a:solidFill>
                <a:latin typeface="Arial"/>
              </a:rPr>
              <a:t>Escalas de Liker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2971800"/>
            <a:ext cx="5181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nsie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Hostil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cc"/>
                </a:solidFill>
                <a:latin typeface="Arial"/>
              </a:rPr>
              <a:t>Satisfacción.....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agnóstico Multiax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S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Análisis Narrativo Construcción de Historias de Vi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calas de Like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55760" y="457200"/>
          <a:ext cx="8343720" cy="598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5760" y="457200"/>
                    <a:ext cx="8343720" cy="59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9480" y="1371600"/>
            <a:ext cx="8001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Evaluación del comportamiento verb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El Método Gottschalk Gles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flipH="1">
            <a:off x="5029200" y="1676520"/>
            <a:ext cx="1905120" cy="106668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257080" y="4190400"/>
            <a:ext cx="1981080" cy="6858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523880"/>
            <a:ext cx="2210040" cy="121932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sicológic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5181480"/>
            <a:ext cx="2286000" cy="106704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arga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afectiv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800600"/>
            <a:ext cx="2286000" cy="14479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d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pensamient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95480" y="2781360"/>
            <a:ext cx="3353040" cy="1295280"/>
          </a:xfrm>
          <a:prstGeom prst="rect">
            <a:avLst/>
          </a:prstGeom>
          <a:gradFill rotWithShape="0">
            <a:gsLst>
              <a:gs pos="0">
                <a:srgbClr val="002f2f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DUCT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VERB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685800"/>
            <a:ext cx="2286000" cy="990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ultur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905120" y="4343400"/>
            <a:ext cx="2133360" cy="914400"/>
          </a:xfrm>
          <a:prstGeom prst="line">
            <a:avLst/>
          </a:prstGeom>
          <a:noFill/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000" y="682560"/>
            <a:ext cx="704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1.- Obtención de material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6040" y="1828800"/>
            <a:ext cx="819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discurs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 eliminación de variables dependientes del contexto y/o del entrevistador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contexto definid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no responsividad verbal del examinador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Arial"/>
              </a:rPr>
              <a:t>escrito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instrucciones stand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textos producidos con diversos fin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19051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Transcripción a borrador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incluír tartamudeos, vocalizaciones no verbales, etc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onidos no verbales (tos, llanto) entre paréntesi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us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labras que no se escuchan claramente: variar volúmen, solicitar otro evaluador, intervención de quien tomó la muestra,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</a:rPr>
              <a:t>no adivinar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457200" indent="-457200"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6360" y="682560"/>
            <a:ext cx="44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2.- Prepar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19320" y="2362320"/>
            <a:ext cx="679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mínima unidad de codificación que transmite información esencial es la oración (o cláusula) gramatical, esto es,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ccff33"/>
                </a:solidFill>
                <a:latin typeface="Arial"/>
              </a:rPr>
              <a:t>la combinación de sujeto y predicad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2440" y="606600"/>
            <a:ext cx="45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3.- Codific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62120" y="152388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o me casé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las cosas no marchan como debieran de ser.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Se han ido agravando, agravando, agravando 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y resulta que en estos momentos ya no podemos estar más juntos los dos,</a:t>
            </a:r>
            <a:r>
              <a:rPr b="1" lang="es-C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s-CL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/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pero resulta que tenemos dos niños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2440" y="606600"/>
            <a:ext cx="42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"/>
              </a:rPr>
              <a:t>4.- Puntuació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36232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ganización del material en un metamensaj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de categorías con bajo grado de inferenci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Ordenación del material para propósito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omparativ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ccff33"/>
                </a:solidFill>
                <a:latin typeface="Arial"/>
              </a:rPr>
              <a:t>Cuantific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98100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cala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nsiedad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fuer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dirigida hacia adentr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Hostilidad ambivalent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Esperan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lienación Social – Desorganización Person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6781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valuación multifactori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Dimensiones en ej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ultiaxialida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558720"/>
            <a:ext cx="83818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Un sistema multiaxial implica una evaluación en varios ejes, cada uno de los cuales concierne a un área distinta de información que puede ayudar al clínico en el planeamiento del tratamiento y en la predicción de resultados. En la clasificación multiaxial DSM-IV se incluyen cinc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ej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 Trastornos clínic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Arial"/>
              </a:rPr>
              <a:t>Otros problemas que pueden ser objeto de atención clínic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 Trastornos de la personalidad / Retraso men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II Enfermedades médic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IV Problemas psicosociales y ambiental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"/>
              </a:rPr>
              <a:t>Eje V Evaluación de la actividad glob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96240"/>
            <a:ext cx="8028000" cy="57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                  </a:t>
            </a:r>
            <a:r>
              <a:rPr b="1" i="1" lang="es-ES_tradnl" sz="2800" spc="-1" strike="noStrike" u="sng">
                <a:solidFill>
                  <a:srgbClr val="ffcc00"/>
                </a:solidFill>
                <a:uFillTx/>
                <a:latin typeface="Arial"/>
                <a:ea typeface="Times New Roman"/>
              </a:rPr>
              <a:t>DIAGNÓSTICO MULTIAXIAL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CADA  PERSONA DEBE SER EVALUADA SEGÚN LOS SIGUIENTES EJES:</a:t>
            </a:r>
            <a:br>
              <a:rPr sz="2000"/>
            </a:br>
            <a:r>
              <a:rPr b="0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 I    : SINDROME CLÍNICO Y /O CONDICIÓN NO ATRIBUIBLE A UNA ENFERMEDAD    MENTAL.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  :   TRASTORNO DE PERSONALIDAD Y TRASTORNOS ESPECÍFICOS DEL DESARROLLO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OS EJES COMPRENDEN UN ENFOQUE GLOBAL DE LA PERSONA QUE SE ESTA EVALUANDO, CONSIDERANDO AQUELLOS PROBLEMAS NO DERIVADOS DE LA ENFERMEDAD MENTAL Y QUE TAMBIÉN SON OBJETIVO DE TRATAMIENTO  O ES INTERESANTE DE DESTACAR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368000"/>
            <a:ext cx="863748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II      : ENFERMEDADES FÍSICAS Y CONDICIONES   FÍSICAS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LOS PROBLEMAS DE ÍNDOLE FÍSICA QUE SON POTENCIALMENTE IMPORTANTE PARA LA COMPRENSIÓN O MANEJO DEL INDIVIDUO.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1" lang="es-ES_tradnl" sz="2000" spc="-1" strike="noStrike">
                <a:solidFill>
                  <a:srgbClr val="ccff33"/>
                </a:solidFill>
                <a:latin typeface="Arial"/>
                <a:ea typeface="Times New Roman"/>
              </a:rPr>
              <a:t>EJE IV     :  FACTORES AMBIENTALES DE TIPO PSICOSOCIAL QUE PRODUCEN TENSIÓN O DEMANDA EXCESIVA</a:t>
            </a:r>
            <a:br>
              <a:rPr sz="2000"/>
            </a:b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CODIFICA LA SEVERIDAD GLOBAL DE FACTORES DE TENSIÓN QUE HAN TENIDO UNA INFLUENCIA SIGNIFICATIVA PARA  LA EXACERBACIÓN O COMPENSACIÓN DE LA ENFERMEDAD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TABLA  DE FACTORES 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VALOR PRONÓSTICO.</a:t>
            </a:r>
            <a:br>
              <a:rPr sz="2000"/>
            </a:b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520" y="609120"/>
            <a:ext cx="8332560" cy="58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EJE V    : NIVEL DE FUNCIONAMIENTO ADAPTATIVO  EN EL ÚLTIMO AÑO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ESTE EJE PERMITE INDICAR UNA VALORACIÓN SOBRE EL MÁXIMO NIVEL DE ADAPTACIÓN  DURANTE EL ÚLTIMO AÑO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LA ADAPTACIÓN SE REFIERE A 3 ÁREAS PRINCIPALES: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RELACIONES SOCIALES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 DE ACUERDO A LAS VINCULACIONES AFECTIVAS CON MIEMBROS DE LA FAMILIA Y AMIGOS. IMPORTA LA INTIMIDAD Y CALIDAD  DE LAS RELACIONES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OCUPACIÓN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SE REFIERE AL FUNCIONAMIENTO COMO TRABAJADOR, ESTUDIANTE, DUEÑA(O) DE CASA. IMPORTA LA 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CANTIDAD, COMPLEJIDAD Y CALIDAD DEL TRABAJO REALIZADO.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br>
              <a:rPr sz="1800"/>
            </a:br>
            <a:r>
              <a:rPr b="1" lang="es-ES_tradnl" sz="1800" spc="-1" strike="noStrike">
                <a:solidFill>
                  <a:srgbClr val="ccff33"/>
                </a:solidFill>
                <a:latin typeface="Arial"/>
                <a:ea typeface="Times New Roman"/>
              </a:rPr>
              <a:t>USO DEL TIEMPO LIBRE</a:t>
            </a:r>
            <a:r>
              <a:rPr b="1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:</a:t>
            </a: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 INCLUYE ACTIVIDADES RECREATIVAS O ENTRETENCIONES. IMPORTA LA PROFUNDIDAD DEL INTERÉS Y EL AGRADO QUE LA ACTIVIDAD LE APORTA.</a:t>
            </a:r>
            <a:br>
              <a:rPr sz="1800"/>
            </a:br>
            <a:r>
              <a:rPr b="0" lang="es-ES_tradnl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3716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905120"/>
            <a:ext cx="6172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.S.D.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obre la base del GRONINGEN SOCIAL DISABILITIES SCHEDU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Se basa en el supuesto que el funcionamiento social debería ser evaluado independientemente de la sintomatología psiquiátr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l GSDS puede ser aplicado con personas sin sintomatología psiquiátric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Es una entrevista semiestructurada para evaluar el funcionamiento social en la discapacidad. Se centra en el 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comportamiento del individuo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, mientras desempeña diferentes roles socia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16:57:04Z</dcterms:created>
  <dc:creator>Terapia</dc:creator>
  <dc:description/>
  <dc:language>en-US</dc:language>
  <cp:lastModifiedBy>Laura Rueda C</cp:lastModifiedBy>
  <dcterms:modified xsi:type="dcterms:W3CDTF">2007-05-07T01:49:29Z</dcterms:modified>
  <cp:revision>34</cp:revision>
  <dc:subject/>
  <dc:title>Pautas de Evaluación Cualitativas</dc:title>
</cp:coreProperties>
</file>