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4080-17CC-4691-95A1-5B12D30E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76D3-99F7-450E-BC21-50B98426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F6F-7D03-42CE-AA4B-F062FD3E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5FD-FF7F-410F-BC64-4E26E14F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FD81-EF26-46F0-8891-C8DD06D8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8F32-87FF-4DF0-96FD-611456A6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119B-0EE1-4DA3-A207-61D9AE87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32D6-64D1-4C61-BAA8-0D9A835F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41BF-D4EB-4E2F-BFB6-7E84F991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522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8200-6550-417F-83A2-2687EF55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EBD9-A979-4766-A0E4-A81758F7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0A1B-3B1D-4FEC-9CEC-7071453D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96B6-52D6-45D9-B0B3-738E3C6B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E48D-0C75-4B5D-BC55-E4A31429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BC7E-A620-4646-9080-0A107B77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D01B-F996-422E-B473-C03E6BE8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C0F7-7836-4897-8A8C-FD07C12A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1417-6845-49A9-AA8A-B0EB6D40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DF7-DC35-430F-802C-A100B4ED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5536-B6CF-4298-B358-24CCF5DF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522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B7C2-6263-4F69-A213-61FA6C86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EA65-CD9F-4932-AC97-9051F96A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9F10-5361-4025-962B-5C08E870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D569-58A2-47D6-A776-011B1522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80" y="1600200"/>
            <a:ext cx="9148680" cy="4419360"/>
            <a:chOff x="-4680" y="1600200"/>
            <a:chExt cx="9148680" cy="441936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6000840" y="5948280"/>
              <a:ext cx="3143160" cy="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4680" y="1600200"/>
              <a:ext cx="4495680" cy="9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D3B9-9594-47CC-AC1F-0C32ECCDCCAC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50AA-D3E3-44E4-8B46-3294CF31A3CE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autas de Evaluación Cualitativas</a:t>
            </a:r>
            <a:br>
              <a:rPr sz="4400"/>
            </a:b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Modelos de Intervención Psicosocial)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7920" y="3962520"/>
            <a:ext cx="610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ura Rueda 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3352680"/>
            <a:ext cx="3504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Fenomenológi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Ecológico soc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Histórico Soc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Socio Antropológi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Comunicacion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5004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ROLES Y DIMENSION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ol de Autocuidad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Autocuidad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Presentación Persona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ol en la Famili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ontribución a la atmósfera y preservación famili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ontribución a la independencia económic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Una persona en el hog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ol de Parentes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99cc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Relación Afectiva con los padr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99cc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ontacto actual con los padr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99cc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Relación afectiva y actual con los parien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48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ROLES Y DIMENSION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de Parej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elación afectiv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elación Sexu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Interés activo en establecer una relación con una pareja (solo para individuos sin parej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de Pad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elación afectiv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nvolvimiento actu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Ciudadan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Interés gener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Participación en grupos sociales, asociaciones y/o club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Interés por otros ciudadan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23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ROLES Y DIMENSION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333440" indent="-533160"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Soc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alidad de los contact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Frecuencia y extensión de los contact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1333440" indent="-533160"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Ocupacion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utina Diari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Desempeñ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ontactos con otr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Otras actividades diari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Reglas para asignar punta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eríodo a considerar : ultimas 4 seman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Fuente de información : 1º el mismo individuo, 2º un informant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e asigna puntaje para cada Rol y también por Dimensión. Se considera frecuencia, duración y severidad de las limitaciones, y también la necesidad de ayuda y/o supervis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os puntajes por dimensión pueden se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0 = sin discapacida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1 = alguna discapacida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2 = discapacidad moderada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3 = discapacidad sever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78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Reglas para asignar punta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puntaje global del rol es igual al puntaje más alto de las dimensiones,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consideran categorías para los roles de pareja, de familia y ocupaciona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No es necesario establecer un puntaje como síntesis de los 8 roles, ya que la determinación de la severidad de la discapacidad social global es una descripción cualitati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8080" y="311040"/>
            <a:ext cx="716292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d4d4d"/>
                </a:solidFill>
                <a:latin typeface="Arial"/>
              </a:rPr>
              <a:t>PROCEDIMIENTOS de  ANÁLISIS  NARRATIV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Arial"/>
              </a:rPr>
              <a:t>ANÁLISIS de HECH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Arial"/>
              </a:rPr>
              <a:t>ESTUDIOS de CAS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Arial"/>
              </a:rPr>
              <a:t>RELATOS de HISTOR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1066680"/>
            <a:ext cx="26668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d4d4d"/>
                </a:solidFill>
                <a:latin typeface="Tahoma"/>
              </a:rPr>
              <a:t>HÁBIT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411960" cy="7221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d4d4d"/>
                </a:solidFill>
                <a:latin typeface="Arial"/>
              </a:rPr>
              <a:t>Las Historias de Vida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8840" y="1739880"/>
            <a:ext cx="2504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Tahoma"/>
              </a:rPr>
              <a:t>COSTUMB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2480" y="1066680"/>
            <a:ext cx="611280" cy="61128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33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8200" y="2413080"/>
            <a:ext cx="25257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Tahoma"/>
              </a:rPr>
              <a:t>PATRÓN de CREENCI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62120" y="3611160"/>
            <a:ext cx="2491200" cy="305280"/>
            <a:chOff x="762120" y="3611160"/>
            <a:chExt cx="2491200" cy="305280"/>
          </a:xfrm>
        </p:grpSpPr>
        <p:sp>
          <p:nvSpPr>
            <p:cNvPr id="121" name=""/>
            <p:cNvSpPr/>
            <p:nvPr/>
          </p:nvSpPr>
          <p:spPr>
            <a:xfrm>
              <a:off x="762120" y="365436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14560" y="3611160"/>
              <a:ext cx="2138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6600"/>
                  </a:solidFill>
                  <a:latin typeface="Tahoma"/>
                </a:rPr>
                <a:t>PRODUCTIVIDAD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62120" y="2163600"/>
            <a:ext cx="1289880" cy="305280"/>
            <a:chOff x="762120" y="2163600"/>
            <a:chExt cx="1289880" cy="305280"/>
          </a:xfrm>
        </p:grpSpPr>
        <p:sp>
          <p:nvSpPr>
            <p:cNvPr id="124" name=""/>
            <p:cNvSpPr/>
            <p:nvPr/>
          </p:nvSpPr>
          <p:spPr>
            <a:xfrm>
              <a:off x="762120" y="21924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62360" y="2163600"/>
              <a:ext cx="989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6600"/>
                  </a:solidFill>
                  <a:latin typeface="Tahoma"/>
                </a:rPr>
                <a:t>RUTINA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85800" y="2819520"/>
            <a:ext cx="298800" cy="365040"/>
            <a:chOff x="685800" y="2819520"/>
            <a:chExt cx="298800" cy="365040"/>
          </a:xfrm>
        </p:grpSpPr>
        <p:sp>
          <p:nvSpPr>
            <p:cNvPr id="127" name=""/>
            <p:cNvSpPr/>
            <p:nvPr/>
          </p:nvSpPr>
          <p:spPr>
            <a:xfrm>
              <a:off x="984240" y="28195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5800" y="2871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943600" y="3476160"/>
            <a:ext cx="2688840" cy="610200"/>
            <a:chOff x="5943600" y="3476160"/>
            <a:chExt cx="2688840" cy="610200"/>
          </a:xfrm>
        </p:grpSpPr>
        <p:sp>
          <p:nvSpPr>
            <p:cNvPr id="130" name=""/>
            <p:cNvSpPr/>
            <p:nvPr/>
          </p:nvSpPr>
          <p:spPr>
            <a:xfrm>
              <a:off x="5943600" y="3657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49600" y="3476160"/>
              <a:ext cx="23828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CONCEPCIÓN de la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VIDA y la MUERTE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945040" y="4373280"/>
            <a:ext cx="2692080" cy="305280"/>
            <a:chOff x="5945040" y="4373280"/>
            <a:chExt cx="2692080" cy="305280"/>
          </a:xfrm>
        </p:grpSpPr>
        <p:sp>
          <p:nvSpPr>
            <p:cNvPr id="133" name=""/>
            <p:cNvSpPr/>
            <p:nvPr/>
          </p:nvSpPr>
          <p:spPr>
            <a:xfrm>
              <a:off x="5945040" y="4400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48160" y="4373280"/>
              <a:ext cx="2388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VISIÓN de MUNDO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943600" y="5000400"/>
            <a:ext cx="2311560" cy="610200"/>
            <a:chOff x="5943600" y="5000400"/>
            <a:chExt cx="2311560" cy="610200"/>
          </a:xfrm>
        </p:grpSpPr>
        <p:sp>
          <p:nvSpPr>
            <p:cNvPr id="136" name=""/>
            <p:cNvSpPr/>
            <p:nvPr/>
          </p:nvSpPr>
          <p:spPr>
            <a:xfrm>
              <a:off x="5943600" y="51814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70120" y="5000400"/>
              <a:ext cx="19850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PERCEPCIÓN de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SÍ MISMO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505320" y="3934800"/>
            <a:ext cx="1874160" cy="731880"/>
            <a:chOff x="3505320" y="3934800"/>
            <a:chExt cx="1874160" cy="731880"/>
          </a:xfrm>
        </p:grpSpPr>
        <p:sp>
          <p:nvSpPr>
            <p:cNvPr id="139" name=""/>
            <p:cNvSpPr/>
            <p:nvPr/>
          </p:nvSpPr>
          <p:spPr>
            <a:xfrm>
              <a:off x="3505320" y="419076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45520" y="3934800"/>
              <a:ext cx="1533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CULTURA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ORIGINAL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5320" y="2437920"/>
            <a:ext cx="2023920" cy="366120"/>
            <a:chOff x="3505320" y="2437920"/>
            <a:chExt cx="2023920" cy="366120"/>
          </a:xfrm>
        </p:grpSpPr>
        <p:sp>
          <p:nvSpPr>
            <p:cNvPr id="142" name=""/>
            <p:cNvSpPr/>
            <p:nvPr/>
          </p:nvSpPr>
          <p:spPr>
            <a:xfrm>
              <a:off x="3505320" y="24969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34000" y="2437920"/>
              <a:ext cx="169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BIOGRAFÍA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3040920"/>
            <a:ext cx="1829160" cy="731880"/>
            <a:chOff x="3505320" y="3040920"/>
            <a:chExt cx="1829160" cy="731880"/>
          </a:xfrm>
        </p:grpSpPr>
        <p:sp>
          <p:nvSpPr>
            <p:cNvPr id="145" name=""/>
            <p:cNvSpPr/>
            <p:nvPr/>
          </p:nvSpPr>
          <p:spPr>
            <a:xfrm>
              <a:off x="3846240" y="3040920"/>
              <a:ext cx="1488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HISTORIA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FAMILIAR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05320" y="32763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799240" y="2392200"/>
            <a:ext cx="610920" cy="61128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28920" y="1719360"/>
            <a:ext cx="611280" cy="61092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27432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Tahoma"/>
              </a:rPr>
              <a:t>SOCIABILIDA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81840" y="2805120"/>
            <a:ext cx="252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cc6600"/>
                </a:solidFill>
                <a:uFillTx/>
                <a:latin typeface="Arial"/>
                <a:hlinkClick r:id="rId1" action="ppaction://hlinksldjump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5238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Tahoma"/>
              </a:rPr>
              <a:t>ASPECTOS de INTERÉS en T.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2590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ELEMENTOS MOTIVACIONA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3581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COMPROMISO con SITUACIÓN VI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4572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ADECUACIÓN en PROYECTO de VID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1371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9840" y="1752480"/>
            <a:ext cx="481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00"/>
                </a:solidFill>
                <a:latin typeface="Arial"/>
              </a:rPr>
              <a:t>Escalas de Liker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2971800"/>
            <a:ext cx="5181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Ansie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Hostili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Autoestim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Satisfacción.....et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43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iagnóstico Multiax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S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nálisis Narrativo Construcción de Historias de Vi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calas de Like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mportamiento verb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455760" y="457200"/>
          <a:ext cx="8343720" cy="5981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760" y="457200"/>
                    <a:ext cx="8343720" cy="59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1371600"/>
            <a:ext cx="8001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Evaluación del comportamiento verb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El Método Gottschalk Gles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flipH="1">
            <a:off x="5029200" y="1676520"/>
            <a:ext cx="1905120" cy="1066680"/>
          </a:xfrm>
          <a:prstGeom prst="line">
            <a:avLst/>
          </a:prstGeom>
          <a:noFill/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257080" y="4190400"/>
            <a:ext cx="1981080" cy="685800"/>
          </a:xfrm>
          <a:prstGeom prst="line">
            <a:avLst/>
          </a:prstGeom>
          <a:noFill/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1523880"/>
            <a:ext cx="2210040" cy="1219320"/>
          </a:xfrm>
          <a:prstGeom prst="line">
            <a:avLst/>
          </a:prstGeom>
          <a:noFill/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sicológi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5181480"/>
            <a:ext cx="2286000" cy="10670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arga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afectiv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4800600"/>
            <a:ext cx="2286000" cy="14479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d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ensamient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2781360"/>
            <a:ext cx="3353040" cy="1295280"/>
          </a:xfrm>
          <a:prstGeom prst="rect">
            <a:avLst/>
          </a:prstGeom>
          <a:gradFill rotWithShape="0">
            <a:gsLst>
              <a:gs pos="0">
                <a:srgbClr val="002f2f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DUCT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VERB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13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ultur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905120" y="4343400"/>
            <a:ext cx="2133360" cy="914400"/>
          </a:xfrm>
          <a:prstGeom prst="line">
            <a:avLst/>
          </a:prstGeom>
          <a:noFill/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000" y="682560"/>
            <a:ext cx="704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"/>
              </a:rPr>
              <a:t>1.- Obtención de material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6040" y="1828800"/>
            <a:ext cx="8199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discurso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: eliminación de variables dependientes del contexto y/o del entrevistador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texto definid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strucciones standar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no responsividad verbal del examinador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escrito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strucciones standar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textos producidos con diversos fin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19051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Transcripción a borrador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incluír tartamudeos, vocalizaciones no verbales, etc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onidos no verbales (tos, llanto) entre paréntesi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usa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labras que no se escuchan claramente: variar volúmen, solicitar otro evaluador, intervención de quien tomó la muestra,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</a:rPr>
              <a:t>no adivinar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6360" y="682560"/>
            <a:ext cx="440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"/>
              </a:rPr>
              <a:t>2.- Preparació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19320" y="2362320"/>
            <a:ext cx="679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ff33"/>
                </a:solidFill>
                <a:latin typeface="Arial"/>
              </a:rPr>
              <a:t>La mínima unidad de codificación que transmite información esencial es la oración (o cláusula) gramatical, esto es,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ff33"/>
                </a:solidFill>
                <a:latin typeface="Arial"/>
              </a:rPr>
              <a:t>la combinación de sujeto y predicad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2440" y="606600"/>
            <a:ext cx="45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"/>
              </a:rPr>
              <a:t>3.- Codificació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62120" y="1523880"/>
            <a:ext cx="7772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Yo me casé </a:t>
            </a:r>
            <a:r>
              <a:rPr b="1" lang="es-C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/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y resulta que las cosas no marchan como debieran de ser.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C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/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Se han ido agravando, agravando, agravando 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C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/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y resulta que en estos momentos ya no podemos estar más juntos los dos,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C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/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pero resulta que tenemos dos niños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52440" y="606600"/>
            <a:ext cx="421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"/>
              </a:rPr>
              <a:t>4.- Puntuació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236232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Organización del material en un metamensaj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de categorías con bajo grado de inferenci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cc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Ordenación del material para propósito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comparativ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cc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Cuantific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0920" y="98100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scala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nsiedad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Hostilidad dirigida hacia fuer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Hostilidad dirigida hacia adentr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Hostilidad ambivalent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speranz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lienación Social – Desorganización Persona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13716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209680"/>
            <a:ext cx="67816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valuación multifactori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Dimensiones en ej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Multiaxialida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558720"/>
            <a:ext cx="838188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Un sistema multiaxial implica una evaluación en varios ejes, cada uno de los cuales concierne a un área distinta de información que puede ayudar al clínico en el planeamiento del tratamiento y en la predicción de resultados. En la clasificación multiaxial DSM-IV se incluyen cin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je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I Trastornos clínic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Otros problemas que pueden ser objeto de atención clínic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II Trastornos de la personalidad / Retraso men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III Enfermedades médic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IV Problemas psicosociales y ambienta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V Evaluación de la actividad glob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96240"/>
            <a:ext cx="8028000" cy="57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                   </a:t>
            </a:r>
            <a:r>
              <a:rPr b="1" i="1" lang="es-ES_tradnl" sz="2800" spc="-1" strike="noStrike" u="sng">
                <a:solidFill>
                  <a:srgbClr val="ffcc00"/>
                </a:solidFill>
                <a:uFillTx/>
                <a:latin typeface="Arial"/>
                <a:ea typeface="Times New Roman"/>
              </a:rPr>
              <a:t>DIAGNÓSTICO MULTIAXIAL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CADA  PERSONA DEBE SER EVALUADA SEGÚN LOS SIGUIENTES EJES:</a:t>
            </a:r>
            <a:br>
              <a:rPr sz="2000"/>
            </a:br>
            <a:r>
              <a:rPr b="0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JE  I    : SINDROME CLÍNICO Y /O CONDICIÓN NO ATRIBUIBLE A UNA ENFERMEDAD    MENTAL.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JE II  :   TRASTORNO DE PERSONALIDAD Y TRASTORNOS ESPECÍFICOS DEL DESARROLLO</a:t>
            </a:r>
            <a:br>
              <a:rPr sz="2000"/>
            </a:b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ESTOS EJES COMPRENDEN UN ENFOQUE GLOBAL DE LA PERSONA QUE SE ESTA EVALUANDO, CONSIDERANDO AQUELLOS PROBLEMAS NO DERIVADOS DE LA ENFERMEDAD MENTAL Y QUE TAMBIÉN SON OBJETIVO DE TRATAMIENTO  O ES INTERESANTE DE DESTACAR.</a:t>
            </a:r>
            <a:br>
              <a:rPr sz="2000"/>
            </a:b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368000"/>
            <a:ext cx="8637480" cy="46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JE III      : ENFERMEDADES FÍSICAS Y CONDICIONES   FÍSICAS</a:t>
            </a:r>
            <a:br>
              <a:rPr sz="2000"/>
            </a:b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ESTE EJE PERMITE INDICAR LOS PROBLEMAS DE ÍNDOLE FÍSICA QUE SON POTENCIALMENTE IMPORTANTE PARA LA COMPRENSIÓN O MANEJO DEL INDIVIDUO.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JE IV     :  FACTORES AMBIENTALES DE TIPO PSICOSOCIAL QUE PRODUCEN TENSIÓN O DEMANDA EXCESIVA</a:t>
            </a:r>
            <a:br>
              <a:rPr sz="2000"/>
            </a:b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ESTE EJE CODIFICA LA SEVERIDAD GLOBAL DE FACTORES DE TENSIÓN QUE HAN TENIDO UNA INFLUENCIA SIGNIFICATIVA PARA  LA EXACERBACIÓN O COMPENSACIÓN DE LA ENFERMEDAD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TABLA  DE FACTORES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VALOR PRONÓSTICO.</a:t>
            </a:r>
            <a:br>
              <a:rPr sz="2000"/>
            </a:b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6520" y="609120"/>
            <a:ext cx="8332560" cy="58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33"/>
                </a:solidFill>
                <a:latin typeface="Arial"/>
                <a:ea typeface="Times New Roman"/>
              </a:rPr>
              <a:t>EJE V    : NIVEL DE FUNCIONAMIENTO ADAPTATIVO  EN EL ÚLTIMO AÑO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ESTE EJE PERMITE INDICAR UNA VALORACIÓN SOBRE EL MÁXIMO NIVEL DE ADAPTACIÓN  DURANTE EL ÚLTIMO AÑO.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LA ADAPTACIÓN SE REFIERE A 3 ÁREAS PRINCIPALES: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ccff33"/>
                </a:solidFill>
                <a:latin typeface="Arial"/>
                <a:ea typeface="Times New Roman"/>
              </a:rPr>
              <a:t>RELACIONES SOCIALES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: DE ACUERDO A LAS VINCULACIONES AFECTIVAS CON MIEMBROS DE LA FAMILIA Y AMIGOS. IMPORTA LA INTIMIDAD Y CALIDAD  DE LAS RELACIONES.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ccff33"/>
                </a:solidFill>
                <a:latin typeface="Arial"/>
                <a:ea typeface="Times New Roman"/>
              </a:rPr>
              <a:t>OCUPACIÓN: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 SE REFIERE AL FUNCIONAMIENTO COMO TRABAJADOR, ESTUDIANTE, DUEÑA(O) DE CASA. IMPORTA LA 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CANTIDAD, COMPLEJIDAD Y CALIDAD DEL TRABAJO REALIZADO.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ccff33"/>
                </a:solidFill>
                <a:latin typeface="Arial"/>
                <a:ea typeface="Times New Roman"/>
              </a:rPr>
              <a:t>USO DEL TIEMPO LIBRE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: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 INCLUYE ACTIVIDADES RECREATIVAS O ENTRETENCIONES. IMPORTA LA PROFUNDIDAD DEL INTERÉS Y EL AGRADO QUE LA ACTIVIDAD LE APORTA.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13716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1905120"/>
            <a:ext cx="61722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.S.D.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obre la base del GRONINGEN SOCIAL DISABILITIES SCHEDU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basa en el supuesto que el funcionamiento social debería ser evaluado independientemente de la sintomatología psiquiátrica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GSDS puede ser aplicado con personas sin sintomatología psiquiátric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 una entrevista semiestructurada para evaluar el funcionamiento social en la discapacidad. Se centra en el </a:t>
            </a: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comportamiento del individuo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, mientras desempeña diferentes roles social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16:57:04Z</dcterms:created>
  <dc:creator>Terapia</dc:creator>
  <dc:description/>
  <dc:language>en-US</dc:language>
  <cp:lastModifiedBy>Laura Rueda C</cp:lastModifiedBy>
  <dcterms:modified xsi:type="dcterms:W3CDTF">2007-05-07T01:49:29Z</dcterms:modified>
  <cp:revision>34</cp:revision>
  <dc:subject/>
  <dc:title>Pautas de Evaluación Cualitativas</dc:title>
</cp:coreProperties>
</file>