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572940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09320" y="3762360"/>
            <a:ext cx="572940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093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1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6480" y="281952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4000" y="281952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09320" y="376236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46480" y="376236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4000" y="376236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320" y="2819520"/>
            <a:ext cx="5729400" cy="18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572940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362320" y="1066680"/>
            <a:ext cx="5744880" cy="34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093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09320" y="2819520"/>
            <a:ext cx="5729400" cy="18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51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09320" y="3762360"/>
            <a:ext cx="572940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572940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09320" y="3762360"/>
            <a:ext cx="572940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93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451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6480" y="281952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4000" y="281952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09320" y="376236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46480" y="376236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84000" y="3762360"/>
            <a:ext cx="184464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572940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362320" y="1066680"/>
            <a:ext cx="5744880" cy="34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093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120" y="376236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120" y="2819520"/>
            <a:ext cx="279576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320" y="3762360"/>
            <a:ext cx="572940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349"/>
              </a:spcBef>
              <a:buClr>
                <a:srgbClr val="cc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249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rot="16200000">
            <a:off x="-2857320" y="291132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ODELOS de INTERVENCIÓN de TERAPIA OCUP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 PSIQUIATRÍA  y SALUD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5744880" cy="74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349"/>
              </a:spcBef>
              <a:buClr>
                <a:srgbClr val="cc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24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427640" y="4723920"/>
            <a:ext cx="367344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URA RUEDA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361960" y="1066320"/>
            <a:ext cx="5954760" cy="200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Introducción y presencia de la sintomatología desde l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Terapia Ocupaciona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6553080" cy="749520"/>
          </a:xfrm>
          <a:prstGeom prst="rect">
            <a:avLst/>
          </a:prstGeom>
          <a:solidFill>
            <a:srgbClr val="66ffff"/>
          </a:solidFill>
          <a:ln w="15840">
            <a:solidFill>
              <a:srgbClr val="ff6600"/>
            </a:solidFill>
            <a:miter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00"/>
                </a:solidFill>
                <a:latin typeface="Arial Narrow"/>
              </a:rPr>
              <a:t>AFECTIVIDAD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1029600" y="2779560"/>
            <a:ext cx="786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Arial"/>
              </a:rPr>
              <a:t>TRASTORNOS DE LOS SENTIMIENTO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Arial"/>
              </a:rPr>
              <a:t>TRASTORNOS EN LOS SENTIMIENT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33"/>
                </a:solidFill>
                <a:latin typeface="Arial"/>
              </a:rPr>
              <a:t>A nivel del comportamiento, se observa:</a:t>
            </a:r>
            <a:br>
              <a:rPr sz="2800"/>
            </a:br>
            <a:r>
              <a:rPr b="1" lang="es-ES_tradnl" sz="2800" spc="-1" strike="noStrike">
                <a:solidFill>
                  <a:srgbClr val="660033"/>
                </a:solidFill>
                <a:latin typeface="Arial"/>
              </a:rPr>
              <a:t>AFECTIVIDA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bilidad,/ tristeza,/ exal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lanamiento, /desgano,/ apat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iedad, /angus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valoración, /In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33"/>
                </a:solidFill>
                <a:latin typeface="Arial"/>
              </a:rPr>
              <a:t>A nivel del comportamiento, se observa:</a:t>
            </a:r>
            <a:br>
              <a:rPr sz="2800"/>
            </a:br>
            <a:r>
              <a:rPr b="1" lang="es-ES_tradnl" sz="2800" spc="-1" strike="noStrike">
                <a:solidFill>
                  <a:srgbClr val="660033"/>
                </a:solidFill>
                <a:latin typeface="Arial"/>
              </a:rPr>
              <a:t>PSICOMOTRICIDA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quietud,/ Ag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reotipias, / amanera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ición, / Hipomi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ul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zarr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ectos secundarios a fárm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989640"/>
            <a:ext cx="6996240" cy="581400"/>
          </a:xfrm>
          <a:prstGeom prst="rect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TRUMENTOS del VIVEN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870200"/>
            <a:ext cx="64468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CONC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INTEL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ATENCIÓN y CONCEN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ORI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33"/>
                </a:solidFill>
                <a:latin typeface="Arial"/>
              </a:rPr>
              <a:t>A nivel del comportamiento, se observa:</a:t>
            </a:r>
            <a:br>
              <a:rPr sz="2800"/>
            </a:br>
            <a:r>
              <a:rPr b="1" lang="es-ES" sz="2800" spc="-1" strike="noStrike">
                <a:solidFill>
                  <a:srgbClr val="660033"/>
                </a:solidFill>
                <a:latin typeface="Arial"/>
              </a:rPr>
              <a:t>CONC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dida de Al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fusión de los hecho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lta de auto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sición a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lta de reconocimiento de si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eraciones del s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7308720" cy="18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Análisis Dimens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3124080"/>
            <a:ext cx="6096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646596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1005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5317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46608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RESIVIDAD - COMPORTAMIENTO -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712240"/>
            <a:ext cx="76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Comic Sans MS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09680" y="3124080"/>
            <a:ext cx="6096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2420280"/>
            <a:ext cx="76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Comic Sans MS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1989000"/>
            <a:ext cx="5184720" cy="34560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626920" y="1413000"/>
            <a:ext cx="4535640" cy="40320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537372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rre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98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53737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s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3500280"/>
            <a:ext cx="396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419640" y="3357720"/>
            <a:ext cx="3600360" cy="1425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3284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29242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981000"/>
            <a:ext cx="0" cy="518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052640"/>
            <a:ext cx="0" cy="47527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04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6021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problema de la enfermedad crón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ntirse enfermo, estar enfermo y ser en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iciones crónicas: permanencia en el tiempo y globalidad de los compromisos vi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evancia de la no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o Salud – enferme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09680" y="3124080"/>
            <a:ext cx="6096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646596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05320" y="1005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55317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46608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RESIVIDAD - COMPORTAMIENTO -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712240"/>
            <a:ext cx="76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Comic Sans MS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5760" y="533520"/>
            <a:ext cx="8687880" cy="5142960"/>
            <a:chOff x="455760" y="533520"/>
            <a:chExt cx="8687880" cy="5142960"/>
          </a:xfrm>
        </p:grpSpPr>
        <p:sp>
          <p:nvSpPr>
            <p:cNvPr id="88" name=""/>
            <p:cNvSpPr/>
            <p:nvPr/>
          </p:nvSpPr>
          <p:spPr>
            <a:xfrm>
              <a:off x="455760" y="762120"/>
              <a:ext cx="13712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ELEMEN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DEL VIVENC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5760" y="2019240"/>
              <a:ext cx="13712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INSTRUMEN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DEL VIVENC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69800" y="3276720"/>
              <a:ext cx="73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760" y="3848040"/>
              <a:ext cx="13712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DIMEN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YO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4680" y="32630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41480" y="3733920"/>
              <a:ext cx="7202160" cy="1942560"/>
              <a:chOff x="1941480" y="3733920"/>
              <a:chExt cx="7202160" cy="1942560"/>
            </a:xfrm>
          </p:grpSpPr>
          <p:sp>
            <p:nvSpPr>
              <p:cNvPr id="94" name=""/>
              <p:cNvSpPr/>
              <p:nvPr/>
            </p:nvSpPr>
            <p:spPr>
              <a:xfrm>
                <a:off x="5486400" y="3962160"/>
                <a:ext cx="0" cy="148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57600" y="4191120"/>
                <a:ext cx="37717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787920" y="4191120"/>
                <a:ext cx="34290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86280" y="4648320"/>
                <a:ext cx="480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57680" y="3962160"/>
                <a:ext cx="11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ADHES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29200" y="3733920"/>
                <a:ext cx="11430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ACTIV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72480" y="3962160"/>
                <a:ext cx="11430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REAL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01000" y="4533840"/>
                <a:ext cx="114264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DEPENDENC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29680" y="5105520"/>
                <a:ext cx="12571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EVIT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15080" y="5448240"/>
                <a:ext cx="12571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PASIV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14880" y="5105520"/>
                <a:ext cx="11430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IRREAL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41480" y="4533840"/>
                <a:ext cx="12571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INDEPENDENC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59520" y="4419360"/>
                <a:ext cx="7999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Y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053800" y="533520"/>
              <a:ext cx="6973560" cy="2400120"/>
              <a:chOff x="2053800" y="533520"/>
              <a:chExt cx="6973560" cy="2400120"/>
            </a:xfrm>
          </p:grpSpPr>
          <p:sp>
            <p:nvSpPr>
              <p:cNvPr id="108" name=""/>
              <p:cNvSpPr/>
              <p:nvPr/>
            </p:nvSpPr>
            <p:spPr>
              <a:xfrm>
                <a:off x="2053800" y="647640"/>
                <a:ext cx="537192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                 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      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PENSAMIEN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SENSACIÓN   –  PERCEPCIÓN  –  REPRESENTACIÓN                           PSICOMOTRIC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                                                                            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AFECTIV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(vía nerviosa)  (centro nervioso)                (psiquismo)                                (corporalidad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56120" y="535320"/>
                <a:ext cx="13712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LENGUAJ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OCUP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55600" y="1790640"/>
                <a:ext cx="1485720" cy="571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</a:rPr>
                  <a:t>CONCIENC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98600" y="2362320"/>
                <a:ext cx="1485720" cy="571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INTELIGENC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55720" y="1790640"/>
                <a:ext cx="1485720" cy="571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</a:rPr>
                  <a:t>ATEN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13200" y="2362320"/>
                <a:ext cx="1485720" cy="571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ahoma"/>
                  </a:rPr>
                  <a:t>MEMORI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70320" y="1790640"/>
                <a:ext cx="1485720" cy="571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</a:rPr>
                  <a:t>ORIENT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970000" y="15616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998520" y="201924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5141520" y="156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6513120" y="2133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7313400" y="1561680"/>
                <a:ext cx="3427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27520" y="533520"/>
                <a:ext cx="114120" cy="685800"/>
              </a:xfrm>
              <a:custGeom>
                <a:avLst/>
                <a:gdLst>
                  <a:gd name="textAreaLeft" fmla="*/ 73080 w 114120"/>
                  <a:gd name="textAreaRight" fmla="*/ 114480 w 1141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380880" y="6019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080" y="5985000"/>
            <a:ext cx="81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1] EL PSIQUISMO HUMANO: Constitución y mecanismos básicos desde una perspectiva fenomenológica. Basado en el  texto: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pponi, R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Psicopatología y Semiología Psiquiátric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692360" y="2349360"/>
            <a:ext cx="6594480" cy="18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Análisis Categ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6553080" cy="749520"/>
          </a:xfrm>
          <a:prstGeom prst="rect">
            <a:avLst/>
          </a:prstGeom>
          <a:noFill/>
          <a:ln w="15840">
            <a:solidFill>
              <a:srgbClr val="ff6600"/>
            </a:solidFill>
            <a:miter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00"/>
                </a:solidFill>
                <a:latin typeface="Arial Narrow"/>
              </a:rPr>
              <a:t>ELEMENTOS DEL VIVENCIAR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285920" y="2500560"/>
            <a:ext cx="732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NSACIÓN- PERCEPCIÓN- 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NSAMIENTO (LENGU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F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SICOMO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33"/>
                </a:solidFill>
                <a:latin typeface="Arial"/>
              </a:rPr>
              <a:t>A nivel del comportamiento, se observa:</a:t>
            </a:r>
            <a:br>
              <a:rPr sz="2800"/>
            </a:br>
            <a:r>
              <a:rPr b="1" lang="es-ES_tradnl" sz="2800" spc="-1" strike="noStrike">
                <a:solidFill>
                  <a:srgbClr val="660033"/>
                </a:solidFill>
                <a:latin typeface="Arial"/>
              </a:rPr>
              <a:t>SENSACIÓN- PERCEPCIÓN-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660033"/>
                </a:solidFill>
                <a:latin typeface="Arial"/>
              </a:rPr>
              <a:t>RE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tornos de la sensibilidad: problemas de integración sensorial en el adu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za para cog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de ves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istencia al cambio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ención a deta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visión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6553080" cy="749520"/>
          </a:xfrm>
          <a:prstGeom prst="rect">
            <a:avLst/>
          </a:prstGeom>
          <a:solidFill>
            <a:srgbClr val="66ffff"/>
          </a:solidFill>
          <a:ln w="15840">
            <a:solidFill>
              <a:srgbClr val="ff6600"/>
            </a:solidFill>
            <a:miter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00"/>
                </a:solidFill>
                <a:latin typeface="Arial Narrow"/>
              </a:rPr>
              <a:t>PENSAMIENTO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329120" y="2189520"/>
            <a:ext cx="7422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TRASTORNOS EN LA 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TRASTORNOS EN LA VELO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TRASTORNOS EN EL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Arial"/>
              </a:rPr>
              <a:t>TRASTORNOS EN EL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33"/>
                </a:solidFill>
                <a:latin typeface="Arial"/>
              </a:rPr>
              <a:t>A nivel del comportamiento, se observa:</a:t>
            </a:r>
            <a:br>
              <a:rPr sz="2800"/>
            </a:br>
            <a:r>
              <a:rPr b="1" lang="es-ES_tradnl" sz="2800" spc="-1" strike="noStrike">
                <a:solidFill>
                  <a:srgbClr val="660033"/>
                </a:solidFill>
                <a:latin typeface="Arial"/>
              </a:rPr>
              <a:t>PENSAMIENTO (LENGUAJ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 verbal poco us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ceso, / Disminución / ausencia de pal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xitud,/ incoherencia,/ disgre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ologismos,/ amanera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retismo,/ puer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note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traimiento, / expec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isas inmotivadas,/  mus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03:14:52Z</dcterms:created>
  <dc:creator>Equipo Familiar</dc:creator>
  <dc:description/>
  <dc:language>en-US</dc:language>
  <cp:lastModifiedBy>Laura Rueda C</cp:lastModifiedBy>
  <cp:lastPrinted>2002-03-15T13:35:04Z</cp:lastPrinted>
  <dcterms:modified xsi:type="dcterms:W3CDTF">2007-03-26T04:41:52Z</dcterms:modified>
  <cp:revision>65</cp:revision>
  <dc:subject/>
  <dc:title>Información general de la organización</dc:title>
</cp:coreProperties>
</file>