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0FE-16A1-4E70-89EB-3F315470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649-8215-477D-91CB-4A0743CE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7A8-29FA-49FB-8A96-8090F6DC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635-921C-4D88-9348-546C54C0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9594-DFD4-4B69-BCE7-FD5C22F1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767C-22D9-4C93-A5CE-A995D02C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E17F-1D4C-424C-A82B-7D76ACD1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5A63-2641-47EB-B420-17437CE4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9694-4837-419B-96AB-0AF952A4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6B48-33C0-48CB-B5AB-30793160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F124-70EA-4A44-90FC-A2C2BE1B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CE1-7AC3-4699-8A36-6C75680E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7AA7-819B-4B30-8155-0489ADF7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C33D-E089-437B-8703-CA0039B5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56CE-3723-43EE-A8F3-C158EDD0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7A86-BC7B-4DDD-8319-161686C8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482E-488B-4098-958E-C64BD3C2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F5B-25FC-4256-BD03-F4234DEA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DFB-D609-44EF-82AB-D0AB2625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A17C-ECDA-4C79-B27D-70BD3287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DF6-A0F7-4F58-B31B-0087490C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5F1-AA99-4A13-A47F-8CE1E5EA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ACE5-704C-4843-933D-ECEDDAAF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4B7-88BE-4A97-B309-14098EC8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4FF9-E065-4E83-8831-54D7E4D7D2FA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DBED-9687-4AD5-8638-ED5BB620A6D2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a Funcionalidad Yo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racterísticas del Y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anda la vida psíqu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lifica y da sentido a las viv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ntiene al sujeto adaptado a la re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ace propios los actos psíqu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plejo, dinámico e integrad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valuación </a:t>
            </a: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funcionalidad yo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7724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lexibilidad Adapta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pacidad de romper círculos vicio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ortale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stitución evolutiva del Y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133720"/>
            <a:ext cx="3886200" cy="2361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EMENTOS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OPUESTO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 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Dialéct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2819520"/>
            <a:ext cx="3810240" cy="1904760"/>
          </a:xfrm>
          <a:prstGeom prst="ellipse">
            <a:avLst/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EMPOR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Dinám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3733920"/>
            <a:ext cx="3352680" cy="198108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ones Yo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487692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van conformando a través del desarrollo de la persona, alcanzando madurez en la medida que se integran ambas polar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66688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PENDENCIA - INDEP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42900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DHESIÓN - EV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82880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CTIVIDAD - PAS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4191120"/>
            <a:ext cx="6172200" cy="990360"/>
          </a:xfrm>
          <a:prstGeom prst="leftRightArrow">
            <a:avLst>
              <a:gd name="adj1" fmla="val 50000"/>
              <a:gd name="adj2" fmla="val 124068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ALIDAD - IRR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342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titud alerta, activa y vigil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rientado a sus me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decis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abora planes, desarrolla estrateg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nta controlar el medio amb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05120"/>
            <a:ext cx="7925040" cy="990360"/>
          </a:xfrm>
          <a:prstGeom prst="leftRightArrow">
            <a:avLst>
              <a:gd name="adj1" fmla="val 50000"/>
              <a:gd name="adj2" fmla="val 159303"/>
            </a:avLst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CTIVIDAD - PAS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2514600"/>
            <a:ext cx="3276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eja ll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ive el aquí y el a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 mani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aceptan las situa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057400"/>
            <a:ext cx="7848720" cy="990720"/>
          </a:xfrm>
          <a:prstGeom prst="leftRightArrow">
            <a:avLst>
              <a:gd name="adj1" fmla="val 50000"/>
              <a:gd name="adj2" fmla="val 157711"/>
            </a:avLst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PENDENCIA - INDEP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666880"/>
            <a:ext cx="3581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otros son fuente de gra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lora el criterio, la opinión y la ayuda que pueden brindar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666880"/>
            <a:ext cx="3353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serva su individu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gratifica consigo m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individualmente sus decis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05120"/>
            <a:ext cx="8153640" cy="990360"/>
          </a:xfrm>
          <a:prstGeom prst="leftRightArrow">
            <a:avLst>
              <a:gd name="adj1" fmla="val 50000"/>
              <a:gd name="adj2" fmla="val 163898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DHESIÓN - EV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590920"/>
            <a:ext cx="3353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distancia de los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590920"/>
            <a:ext cx="3353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 atrae vincularse con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962520"/>
            <a:ext cx="6781680" cy="131364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ntro de un proceso relacional vive sin dificultades la evolución desde una adhesividad inicial hasta el distanciamiento natural que no necesariamente destruye el vín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2666880"/>
            <a:ext cx="3733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conoce las fantasías, imaginaciones y ensueños del mundo 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819520"/>
            <a:ext cx="3352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ercibe la realidad del mundo ex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81080"/>
            <a:ext cx="8229600" cy="990720"/>
          </a:xfrm>
          <a:prstGeom prst="leftRightArrow">
            <a:avLst>
              <a:gd name="adj1" fmla="val 50000"/>
              <a:gd name="adj2" fmla="val 165364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ALIDAD - IRR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724280"/>
            <a:ext cx="6858000" cy="1008720"/>
          </a:xfrm>
          <a:prstGeom prst="rect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limita claramente ambas fronteras y acepta la integración de ambos, reconociendo lo irreal dentro de lo real y vice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incipio de Realidad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(funcional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828800"/>
          <a:ext cx="8421480" cy="4551480"/>
        </p:xfrm>
        <a:graphic>
          <a:graphicData uri="http://schemas.openxmlformats.org/drawingml/2006/table">
            <a:tbl>
              <a:tblPr/>
              <a:tblGrid>
                <a:gridCol w="2057400"/>
                <a:gridCol w="3352680"/>
                <a:gridCol w="301140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or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í m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ta la realidad, con moldeos y distorsiones leves para su propia tranqu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ra su identidad. Se aprecia y estima. Conoce sus límites y capacidad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partir de la realidad proyecta su vida construyendo pla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proyecta en el tiempo y da sentido a su exist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conforman las ideas a partir de las vivencias Se construye un capital ide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 y da sentido a su conciencia de sí mismo. El yo está integrado como estruc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incipio de Realidad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(alterad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04920" y="1828800"/>
          <a:ext cx="8421480" cy="4248000"/>
        </p:xfrm>
        <a:graphic>
          <a:graphicData uri="http://schemas.openxmlformats.org/drawingml/2006/table">
            <a:tbl>
              <a:tblPr/>
              <a:tblGrid>
                <a:gridCol w="2057400"/>
                <a:gridCol w="3276360"/>
                <a:gridCol w="3087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or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í m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isposición a apreciar los hechos, personas y objetos de una forma rígi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á distorsionada por motivaciones internas. Vive conflictos y contradiccio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identifica su propósito vital, no tiene proyecciones, vive con inmediatez las RI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hay compromiso con la vivencia de significación. Autodestruc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y una vivencia de realidad perturbada. El entorno es paranoideamente amenazante y esquizoideamente evit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9:23:17Z</dcterms:created>
  <dc:creator>Terapia</dc:creator>
  <dc:description/>
  <dc:language>en-US</dc:language>
  <cp:lastModifiedBy>Fac. de Medicina</cp:lastModifiedBy>
  <dcterms:modified xsi:type="dcterms:W3CDTF">2007-03-26T14:57:55Z</dcterms:modified>
  <cp:revision>6</cp:revision>
  <dc:subject/>
  <dc:title>La Funcionalidad Yoica</dc:title>
</cp:coreProperties>
</file>