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61CA-C4A3-439B-9C89-9E95366A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58DC-FB45-40A6-B329-E5CAE0D8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5AF-6D57-40D8-8118-2707A06B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F09F-C834-44EF-93A5-507C6B81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C025-C538-4AF5-A52C-C0E7B66C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E75C-EDDC-488C-903C-C56375BB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402B-2992-412F-A7E2-AB70E8FD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6D4A-72BE-4FCA-8DD1-BC1E6187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324B-6FD1-475A-87A4-5C392678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501E-8D0B-4706-8B5E-302B0EBE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188C-09B8-4774-8C02-6EC71575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03EF-76EF-414B-A70B-E82B33F1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115B-AB08-4ADA-BDFC-2DF27C58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7463-3BFF-4552-8A45-953F96CE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A041-41B4-4678-B1B2-3B29F4D1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3C7F-F913-4A62-B066-C3464869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B97B-89B5-4BAA-A742-2920FBBB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FF4-24B2-4549-B1B5-C65DCE91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2B5F-14BF-4198-9306-34A3540B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FC7E-E602-4B55-97EE-FA92F00C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6F23-40A9-4B9D-9174-5F53DB3F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C836-327D-4738-B7FB-532E2813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C76B-8898-4E2E-9322-23D1156D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2DA-C8A8-4715-84A4-2F100653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0174-C4F2-4559-9F7E-577CB0A90D6B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DEB9-B9A3-4246-B347-407A38455ADC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La Funcionalidad Yo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racterísticas del Y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manda la vida psíqu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alifica y da sentido a las viv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ntiene al sujeto adaptado a la re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Hace propios los actos psíqu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mplejo, dinámico e integrad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valuación </a:t>
            </a:r>
            <a:br>
              <a:rPr sz="4400"/>
            </a:b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funcionalidad yo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77240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lexibilidad Adaptat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pacidad de romper círculos vicio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ortale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tabi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nstitución evolutiva del Y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133720"/>
            <a:ext cx="3886200" cy="2361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EMENTOS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OPUESTO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N 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(Dialéct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2819520"/>
            <a:ext cx="3810240" cy="1904760"/>
          </a:xfrm>
          <a:prstGeom prst="ellipse">
            <a:avLst/>
          </a:prstGeom>
          <a:noFill/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EMPOR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(Dinám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3733920"/>
            <a:ext cx="3352680" cy="1981080"/>
          </a:xfrm>
          <a:prstGeom prst="ellipse">
            <a:avLst/>
          </a:prstGeom>
          <a:noFill/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NTE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ones Yoi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4876920"/>
            <a:ext cx="70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van conformando a través del desarrollo de la persona, alcanzando madurez en la medida que se integran ambas polar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666880"/>
            <a:ext cx="6172200" cy="990720"/>
          </a:xfrm>
          <a:prstGeom prst="leftRightArrow">
            <a:avLst>
              <a:gd name="adj1" fmla="val 50000"/>
              <a:gd name="adj2" fmla="val 124023"/>
            </a:avLst>
          </a:prstGeom>
          <a:noFill/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DEPENDENCIA - INDEPEN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3429000"/>
            <a:ext cx="6172200" cy="990720"/>
          </a:xfrm>
          <a:prstGeom prst="leftRightArrow">
            <a:avLst>
              <a:gd name="adj1" fmla="val 50000"/>
              <a:gd name="adj2" fmla="val 12402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DHESIÓN - EV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828800"/>
            <a:ext cx="6172200" cy="990720"/>
          </a:xfrm>
          <a:prstGeom prst="leftRightArrow">
            <a:avLst>
              <a:gd name="adj1" fmla="val 50000"/>
              <a:gd name="adj2" fmla="val 124023"/>
            </a:avLst>
          </a:prstGeom>
          <a:noFill/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CTIVIDAD - PAS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4191120"/>
            <a:ext cx="6172200" cy="990360"/>
          </a:xfrm>
          <a:prstGeom prst="leftRightArrow">
            <a:avLst>
              <a:gd name="adj1" fmla="val 50000"/>
              <a:gd name="adj2" fmla="val 124068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EALIDAD - IRR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3429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titud alerta, activa y vigila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rientado a sus me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oma decis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abora planes, desarrolla estrateg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nta controlar el medio ambi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05120"/>
            <a:ext cx="7925040" cy="990360"/>
          </a:xfrm>
          <a:prstGeom prst="leftRightArrow">
            <a:avLst>
              <a:gd name="adj1" fmla="val 50000"/>
              <a:gd name="adj2" fmla="val 159303"/>
            </a:avLst>
          </a:prstGeom>
          <a:noFill/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CTIVIDAD - PAS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2514600"/>
            <a:ext cx="3276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deja lle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ive el aquí y el a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 manip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aceptan las situaci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057400"/>
            <a:ext cx="7848720" cy="990720"/>
          </a:xfrm>
          <a:prstGeom prst="leftRightArrow">
            <a:avLst>
              <a:gd name="adj1" fmla="val 50000"/>
              <a:gd name="adj2" fmla="val 157711"/>
            </a:avLst>
          </a:prstGeom>
          <a:noFill/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DEPENDENCIA - INDEPEN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2666880"/>
            <a:ext cx="3581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otros son fuente de gra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alora el criterio, la opinión y la ayuda que pueden brindar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2666880"/>
            <a:ext cx="3353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serva su individu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gratifica consigo m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oma individualmente sus decis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905120"/>
            <a:ext cx="8153640" cy="990360"/>
          </a:xfrm>
          <a:prstGeom prst="leftRightArrow">
            <a:avLst>
              <a:gd name="adj1" fmla="val 50000"/>
              <a:gd name="adj2" fmla="val 163898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DHESIÓN - EV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2590920"/>
            <a:ext cx="3353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oma distancia de los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590920"/>
            <a:ext cx="3353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e atrae vincularse con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962520"/>
            <a:ext cx="6781680" cy="131364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ntro de un proceso relacional vive sin dificultades la evolución desde una adhesividad inicial hasta el distanciamiento natural que no necesariamente destruye el vín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2666880"/>
            <a:ext cx="3733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conoce las fantasías, imaginaciones y ensueños del mundo in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819520"/>
            <a:ext cx="3352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ercibe la realidad del mundo ex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981080"/>
            <a:ext cx="8229600" cy="990720"/>
          </a:xfrm>
          <a:prstGeom prst="leftRightArrow">
            <a:avLst>
              <a:gd name="adj1" fmla="val 50000"/>
              <a:gd name="adj2" fmla="val 165364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EALIDAD - IRR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724280"/>
            <a:ext cx="6858000" cy="1008720"/>
          </a:xfrm>
          <a:prstGeom prst="rect">
            <a:avLst/>
          </a:pr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limita claramente ambas fronteras y acepta la integración de ambos, reconociendo lo irreal dentro de lo real y vice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incipio de Realidad</a:t>
            </a: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(funcional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828800"/>
          <a:ext cx="8421480" cy="4551480"/>
        </p:xfrm>
        <a:graphic>
          <a:graphicData uri="http://schemas.openxmlformats.org/drawingml/2006/table">
            <a:tbl>
              <a:tblPr/>
              <a:tblGrid>
                <a:gridCol w="2057400"/>
                <a:gridCol w="3352680"/>
                <a:gridCol w="301140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or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í mis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reci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ta la realidad, con moldeos y distorsiones leves para su propia tranqu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ra su identidad. Se aprecia y estima. Conoce sus límites y capacidad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ntid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partir de la realidad proyecta su vida construyendo pla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proyecta en el tiempo y da sentido a su exist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uic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conforman las ideas a partir de las vivencias Se construye un capital ideativ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recia y da sentido a su conciencia de sí mismo. El yo está integrado como estruc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incipio de Realidad</a:t>
            </a: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(alterado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04920" y="1828800"/>
          <a:ext cx="8421480" cy="4248000"/>
        </p:xfrm>
        <a:graphic>
          <a:graphicData uri="http://schemas.openxmlformats.org/drawingml/2006/table">
            <a:tbl>
              <a:tblPr/>
              <a:tblGrid>
                <a:gridCol w="2057400"/>
                <a:gridCol w="3276360"/>
                <a:gridCol w="3087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or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í mis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reci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disposición a apreciar los hechos, personas y objetos de una forma rígi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tá distorsionada por motivaciones internas. Vive conflictos y contradiccion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ntid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identifica su propósito vital, no tiene proyecciones, vive con inmediatez las RI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hay compromiso con la vivencia de significación. Autodestruc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uic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y una vivencia de realidad perturbada. El entorno es paranoideamente amenazante y esquizoideamente evit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9:23:17Z</dcterms:created>
  <dc:creator>Terapia</dc:creator>
  <dc:description/>
  <dc:language>en-US</dc:language>
  <cp:lastModifiedBy>Fac. de Medicina</cp:lastModifiedBy>
  <dcterms:modified xsi:type="dcterms:W3CDTF">2007-03-26T14:57:55Z</dcterms:modified>
  <cp:revision>6</cp:revision>
  <dc:subject/>
  <dc:title>La Funcionalidad Yoica</dc:title>
</cp:coreProperties>
</file>