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02A-F729-4123-8835-328C2FCC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09C-D9FA-42A9-A400-4705397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853-8511-4480-A525-B61C3BF0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410-D8D5-46E5-A1DA-9ADFDEEF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C6AC-170E-401B-80B8-7E925CAE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F4A9-50DD-40AF-83F6-12DC64FC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24F6-5C46-4415-92AD-05EF3700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73BC-04E1-4D83-9BE1-D3AA405F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37A4-4E95-4F17-BF5E-494D3F45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4EC5-CBEC-465F-8F66-607B8BEE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63EA-D8D1-4AFF-B226-ADA3D7F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8C7-91FF-4C1E-978B-86FF9F81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7ADF-A249-457F-A5CD-9F474EF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7F52-1CED-4E74-90C5-C5AE169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97B-E3D4-4A00-A96C-87AC359A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7212-258E-4BF8-9406-D0BBDFB2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EB7F-0740-400F-BD5E-2432CC19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DEF-4186-4C22-BACF-DADEA3B5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B18-9CF4-4F97-9AB3-946A5E55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ED3-6851-430A-A624-58BADC6B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11B-E17E-44DC-8094-9B673C71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4FA-B3A6-4B64-A1A7-958E7294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EA4-CE80-467E-A907-E3C38A9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34B-81A2-42BD-9A31-299A048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66B3-FBBC-47D0-98A5-A429808DBD2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D9AB-16F3-47BF-80A3-EBADE47B4C24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 del Y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anda la vida psíqu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lifica y da sentido a las viv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iene al sujeto adaptado a la re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ace propios los actos psíqu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lejo, dinámico e integ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 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lexibilidad Adapta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pacidad de romper círculos vicio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ortal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stitución evolutiva del Y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3886200" cy="2361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EMENT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PUEST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aléct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819520"/>
            <a:ext cx="3810240" cy="19047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MPO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ná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733920"/>
            <a:ext cx="3352680" cy="198108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ones Yo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van conformando a través del desarrollo de la persona, alcanzando madurez en la medida que se integran ambas pola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66688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8288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191120"/>
            <a:ext cx="6172200" cy="990360"/>
          </a:xfrm>
          <a:prstGeom prst="leftRightArrow">
            <a:avLst>
              <a:gd name="adj1" fmla="val 50000"/>
              <a:gd name="adj2" fmla="val 124068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342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tud alerta, activa y vigil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ientado a sus m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abora planes, desarrolla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ta controlar el medio amb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05120"/>
            <a:ext cx="7925040" cy="990360"/>
          </a:xfrm>
          <a:prstGeom prst="leftRightArrow">
            <a:avLst>
              <a:gd name="adj1" fmla="val 50000"/>
              <a:gd name="adj2" fmla="val 159303"/>
            </a:avLst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514600"/>
            <a:ext cx="327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ja ll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ve el aquí y el a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mani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aceptan las situ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57400"/>
            <a:ext cx="7848720" cy="990720"/>
          </a:xfrm>
          <a:prstGeom prst="leftRightArrow">
            <a:avLst>
              <a:gd name="adj1" fmla="val 50000"/>
              <a:gd name="adj2" fmla="val 157711"/>
            </a:avLst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666880"/>
            <a:ext cx="3581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otros son fuente de gra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a el criterio, la opinión y la ayuda que pueden brindar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666880"/>
            <a:ext cx="3353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erva su individu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ratifica consigo 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individualmente sus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8153640" cy="990360"/>
          </a:xfrm>
          <a:prstGeom prst="leftRightArrow">
            <a:avLst>
              <a:gd name="adj1" fmla="val 50000"/>
              <a:gd name="adj2" fmla="val 16389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istancia de los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 atrae vincularse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962520"/>
            <a:ext cx="6781680" cy="13136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ntro de un proceso relacional vive sin dificultades la evolución desde una adhesividad inicial hasta el distanciamiento natural que no necesariamente destruye el vín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66688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conoce las fantasías, imaginaciones y ensueños del mund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8195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cibe la realidad del mundo 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8229600" cy="990720"/>
          </a:xfrm>
          <a:prstGeom prst="leftRightArrow">
            <a:avLst>
              <a:gd name="adj1" fmla="val 50000"/>
              <a:gd name="adj2" fmla="val 165364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6858000" cy="1008720"/>
          </a:xfrm>
          <a:prstGeom prst="rect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limita claramente ambas fronteras y acepta la integración de ambos, reconociendo lo irreal dentro de lo real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funciona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8421480" cy="4551480"/>
        </p:xfrm>
        <a:graphic>
          <a:graphicData uri="http://schemas.openxmlformats.org/drawingml/2006/table">
            <a:tbl>
              <a:tblPr/>
              <a:tblGrid>
                <a:gridCol w="2057400"/>
                <a:gridCol w="3352680"/>
                <a:gridCol w="3011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ta la realidad, con moldeos y distorsiones leves para su propia tranqu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ra su identidad. Se aprecia y estima. Conoce sus límites y capacidad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partir de la realidad proyecta su vida construyendo pl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oyecta en el tiempo y da sentido a su exis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conforman las ideas a partir de las vivencias Se construye un capital ide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 y da sentido a su conciencia de sí mismo. El yo está integrado como 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alterad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1828800"/>
          <a:ext cx="8421480" cy="4248000"/>
        </p:xfrm>
        <a:graphic>
          <a:graphicData uri="http://schemas.openxmlformats.org/drawingml/2006/table">
            <a:tbl>
              <a:tblPr/>
              <a:tblGrid>
                <a:gridCol w="2057400"/>
                <a:gridCol w="3276360"/>
                <a:gridCol w="3087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isposición a apreciar los hechos, personas y objetos de una forma ríg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á distorsionada por motivaciones internas. Vive conflictos y contradic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identifica su propósito vital, no tiene proyecciones, vive con inmediatez las R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hay compromiso con la vivencia de significación. Autodestruc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y una vivencia de realidad perturbada. El entorno es paranoideamente amenazante y esquizoideamente evit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9:23:17Z</dcterms:created>
  <dc:creator>Terapia</dc:creator>
  <dc:description/>
  <dc:language>en-US</dc:language>
  <cp:lastModifiedBy>Fac. de Medicina</cp:lastModifiedBy>
  <dcterms:modified xsi:type="dcterms:W3CDTF">2007-03-26T14:57:55Z</dcterms:modified>
  <cp:revision>6</cp:revision>
  <dc:subject/>
  <dc:title>La Funcionalidad Yoica</dc:title>
</cp:coreProperties>
</file>