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403-92F6-43AF-BF2C-756E6E10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D93-B7DE-401C-9437-1BA02132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B6F-AC4C-46A6-B669-EB1E0E20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813-C886-49FE-87AF-32ADDA4B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C017-828A-47A4-BCB7-7B8FDEE8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C656-FFA1-4A43-A9E5-7684275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65FD-5990-4CE9-9BAA-E5FAE8A6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4C8A-E936-472D-A8F1-837A3326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E144-5AD4-40CF-BB02-98ACD486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08AE-0723-4852-A6C1-956F2E9F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FD5F-96A7-42F3-A0E8-DB6A56C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CE9-395D-4DD6-B299-C3BA4BF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A7C7-86FF-4B34-A526-2A907F9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9C4F-0DC5-41CE-9E4D-C0106894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24D4-EB0B-4C64-9F10-8B9B5EB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483E-A29E-4FE2-B947-C89B1B32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67A6-B435-49A2-9410-C4F583E2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76F-3B16-4697-9373-4A75C4FE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634-41CE-440D-B783-88C99CBD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8FC-EA1B-40A7-B17F-065ECE5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78A-792F-4EAD-8DA0-A74AA12E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C14-2633-46A5-B283-82B65C77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4B8-D468-4A11-A788-E357720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9D2-603B-4933-B08F-C57E140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AC76-3E29-40C0-BE93-6A2B3781259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B3B3-D5E3-445A-8872-4E6E69869CC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 del Y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anda la vida psíqu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lifica y da sentido a las viv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iene al sujeto adaptado a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ce propios los actos psíqu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lejo, dinámico e integ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 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xibilidad Adapta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pacidad de romper círculos vic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stitución evolutiva del Y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3886200" cy="2361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EMENT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PUES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aléc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819520"/>
            <a:ext cx="3810240" cy="19047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ná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733920"/>
            <a:ext cx="3352680" cy="198108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ones Yo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van conformando a través del desarrollo de la persona, alcanzando madurez en la medida que se integran ambas pola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191120"/>
            <a:ext cx="6172200" cy="990360"/>
          </a:xfrm>
          <a:prstGeom prst="leftRightArrow">
            <a:avLst>
              <a:gd name="adj1" fmla="val 50000"/>
              <a:gd name="adj2" fmla="val 124068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342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tud alerta, activa y vigi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ientado a sus 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abora planes, desarrolla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ta controlar el med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05120"/>
            <a:ext cx="7925040" cy="990360"/>
          </a:xfrm>
          <a:prstGeom prst="leftRightArrow">
            <a:avLst>
              <a:gd name="adj1" fmla="val 50000"/>
              <a:gd name="adj2" fmla="val 159303"/>
            </a:avLst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14600"/>
            <a:ext cx="327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ja ll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ve el aquí y el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mani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aceptan las situ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57400"/>
            <a:ext cx="7848720" cy="990720"/>
          </a:xfrm>
          <a:prstGeom prst="leftRightArrow">
            <a:avLst>
              <a:gd name="adj1" fmla="val 50000"/>
              <a:gd name="adj2" fmla="val 157711"/>
            </a:avLst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666880"/>
            <a:ext cx="3581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tros son fuente de gra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a el criterio, la opinión y la ayuda que pueden brindar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666880"/>
            <a:ext cx="3353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erva su individu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ratifica consigo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individualmente sus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153640" cy="990360"/>
          </a:xfrm>
          <a:prstGeom prst="leftRightArrow">
            <a:avLst>
              <a:gd name="adj1" fmla="val 50000"/>
              <a:gd name="adj2" fmla="val 16389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istancia de los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 atrae vincularse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962520"/>
            <a:ext cx="6781680" cy="1313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ntro de un proceso relacional vive sin dificultades la evolución desde una adhesividad inicial hasta el distanciamiento natural que no necesariamente destruye el vín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6668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conoce las fantasías, imaginaciones y ensueños del mund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195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cibe la realidad del mund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229600" cy="990720"/>
          </a:xfrm>
          <a:prstGeom prst="leftRightArrow">
            <a:avLst>
              <a:gd name="adj1" fmla="val 50000"/>
              <a:gd name="adj2" fmla="val 165364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6858000" cy="1008720"/>
          </a:xfrm>
          <a:prstGeom prst="rect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limita claramente ambas fronteras y acepta la integración de ambos, reconociendo lo irreal dentro de lo real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funciona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8421480" cy="455148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011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ta la realidad, con moldeos y distorsiones leves para su propia tranqu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ra su identidad. Se aprecia y estima. Conoce sus límites y capacidad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artir de la realidad proyecta su vida construyendo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oyecta en el tiempo y da sentido a su exis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conforman las ideas a partir de las vivencias Se construye un capital ide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 y da sentido a su conciencia de sí mismo. El yo está integrado como 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alterad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421480" cy="4248000"/>
        </p:xfrm>
        <a:graphic>
          <a:graphicData uri="http://schemas.openxmlformats.org/drawingml/2006/table">
            <a:tbl>
              <a:tblPr/>
              <a:tblGrid>
                <a:gridCol w="2057400"/>
                <a:gridCol w="3276360"/>
                <a:gridCol w="308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sposición a apreciar los hechos, personas y objetos de una forma ríg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 distorsionada por motivaciones internas. Vive conflictos y contradic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dentifica su propósito vital, no tiene proyecciones, vive con inmediatez las R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compromiso con la vivencia de significación. Autodestru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 una vivencia de realidad perturbada. El entorno es paranoideamente amenazante y esquizoideamente evi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9:23:17Z</dcterms:created>
  <dc:creator>Terapia</dc:creator>
  <dc:description/>
  <dc:language>en-US</dc:language>
  <cp:lastModifiedBy>Fac. de Medicina</cp:lastModifiedBy>
  <dcterms:modified xsi:type="dcterms:W3CDTF">2007-03-26T14:57:55Z</dcterms:modified>
  <cp:revision>6</cp:revision>
  <dc:subject/>
  <dc:title>La Funcionalidad Yoica</dc:title>
</cp:coreProperties>
</file>