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8C8-53ED-46C9-A9D9-41C33D23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880-DFB9-4AD4-AF94-DAAA6585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242-E9B9-4E63-93CF-8F68F7F6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96F-51CD-464F-928B-4DD26340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842-E783-4DEA-9FFF-7F125971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A86-0433-4987-9617-4652A6E7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84F-2E99-4152-B1CF-70342C93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52B-9C1E-43DA-98C6-60BF37AC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C7F-44F8-4ECA-9AF3-65A19555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1E1-899A-4FB7-BF52-5C6DE73C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F9B-0519-493A-8DAC-00C1DD9F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FA4-D55A-4C05-9A69-89EC0308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0F0F-3342-4532-BDA2-CC9A92384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 de conocimientos previ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gnaturas del primer, segundo y tercer nivel curr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4360" y="476280"/>
          <a:ext cx="7537320" cy="85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537320" cy="85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4360" y="333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º año: Ocupación y Terapia Ocup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79320" y="258840"/>
          <a:ext cx="7710480" cy="85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258840"/>
                    <a:ext cx="7710480" cy="85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0:30:20Z</dcterms:created>
  <dc:creator>Laura Rueda C</dc:creator>
  <dc:description/>
  <dc:language>en-US</dc:language>
  <cp:lastModifiedBy>Laura Rueda C</cp:lastModifiedBy>
  <dcterms:modified xsi:type="dcterms:W3CDTF">2007-03-05T02:55:04Z</dcterms:modified>
  <cp:revision>5</cp:revision>
  <dc:subject/>
  <dc:title>Eje de conocimientos previos:</dc:title>
</cp:coreProperties>
</file>