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D853-6D6F-4B7B-A761-574EE30B3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76B2-B65E-4DB5-AA5E-EED9FF62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057F-720C-4A03-BAF0-774884A31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9437-B586-4017-8EF0-C0E2B1B1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DB47-49C5-44DC-8BDC-D5571861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F19F-4C6F-4CC6-B2F6-F42E28B0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3994-3EDA-470A-95EA-8379AA89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A84E-66DE-4C55-9CBF-9BA27200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2082-903D-4021-87CB-8AE8DCBB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5C08-F09D-40E6-8D77-1F6C35D2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4CA1-E61E-4A72-B9EC-6FBC6580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075C-51E7-42BD-9A2A-8524D59A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DAEA-DDEF-4269-A19B-D834FBF81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je de conocimientos previ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ignaturas del primer, segundo y tercer nivel curri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4360" y="476280"/>
          <a:ext cx="7537320" cy="856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76280"/>
                    <a:ext cx="7537320" cy="856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84360" y="3333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º año: Ocupación y Terapia Ocup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679320" y="258840"/>
          <a:ext cx="7710480" cy="85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258840"/>
                    <a:ext cx="7710480" cy="85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00:30:20Z</dcterms:created>
  <dc:creator>Laura Rueda C</dc:creator>
  <dc:description/>
  <dc:language>en-US</dc:language>
  <cp:lastModifiedBy>Laura Rueda C</cp:lastModifiedBy>
  <dcterms:modified xsi:type="dcterms:W3CDTF">2007-03-05T02:55:04Z</dcterms:modified>
  <cp:revision>5</cp:revision>
  <dc:subject/>
  <dc:title>Eje de conocimientos previos:</dc:title>
</cp:coreProperties>
</file>