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0E8-6C5C-4D7F-983E-6F62484F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F25-5F2A-48F3-A91D-ECA2CBD1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CE1-F01D-4F89-99E5-EC94D65B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9E3-46DA-482C-AA6C-651B7597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457-EC90-4E05-B97F-C66622C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6C9-B517-456D-99F1-1936CD0A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EE4-6B39-4C0F-9D5F-B336CEF3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A79-5BDF-41FF-A0F3-79385535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9F2-9A34-4C08-BB16-DB1AF97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0EC-A33B-4204-B869-4B53B559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A27-FC82-4AE3-A4F1-0DE68BA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C08-57B6-4731-94D4-A1CE107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E4EF-D06D-4686-8EA3-9F102749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 de conocimientos prev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gnaturas del primer, segundo y tercer nivel curr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4360" y="476280"/>
          <a:ext cx="7537320" cy="85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537320" cy="85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4360" y="333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º año: Ocupación y Terapia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79320" y="258840"/>
          <a:ext cx="7710480" cy="85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58840"/>
                    <a:ext cx="7710480" cy="85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0:30:20Z</dcterms:created>
  <dc:creator>Laura Rueda C</dc:creator>
  <dc:description/>
  <dc:language>en-US</dc:language>
  <cp:lastModifiedBy>Laura Rueda C</cp:lastModifiedBy>
  <dcterms:modified xsi:type="dcterms:W3CDTF">2007-03-05T02:55:04Z</dcterms:modified>
  <cp:revision>5</cp:revision>
  <dc:subject/>
  <dc:title>Eje de conocimientos previos:</dc:title>
</cp:coreProperties>
</file>