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FAC-2DFC-425F-9221-7D9B3140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968-23FB-4969-B03F-73DF232E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629-563C-45A6-8624-11ECD0B1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17A-A547-4CEE-A2F6-3F2FA01C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742-495D-4C76-8FD2-A2A8E5BD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F818-F384-4BC8-BCB4-1D941DE6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A1DE-DECD-4851-9705-B6B15F9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CC5-FBA0-41C6-8A23-6B83DE4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12D7-FCD0-4B40-8999-E713C93B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49F2-4A79-4A65-A077-382C510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E7A5-4DA5-4336-A67C-3FD3369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84D-5E48-457B-92C2-29F524D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8A92-9223-477A-8E05-B1F1B1B0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B56B-D2C7-40EC-B965-2AD98D6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948-F2F2-4267-82F4-8825E3CF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ED2A-09D7-4438-A8EE-6A764DB4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5B63-29AA-4DA7-9449-8B2BA59E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F31-A51B-4FC9-995A-6503969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8DB-0104-4B18-BA0C-8D9CEF95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4E8-D64A-454D-A2D7-FB2C83D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1F2-182C-4863-884F-3BD40888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B9A-B774-4EC2-8684-344B34A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DE5-961A-4BA4-8F4B-1D28F1F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881-E169-4247-9ACA-B236190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26B-6400-4953-BE61-EF7AC9BA05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E0A-727F-432E-AA2E-62FBEB610B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l proceso de evaluación de T.O. en Niños y Adolescent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.O. Paula Soto R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Inici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rtalezas y debilidades de la pau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del evaluador y del eval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erimientos de infraestruc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teriales adicionales para su aplic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.E.D.P.</a:t>
            </a: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cala de Evaluación de Desarrollo Psico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de administración individual para niños de 1 a 24 me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a de 75 item, 5 por cada grupo de edad. (consecutivos entre 1m – 10m, luego 12m y cada 3m el segundo a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selección responde a la aparición de conductas más significativa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.E.D.P.</a:t>
            </a: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cala de Evaluación de Desarrollo Psicomo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pruebas se relacionan con 4 áreas del desarrol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ngu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EPSI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st de Desarrollo Psicomotor 2-5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e test es un screening o tamizaje, esto quiere decir, que determina, si el desarrollo del niño está normal o si está bajo lo esperado para su 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á destinado a niños pre-escolares entre 2 y 5 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el único instrumento estandarizado y validado en nuestro paí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EPSI</a:t>
            </a:r>
            <a:br>
              <a:rPr sz="44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st de Desarrollo Psicomotor 2-5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enta con tres subte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ordinación: 16 pruebas, de manipulación, dibujo, y copia de figu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nguaje: 24 pruebas, de expresión y comprensión. Describir escenas, definir conceptos, utilización adecuada de conceptos de cantidad y tamaño, entre ot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tricidad: 12 pruebas, de control y manejo del propio cuerpo en ciertas destrez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olución dibujo Figura Huma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207280" cy="229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2492280"/>
            <a:ext cx="2376720" cy="2376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646200"/>
            <a:ext cx="8353440" cy="577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batería de test preparada por Vayer en el examen de la primera infancia, compren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examen motor constituido casi íntegramente por las tres primeras pruebas de los test de OZERETSKI, revisados y adaptados por A. GUILMAIN; coordinación óculo manual, coordinación dinámica y control postural (equilibrio estát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“control del cuerpo propio” (test de imitación de gestos de BERGES y LEZ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organización perceptiva” comprendiendo items de TERMANMERRIL y BINET - SIM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test de lenguaje, tomado en su mayor parte del TERMAN, escalonado de los 2 a los 5 año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Picq y Vayer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test de “estructuración espacio temporal” constituído por las estructuras rítmicas de MIRA STAMBACK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 test de rapidez, prueba de punteado de MIRA STAMBACK, con patrones a partir de los 6 años solamente;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l objetivo de las clases de hoy y el próximo mar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rticipantes serán capaces de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lanificar un proceso de 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como parte de la intervención de terapia ocupacional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diseñando los element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que serán parte de él 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identificando y seleccionand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quellas pautas  de evaluación estructuradas que sean necesarias para el proceso, de acuerdo a las características del sujeto de at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Marcha del Exám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ara permitir una realización práctica y rápida, hemos reagrupado los diferentes test en seis pruebas (más otras seis complementarias) según el plan siguient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1: Coordinación óculomanual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    2 a 13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2: Coordinación dinámica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13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3: Control postural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13 año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4:a. Control del cuerpo propio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3 a 6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b. Organización látero-espacial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6 a 12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5:a. Organización perceptiva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2 a 5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b. Estructuración espacio- temporal 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6 a 11 año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ahoma"/>
              </a:rPr>
              <a:t>PRUEBA Nº 6:Lateralizació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Marcha del Exám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EXAMENE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7: Lenguaj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2 a 5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8:  Rapidez, punte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6 a 14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9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Velocidad (Ozeretski)      4 a 13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10:Movimientos simultáne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 a 13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UEBA Nº 11: Control segmentari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 a 11 añ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UEBA Nº 12:“Harris test of lateral dominance”: 5 items complementari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er aplicados en caso de du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Tahoma"/>
              </a:rPr>
              <a:t>Escala de Madurez Social de Vineland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s da una referencia para ver hasta qué punto el sujeto es limitado en su desarrollo social por </a:t>
            </a:r>
            <a:r>
              <a:rPr b="0" lang="es-ES" sz="2800" spc="-1" strike="noStrike">
                <a:solidFill>
                  <a:srgbClr val="00cc00"/>
                </a:solidFill>
                <a:latin typeface="Tahoma"/>
              </a:rPr>
              <a:t>restricciones ambientales,   falta de oportunidad ambiental, por sobreprotección de los padres, u otras circunstancias limitador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a escala está compuesta de ítems y cada uno de ellos recibe una designación categorial según sea el aspecto que trata de evaluar; se ha designado con las siguientes ini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Tahoma"/>
              </a:rPr>
              <a:t>Escala de Madurez Social de Vineland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V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. Autovestiment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A.G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ayuda 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A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 ali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.D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Auto dire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Ocup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Locomo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Comunic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Socialización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BSID – II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yley Scales of Infant Development – Second 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un examen de administración individual que evalúa el curso del desarrollo de lactantes y niños, desde 1 mes hasta 42 meses de edad (3 años 6 me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agnostica el retraso del desarrollo y orienta en la planificación de la interv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sta de tres escalas: Motriz, Mental y de Valoración Condu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BSID – II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yley Scales of Infant Development – Second 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scala Motriz y Mental da cuenta del nivel de desarrollo en las áreas Cognitiva, Lenguaje, Personal – social y motricidad gruesa y f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scala de Valoración Conductual da cuenta de la conducta del niño durante la situación de evaluación, para facilitar la interpretación de las otras escal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s tres escalas se consideran complement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edad de aplicación va de 1 a 42 m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scala Mental – BSID-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cluye pruebas de memoria, habituación, resolución de problemas, precálculo, generalización, clasificación, vocalización, lenguaje y habilidades soc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Escala Motriz – BSID-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úa el control de la musculatura gruesa y fina, a través de pruebas de movimientos asociados como rodar, gatear, trepar, sentarse, ponerse de pie, caminar, correr y saltar. Además, pruebas de manipulación involucradas en las prehensiones , uso adaptativo a implementos de escritura, e imitación de movimientos de m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Valoración Conductual – BSID-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úa aspectos cualitativos de la situación de evaluación: la atención y el alerta, la orientación y el involucramiento en las tareas, la regulación emocional y la calidad de los movimientos. El puntaje obtenido es complementario al de las escalas mental y motri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Fin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unirse en los mismos grupos del trabajo anter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ar un formato para un  Proceso de Evaluación de T.O. en el área pediát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n el diseño, ámbitos y métodos de evalu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Qué es evalua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ñalar el valor de al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r. Estimar, apreciar, calcular el valor de alg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r. Estimar los conocimientos, aptitudes y rendimiento de los alum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l Academia de la Lengua Españ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El objetivo de las clases de hoy y el próximo mar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articipantes serán capaces de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lanificar un proceso de evalua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como parte de la intervención de terapia ocupacional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diseñando los element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que serán parte de él 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ahoma"/>
              </a:rPr>
              <a:t>identificando y seleccionand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aquellas pautas  de evaluación estructuradas que sean necesarias para el proceso, de acuerdo a las características del sujeto de aten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rot="1114200">
            <a:off x="6615360" y="2205720"/>
            <a:ext cx="2253240" cy="459720"/>
          </a:xfrm>
          <a:prstGeom prst="rect">
            <a:avLst/>
          </a:prstGeom>
          <a:noFill/>
          <a:ln w="381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3b1"/>
                </a:solidFill>
                <a:latin typeface="Times New Roman"/>
              </a:rPr>
              <a:t>SE CUMPL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¿Por qué evaluamo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terminar la necesidad de intervención de T.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ruir un perfil que oriente según prior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una secuencia temporal de ac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557360"/>
            <a:ext cx="3240000" cy="1297080"/>
          </a:xfrm>
          <a:prstGeom prst="ellipse">
            <a:avLst/>
          </a:prstGeom>
          <a:solidFill>
            <a:srgbClr val="ff99c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ecesidad de T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565360"/>
            <a:ext cx="3672000" cy="15843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rior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789360"/>
            <a:ext cx="3527280" cy="18003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210400">
            <a:off x="6156360" y="764640"/>
            <a:ext cx="1224000" cy="4537080"/>
          </a:xfrm>
          <a:custGeom>
            <a:avLst/>
            <a:gdLst>
              <a:gd name="textAreaLeft" fmla="*/ 0 w 1224000"/>
              <a:gd name="textAreaRight" fmla="*/ 442080 w 122400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0260200">
            <a:off x="7670520" y="691560"/>
            <a:ext cx="54612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MIENTO  CLIN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2065200">
            <a:off x="3708000" y="1916280"/>
            <a:ext cx="1297080" cy="50292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2065200">
            <a:off x="5292360" y="3068280"/>
            <a:ext cx="1297080" cy="50328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12984600">
            <a:off x="2195640" y="5013360"/>
            <a:ext cx="1296720" cy="50328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13433400">
            <a:off x="394560" y="3789000"/>
            <a:ext cx="1297080" cy="50328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Entrevista semiestructurad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: Considera recoger información en torno a elementos de los principales contexto/s de desempeño del ni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ersonal: Edad, género, nivel socioeconómico, nivel educac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ísico: lugar donde vive: características del hogar, del sector y la comun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ocial: personas relacionadas con el niño: estructura familiar, nuclear y extendida, otros adultos y pares significa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Evaluación de Terapia Ocupacional en Niños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ltura: relacionado con, creencias religiosas, origen étnico, y otros factores que influyen o podrían influir en el desarrollo de la intervención. (Existencia y accesibilidad a programas sociales del sector :junta de vecinos, consultorio, servicios sociales, u ot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Taller Inici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par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vidirse en grupos pequeños (3 -5 participa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unir los materiales de corresponden por 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rse las pruebas de los test (alternar rol de evaluador y evalu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6461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TOUCH/PSR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56:39Z</dcterms:created>
  <dc:creator>Terapia</dc:creator>
  <dc:description/>
  <dc:language>en-US</dc:language>
  <cp:lastModifiedBy>Laura</cp:lastModifiedBy>
  <dcterms:modified xsi:type="dcterms:W3CDTF">2007-04-02T21:11:09Z</dcterms:modified>
  <cp:revision>16</cp:revision>
  <dc:subject/>
  <dc:title>BSID – II Bayley Scales of Infant Development – Second Edition</dc:title>
</cp:coreProperties>
</file>