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EE32-466E-480A-943E-2C45478C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D3D-80CF-4DB5-80AA-2AE4D605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9E0-2BFF-461A-8971-D46C4B53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365-1F77-4355-B74D-DCC7F1D5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AB78-505F-4773-A7C1-A2E73949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24B1-0EA0-436B-9433-5571A044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2478-4C4F-48A2-9CC1-E2076CEE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03B5-C53D-4B8F-A487-38A0BE67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D88D-1DA4-41EC-816F-57C04B21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7405-F4A7-4D38-ADEC-AF0DC186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42C3-2800-4C3D-83E5-0C944911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68A-73BA-4596-810F-308AD07D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AE4A-0B53-43C2-AD91-CEB35073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E366-3A93-4CCD-9BA3-EE217AF2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0416-2203-4220-A3BB-CF621C3F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E323-1418-4211-B8E6-A370D0BC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56EA-1EE0-49B5-AB3C-968CC176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59E-E8EC-4B32-9161-7D0E4A5E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DB5-6112-4D18-9815-4CFAE17F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4E5-64B9-4630-AC3B-E724A892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3B8-2853-483C-9A1E-27FEC63D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BAA-B398-4587-BA25-42DD8AD3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900-FAF2-4F81-B74C-A0E0459B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9F9-1E92-4789-B61B-0EBBBA48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5891-93DB-4740-A6BC-5960A52EF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D597-E526-40B2-8BCD-FDF773AE1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914400" y="12193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Fundamentos de Bioética</a:t>
            </a:r>
            <a:endParaRPr b="0" lang="en-US" sz="5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47239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LAURA  RUEDA 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ENTRO INTERDISCIPLINARIO DE ESTUDIOS EN BIOÉ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304920"/>
          <a:ext cx="53352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53352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hipocrates2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16765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O - ÉT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xión en torno a la Salu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rso Interdiscipli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íntesis de varios sabe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 emerg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damentos Histó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Venidos de la tradic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Venidos de la tradición norm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Venidos de la tradición polí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9080">
            <a:solidFill>
              <a:srgbClr val="000044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radición médic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teceden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ÉTICA ARISTOTÉLICA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eoría de la vir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Ética del Cuid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URAMENTO HIPOCRÁTICO:   Valores trasmiti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TERNALISMO MÉDICO:    manifestación sana/no sana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incipio: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 “ PRIMUN NON NOCER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19080">
            <a:solidFill>
              <a:srgbClr val="000044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radición Normativa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NTECEDENT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ÉTICA KANTIANA:  Ética del Deber, Autonomía Mo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gnidad Hum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imeras Declaraciones de Derech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ódigos Deontológ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claraciones Universales acerca de las investigaciones con seres human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acimiento y Desarrollo de los Derechos de los Enfer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19080">
            <a:solidFill>
              <a:srgbClr val="000044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radición Polític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RITERIOS DE JUSTICIA: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95040" y="1982880"/>
            <a:ext cx="3843000" cy="18190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Tahoma"/>
              </a:rPr>
              <a:t>JUSTICIA EN PROPORCIÓN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Tahoma"/>
              </a:rPr>
              <a:t>JUSTICIA COMO IGUALDAD SOCIAL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Tahoma"/>
              </a:rPr>
              <a:t>JUSTICIA DISTRIBUTIVA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Tahoma"/>
              </a:rPr>
              <a:t>TEORÍA UTILITARISTA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Tahoma"/>
              </a:rPr>
              <a:t>CONCEPTO DE EQUIDAD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048120"/>
            <a:ext cx="7543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ODELOS SANI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SISTENCIA SANITARIA: Equipos Disciplinarios de aten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es-ES" sz="2700" spc="-1" strike="noStrike">
                <a:solidFill>
                  <a:srgbClr val="ffffff"/>
                </a:solidFill>
                <a:latin typeface="Tahoma"/>
              </a:rPr>
              <a:t>1.-  DESDE LA TRADICIÓN  MÉDICA:</a:t>
            </a:r>
            <a:br>
              <a:rPr sz="2700"/>
            </a:br>
            <a:br>
              <a:rPr sz="1900"/>
            </a:br>
            <a:r>
              <a:rPr b="0" lang="es-ES" sz="19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i="1" lang="es-ES" sz="1900" spc="-1" strike="noStrike">
                <a:solidFill>
                  <a:srgbClr val="ffffff"/>
                </a:solidFill>
                <a:latin typeface="Tahoma"/>
              </a:rPr>
              <a:t>PRINCIPIO   DE   NO  MALEFICENCIA</a:t>
            </a:r>
            <a:br>
              <a:rPr sz="1900"/>
            </a:br>
            <a:br>
              <a:rPr sz="1900"/>
            </a:br>
            <a:r>
              <a:rPr b="1" i="1" lang="es-ES" sz="1900" spc="-1" strike="noStrike">
                <a:solidFill>
                  <a:srgbClr val="ffffff"/>
                </a:solidFill>
                <a:latin typeface="Tahoma"/>
              </a:rPr>
              <a:t>PRINCIPIO DE BENEFICENCIA</a:t>
            </a:r>
            <a:br>
              <a:rPr sz="1900"/>
            </a:br>
            <a:br>
              <a:rPr sz="2500"/>
            </a:br>
            <a:br>
              <a:rPr sz="3600"/>
            </a:br>
            <a:br>
              <a:rPr sz="1500"/>
            </a:br>
            <a:br>
              <a:rPr sz="2300"/>
            </a:br>
            <a:endParaRPr b="0" lang="en-US" sz="1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9640" y="684720"/>
            <a:ext cx="76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A PARTIR DE LA SÍNTESIS DE LOS FUNDAMEN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377720"/>
            <a:ext cx="6782040" cy="42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.- DESDE LA TRADICIÓN NORMATIV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PRINCIPIO  DE AUTONOMÍA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579200"/>
            <a:ext cx="73152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.-  DESDE LA TRADICIÓN POLÍTICA</a:t>
            </a:r>
            <a:br>
              <a:rPr sz="1800"/>
            </a:br>
            <a:br>
              <a:rPr sz="1800"/>
            </a:b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PRINCIPIO DE JUSTICI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gún D. Grac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os principios son algo como núcleos de confluencia de todo el universo de valores, a partir de los cuales se realizan las reflexiones y las propuestas de la bioétic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  “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incipios de Prima Faci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62120" y="609480"/>
          <a:ext cx="7543800" cy="5486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5438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3:05:14Z</dcterms:created>
  <dc:creator>Laura Rueda C</dc:creator>
  <dc:description/>
  <dc:language>en-US</dc:language>
  <cp:lastModifiedBy>Fac. de Medicina</cp:lastModifiedBy>
  <cp:lastPrinted>2001-11-08T18:02:58Z</cp:lastPrinted>
  <dcterms:modified xsi:type="dcterms:W3CDTF">2007-09-06T15:38:36Z</dcterms:modified>
  <cp:revision>177</cp:revision>
  <dc:subject>Metodología</dc:subject>
  <dc:title>Bioética Decis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ura Rueda C">
    <vt:lpwstr>Presentación Iquique</vt:lpwstr>
  </property>
</Properties>
</file>