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435-3A48-40A4-9892-C466721C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44E-ED6E-474F-99E1-BBBE43DE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B948-8615-4747-94A4-734E1EC2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C72-5EC0-4479-B401-CFC1F6EB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79F3-503B-4F84-92FB-BCCA5E22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1B52-B1BF-47B1-84B4-B11C7872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D671-9E33-4E13-94A0-7FCE2D88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9B3F-54AA-4726-93A6-DA4AFCEB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3A5B-E468-4905-9683-6F61B1BC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B45A-EF8A-4E87-83E2-A31CB28D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F276-230D-489C-876A-AAE7BDC2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D88-980F-4FDB-B858-98E7A59C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96D5-1088-4C2F-B30F-80F4C70A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B424-1ADF-44CB-A980-D2DB4DF9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B29C-5B70-4C56-8233-874DCE16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C950-5433-4868-AD81-32980B2F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4B0A-8F8E-4274-AACD-AFCAF019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F60-675F-42BB-ACD6-464DF617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AED1-562D-4C8A-8149-40167AB7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20E-B41A-472A-B352-0A14A9BE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EA3-5A9D-4897-88CB-BC039A02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F82-E180-475B-ABEF-44B1E471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28B-F818-44D7-9564-F254D81C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D70-88B9-46AC-ADC4-5D6FC4BA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0351-DA64-4899-A84A-15CA65D85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D9E5-D66A-4071-BB8B-3A7121B36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914400" y="12193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Fundamentos de Bioética</a:t>
            </a:r>
            <a:endParaRPr b="0" lang="en-US" sz="5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47239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LAURA  RUEDA 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CENTRO INTERDISCIPLINARIO DE ESTUDIOS EN BIOÉ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304920"/>
          <a:ext cx="53352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53352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hipocrates2" descr=""/>
          <p:cNvPicPr/>
          <p:nvPr/>
        </p:nvPicPr>
        <p:blipFill>
          <a:blip r:embed="rId3"/>
          <a:stretch/>
        </p:blipFill>
        <p:spPr>
          <a:xfrm>
            <a:off x="6324480" y="2743200"/>
            <a:ext cx="16765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O - ÉT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xión en torno a la Salu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rso Interdisciplin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íntesis de varios sabe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 emerg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damentos Histó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Venidos de la tradic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Venidos de la tradición norm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Venidos de la tradición polí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9080">
            <a:solidFill>
              <a:srgbClr val="000044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radición médic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teceden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ÉTICA ARISTOTÉLICA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eoría de la vir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Ética del Cuid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URAMENTO HIPOCRÁTICO:   Valores trasmiti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TERNALISMO MÉDICO:    manifestación sana/no sana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incipio: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 “ PRIMUN NON NOCER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19080">
            <a:solidFill>
              <a:srgbClr val="000044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radición Normativa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NTECEDENT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ÉTICA KANTIANA:  Ética del Deber, Autonomía Mo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gnidad Hum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imeras Declaraciones de Derech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ódigos Deontológ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claraciones Universales acerca de las investigaciones con seres human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acimiento y Desarrollo de los Derechos de los Enfer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19080">
            <a:solidFill>
              <a:srgbClr val="000044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radición Polític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RITERIOS DE JUSTICIA: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95040" y="1982880"/>
            <a:ext cx="3843000" cy="18190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3300"/>
                </a:solidFill>
                <a:latin typeface="Tahoma"/>
              </a:rPr>
              <a:t>JUSTICIA EN PROPORCIÓN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3300"/>
                </a:solidFill>
                <a:latin typeface="Tahoma"/>
              </a:rPr>
              <a:t>JUSTICIA COMO IGUALDAD SOCIAL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3300"/>
                </a:solidFill>
                <a:latin typeface="Tahoma"/>
              </a:rPr>
              <a:t>JUSTICIA DISTRIBUTIVA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3300"/>
                </a:solidFill>
                <a:latin typeface="Tahoma"/>
              </a:rPr>
              <a:t>TEORÍA UTILITARISTA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3300"/>
                </a:solidFill>
                <a:latin typeface="Tahoma"/>
              </a:rPr>
              <a:t>CONCEPTO DE EQUIDAD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048120"/>
            <a:ext cx="75438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ODELOS SANIT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SISTENCIA SANITARIA: Equipos Disciplinarios de aten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es-ES" sz="2700" spc="-1" strike="noStrike">
                <a:solidFill>
                  <a:srgbClr val="ffffff"/>
                </a:solidFill>
                <a:latin typeface="Tahoma"/>
              </a:rPr>
              <a:t>1.-  DESDE LA TRADICIÓN  MÉDICA:</a:t>
            </a:r>
            <a:br>
              <a:rPr sz="2700"/>
            </a:br>
            <a:br>
              <a:rPr sz="1900"/>
            </a:br>
            <a:r>
              <a:rPr b="0" lang="es-ES" sz="19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i="1" lang="es-ES" sz="1900" spc="-1" strike="noStrike">
                <a:solidFill>
                  <a:srgbClr val="ffffff"/>
                </a:solidFill>
                <a:latin typeface="Tahoma"/>
              </a:rPr>
              <a:t>PRINCIPIO   DE   NO  MALEFICENCIA</a:t>
            </a:r>
            <a:br>
              <a:rPr sz="1900"/>
            </a:br>
            <a:br>
              <a:rPr sz="1900"/>
            </a:br>
            <a:r>
              <a:rPr b="1" i="1" lang="es-ES" sz="1900" spc="-1" strike="noStrike">
                <a:solidFill>
                  <a:srgbClr val="ffffff"/>
                </a:solidFill>
                <a:latin typeface="Tahoma"/>
              </a:rPr>
              <a:t>PRINCIPIO DE BENEFICENCIA</a:t>
            </a:r>
            <a:br>
              <a:rPr sz="1900"/>
            </a:br>
            <a:br>
              <a:rPr sz="2500"/>
            </a:br>
            <a:br>
              <a:rPr sz="3600"/>
            </a:br>
            <a:br>
              <a:rPr sz="1500"/>
            </a:br>
            <a:br>
              <a:rPr sz="2300"/>
            </a:br>
            <a:endParaRPr b="0" lang="en-US" sz="1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9640" y="684720"/>
            <a:ext cx="76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A PARTIR DE LA SÍNTESIS DE LOS FUNDAMEN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1377720"/>
            <a:ext cx="6782040" cy="42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.- DESDE LA TRADICIÓN NORMATIVA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PRINCIPIO  DE AUTONOMÍA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579200"/>
            <a:ext cx="73152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.-  DESDE LA TRADICIÓN POLÍTICA</a:t>
            </a:r>
            <a:br>
              <a:rPr sz="1800"/>
            </a:br>
            <a:br>
              <a:rPr sz="1800"/>
            </a:b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PRINCIPIO DE JUSTICIA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gún D. Grac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os principios son algo como núcleos de confluencia de todo el universo de valores, a partir de los cuales se realizan las reflexiones y las propuestas de la bioétic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   “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incipios de Prima Faci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62120" y="609480"/>
          <a:ext cx="7543800" cy="5486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5438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03:05:14Z</dcterms:created>
  <dc:creator>Laura Rueda C</dc:creator>
  <dc:description/>
  <dc:language>en-US</dc:language>
  <cp:lastModifiedBy>Fac. de Medicina</cp:lastModifiedBy>
  <cp:lastPrinted>2001-11-08T18:02:58Z</cp:lastPrinted>
  <dcterms:modified xsi:type="dcterms:W3CDTF">2007-09-06T15:38:36Z</dcterms:modified>
  <cp:revision>177</cp:revision>
  <dc:subject>Metodología</dc:subject>
  <dc:title>Bioética Decis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ura Rueda C">
    <vt:lpwstr>Presentación Iquique</vt:lpwstr>
  </property>
</Properties>
</file>