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D4F3-D9CE-4BFD-9254-A9CDBF04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1C57-446C-43C7-B9AA-D458D041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94B5-2E34-49A9-9FC4-727C32210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6F85-99C4-4AFA-8CAA-C4EC684AA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4A9E-27A0-4B0B-867D-9EF3360CB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FA47-DA4C-4822-A610-BA85E358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B23B-3CC9-468A-918C-BE5C2473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CC9A-DF85-4AD3-8FDE-A24C6637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0003-C201-4E89-9F75-4EF7559D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86A1-3A5B-4B92-8775-6736ED6D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6AFA-49F5-4C50-A8AF-D83B5902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0255-CB31-47AA-BDF5-3123B45C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37EB-DC7D-4F35-88C0-93934739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6B63-9325-4A21-94AD-2714B38E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D9F6-5243-4922-8A83-BE0A8952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0CAD-D710-499C-9062-C0A631AD8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F481-EF12-4928-B03F-99AC6F2E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1F21-C939-412E-BB99-9875E41C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BE78-83F6-4664-A4AD-9BEC385A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0246-A423-4D27-8C51-3DE3ACA0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0637-F745-400A-8583-DC5AD5AB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4C0C-7009-48C5-B483-B1329CFA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6B82-A1CA-45E6-9799-3455E7D2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FC3D-9956-4FB7-A4E4-9A8FCFD7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9CB7-45F2-469A-8E99-BEE78E5832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51AD-169B-40A3-825E-8E28809336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914400" y="1219320"/>
            <a:ext cx="83059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Fundamentos de Bioética</a:t>
            </a:r>
            <a:endParaRPr b="0" lang="en-US" sz="5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472392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LAURA  RUEDA 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CENTRO INTERDISCIPLINARIO DE ESTUDIOS EN BIOÉT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38080" y="304920"/>
          <a:ext cx="53352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04920"/>
                    <a:ext cx="53352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" name="hipocrates2" descr=""/>
          <p:cNvPicPr/>
          <p:nvPr/>
        </p:nvPicPr>
        <p:blipFill>
          <a:blip r:embed="rId3"/>
          <a:stretch/>
        </p:blipFill>
        <p:spPr>
          <a:xfrm>
            <a:off x="6324480" y="2743200"/>
            <a:ext cx="167652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IO - ÉTIC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lexión en torno a la Salud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rso Interdisciplin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íntesis de varios sabe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iplina emerg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damentos Históric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Venidos de la tradición méd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Venidos de la tradición norma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Venidos de la tradición polí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19080">
            <a:solidFill>
              <a:srgbClr val="000044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Tradición médica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1908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ntecedent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ÉTICA ARISTOTÉLICA: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eoría de la vir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Ética del Cuid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JURAMENTO HIPOCRÁTICO:   Valores trasmiti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ATERNALISMO MÉDICO:    manifestación sana/no sana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incipio:</a:t>
            </a: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 “ PRIMUN NON NOCERE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1143000"/>
          </a:xfrm>
          <a:prstGeom prst="rect">
            <a:avLst/>
          </a:prstGeom>
          <a:noFill/>
          <a:ln w="19080">
            <a:solidFill>
              <a:srgbClr val="000044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Tradición Normativa 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NTECEDENT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ÉTICA KANTIANA:  Ética del Deber, Autonomía Mo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ignidad Hum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imeras Declaraciones de Derechos Huma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ódigos Deontológ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eclaraciones Universales acerca de las investigaciones con seres human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Nacimiento y Desarrollo de los Derechos de los Enferm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19080">
            <a:solidFill>
              <a:srgbClr val="000044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Tradición Política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CRITERIOS DE JUSTICIA: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95040" y="1982880"/>
            <a:ext cx="3843000" cy="1819080"/>
          </a:xfrm>
          <a:prstGeom prst="rect">
            <a:avLst/>
          </a:prstGeom>
          <a:solidFill>
            <a:srgbClr val="ffff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3300"/>
                </a:solidFill>
                <a:latin typeface="Tahoma"/>
              </a:rPr>
              <a:t>JUSTICIA EN PROPORCIÓN NATU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3300"/>
                </a:solidFill>
                <a:latin typeface="Tahoma"/>
              </a:rPr>
              <a:t>JUSTICIA COMO IGUALDAD SOCIAL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3300"/>
                </a:solidFill>
                <a:latin typeface="Tahoma"/>
              </a:rPr>
              <a:t>JUSTICIA DISTRIBUTIVA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3300"/>
                </a:solidFill>
                <a:latin typeface="Tahoma"/>
              </a:rPr>
              <a:t>TEORÍA UTILITARISTA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3300"/>
                </a:solidFill>
                <a:latin typeface="Tahoma"/>
              </a:rPr>
              <a:t>CONCEPTO DE EQUIDAD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3048120"/>
            <a:ext cx="75438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ODELOS SANITAR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SISTENCIA SANITARIA: Equipos Disciplinarios de aten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619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0" lang="es-ES" sz="2700" spc="-1" strike="noStrike">
                <a:solidFill>
                  <a:srgbClr val="ffffff"/>
                </a:solidFill>
                <a:latin typeface="Tahoma"/>
              </a:rPr>
              <a:t>1.-  DESDE LA TRADICIÓN  MÉDICA:</a:t>
            </a:r>
            <a:br>
              <a:rPr sz="2700"/>
            </a:br>
            <a:br>
              <a:rPr sz="1900"/>
            </a:br>
            <a:r>
              <a:rPr b="0" lang="es-ES" sz="19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i="1" lang="es-ES" sz="1900" spc="-1" strike="noStrike">
                <a:solidFill>
                  <a:srgbClr val="ffffff"/>
                </a:solidFill>
                <a:latin typeface="Tahoma"/>
              </a:rPr>
              <a:t>PRINCIPIO   DE   NO  MALEFICENCIA</a:t>
            </a:r>
            <a:br>
              <a:rPr sz="1900"/>
            </a:br>
            <a:br>
              <a:rPr sz="1900"/>
            </a:br>
            <a:r>
              <a:rPr b="1" i="1" lang="es-ES" sz="1900" spc="-1" strike="noStrike">
                <a:solidFill>
                  <a:srgbClr val="ffffff"/>
                </a:solidFill>
                <a:latin typeface="Tahoma"/>
              </a:rPr>
              <a:t>PRINCIPIO DE BENEFICENCIA</a:t>
            </a:r>
            <a:br>
              <a:rPr sz="1900"/>
            </a:br>
            <a:br>
              <a:rPr sz="2500"/>
            </a:br>
            <a:br>
              <a:rPr sz="3600"/>
            </a:br>
            <a:br>
              <a:rPr sz="1500"/>
            </a:br>
            <a:br>
              <a:rPr sz="2300"/>
            </a:br>
            <a:endParaRPr b="0" lang="en-US" sz="19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9640" y="684720"/>
            <a:ext cx="76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A PARTIR DE LA SÍNTESIS DE LOS FUNDAMENT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1377720"/>
            <a:ext cx="6782040" cy="42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.- DESDE LA TRADICIÓN NORMATIVA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PRINCIPIO  DE AUTONOMÍA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4579200"/>
            <a:ext cx="73152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3.-  DESDE LA TRADICIÓN POLÍTICA</a:t>
            </a:r>
            <a:br>
              <a:rPr sz="1800"/>
            </a:br>
            <a:br>
              <a:rPr sz="1800"/>
            </a:b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PRINCIPIO DE JUSTICIA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gún D. Grac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“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Los principios son algo como núcleos de confluencia de todo el universo de valores, a partir de los cuales se realizan las reflexiones y las propuestas de la bioética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          “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rincipios de Prima Faci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762120" y="609480"/>
          <a:ext cx="7543800" cy="5486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5438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03:05:14Z</dcterms:created>
  <dc:creator>Laura Rueda C</dc:creator>
  <dc:description/>
  <dc:language>en-US</dc:language>
  <cp:lastModifiedBy>Fac. de Medicina</cp:lastModifiedBy>
  <cp:lastPrinted>2001-11-08T18:02:58Z</cp:lastPrinted>
  <dcterms:modified xsi:type="dcterms:W3CDTF">2007-09-06T15:38:36Z</dcterms:modified>
  <cp:revision>177</cp:revision>
  <dc:subject>Metodología</dc:subject>
  <dc:title>Bioética Decisi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aura Rueda C">
    <vt:lpwstr>Presentación Iquique</vt:lpwstr>
  </property>
</Properties>
</file>