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0BF-991C-4A51-8825-E9F0E374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C58-F74E-4B64-9DA6-F5A5BBB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81E-AB91-493F-8257-B0EB39AC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DF5-286E-4416-A4E5-3B9A8D71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0A81-DC5D-4D7E-9111-FE383691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3D29-9396-4EB1-872B-ECBD6EAD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3392-01CE-40F5-A825-981A99A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1316-3943-425F-BA55-AF8518C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B11D-E995-407F-81BB-C2A8C696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83F3-C0DD-4A8A-B356-3320D89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D160-23AC-44A2-87C6-CD90EA24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148-9A88-401C-B20C-2219AA33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65E-6B3F-4303-AAB4-8BCBE59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BA7B-8C59-43BF-BF30-C0FA3C1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7316-BC14-4246-A7AB-9FDA5AC1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F3E4-7AC7-4A81-9C9A-516CAF76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CB6C-D94F-4658-A381-DE2742B5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922-D35F-4BEF-BF79-14F5F62D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15B-DF32-4517-BE91-20593AC6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0F9-B0D7-442A-B14E-A3AF3274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7BF-14B4-450C-ADAD-318D6278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E6F-133B-45DD-B364-3FF7928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50F-C2D0-4209-85CF-923CB3F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798-FED0-406A-872E-6DD146D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1A4C-DEF2-4B1E-8673-B44E9E57C48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3E0A-F3E9-49C6-97AE-860A4AC6725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8f8f8"/>
                </a:solidFill>
                <a:latin typeface="Arial Black"/>
              </a:rPr>
              <a:t>Sindrome de apneas obstructivas del sueño ( SAHOS )</a:t>
            </a:r>
            <a:endParaRPr b="1" lang="en-US" sz="48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Apne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Ápnoia , pnê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da del acto de la respir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untaria : buc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nt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Cese de flujo aéreo en nariz y boca durante el sueñ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&gt; a 10 segund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Hipopne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Disminución al 50% del ba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Clasificación de las apnea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s centra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s obstructiv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 mixta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central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se del flujo aér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bolición transitoria de actividad del drive respirator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n actividad de músculos inspir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obstructiva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se del flujo aér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r oclusión completa de vía aérea alta a nivel de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orofari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pesar de actividad continua de músculos inspirator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vento definitivo de Apnea obstructiva del sueño :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miento posterior de lengua y paladar en aposición con pared faríngea posteri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442728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84216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8f8f8"/>
                </a:solidFill>
                <a:latin typeface="Arial Black"/>
              </a:rPr>
              <a:t>Prevalencia de la apnea obstructiva del sueño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% de mujeres edad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% de hombres edad med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estima % mayor a mayor edad y en obe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Factores predisponentes anatómico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maño faríng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es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orma craneofac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icrogna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trogna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fa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ipertrofia amigdali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dema faríng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Factores asociados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Sedan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Obstrucción na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Deprivación de sueñ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Objetivos de la clase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igen de la apnea obstructiva del sue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pidemiolog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isiopatalog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agnóst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ín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das ge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PA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678880" cy="4492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Fisiopatologí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Síndrome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nifestaciones diur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cundarias a fragmentación y depriv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cundarias a alteración intercambio gase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mostración de apneas  e hipopneas  obstructivas durante  el sue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anifestaciones clínicas</a:t>
            </a:r>
            <a:br>
              <a:rPr sz="4400"/>
            </a:b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neuropsiquiátrica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Hipersomnolencia di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efalea mat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apacidad cogn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ueño poco reparador ( fatig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Depres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nquietud psicomotora noct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mpot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anifestaciones cardiorespiratoria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nqu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ea percatada por famili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tm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Enfrentamiento diagnóstico, recordar que…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malías respiratorias desaparecen con la vig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aciones inespecí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tud metódica de sospecha y búsque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68360" y="341280"/>
          <a:ext cx="8209080" cy="65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1280"/>
                    <a:ext cx="820908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xamen físic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besi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uctura craneofac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ircunferencia de cuel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( 43 cms – 48 cm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ofarinfe estrecha, úvula edemato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81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iagnóstico diferencial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onquido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neas centrales del sue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as causas de somnolencia diurna exces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ño insufi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teraciones del ritmo circadi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arcolepsia, e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140360" y="260280"/>
          <a:ext cx="4600440" cy="64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60280"/>
                    <a:ext cx="460044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0920" y="263700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SOM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58920" y="1989000"/>
          <a:ext cx="6983280" cy="41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98328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Polisomnogram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1700280"/>
            <a:ext cx="456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Año 330 A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Dionisius de Heraclia Rey de Pont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Glotón, obeso, con gran dificultad para respirar, era despertado con agujas para evitar que se ahog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                                                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Aelianu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Oximetría nocturn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2060640"/>
          <a:ext cx="79214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79214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1413000"/>
          <a:ext cx="7956360" cy="32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795636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t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mayores cardiovasculares o cerbrovascu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identes automovilísti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r la calidad de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Para qué  tratar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Medidas generales de tratamient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 alcohol y sed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 posición supina al dorm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040360" cy="367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8360" y="1197000"/>
            <a:ext cx="41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5493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AP: presión positiva constante en vía aé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700360" y="692280"/>
          <a:ext cx="3867120" cy="55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92280"/>
                    <a:ext cx="386712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403280" y="836640"/>
          <a:ext cx="619308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36640"/>
                    <a:ext cx="619308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40" y="42840"/>
            <a:ext cx="90871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36640" y="324648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4289400" cy="643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5950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871380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765000"/>
            <a:ext cx="65530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urante el sueñ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eño no R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eño R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fectos respiratorio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del centro  respi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i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 C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ves apneas cent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encia vía aérea al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481040" y="1049400"/>
          <a:ext cx="618660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1049400"/>
                    <a:ext cx="618660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fectos cardiovasculare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fecto general de descan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 No R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simp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va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to cardía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ón ar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icrodespertare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c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 respirator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dad de musculos vía aérea a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jo de 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ciación de respuestas protect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ñ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gment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priv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ga sistema CV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(descarg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mpát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0:06:54Z</dcterms:created>
  <dc:creator>Jaime Escobar D</dc:creator>
  <dc:description/>
  <dc:language>en-US</dc:language>
  <cp:lastModifiedBy>Laura Mendoza I</cp:lastModifiedBy>
  <dcterms:modified xsi:type="dcterms:W3CDTF">2006-08-11T08:48:23Z</dcterms:modified>
  <cp:revision>17</cp:revision>
  <dc:subject/>
  <dc:title>Diapositiva 1</dc:title>
</cp:coreProperties>
</file>