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357-2041-467E-B62D-FE6F6625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F80-A51B-4111-AACB-3AC021B3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462-EA31-48B4-8FA4-D966FB94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701-48B4-45CC-AEAD-2F445A96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BED1-0E8D-4901-827F-DFFAE2E6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1B29-55C2-4BE3-9788-21D438D4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56C1-5F21-4DF2-8D86-38453D48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2C30-7602-4301-A89F-F473DE5B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0EEE-0D6D-4CA7-9382-4E2799FB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5CCE-8F2F-4AB8-A192-DDF9DEB6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7847-CD10-4A0F-AE64-ED613E43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4F0-2772-401B-8C84-C76F9F49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4931-C3A8-4A4C-8398-27920A80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02C1-3548-4DC4-97D5-4ED6EAD1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93E8-E7B2-4021-A561-A4AF399E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286E-A4C4-463A-894A-C7B54FBA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911D-56BF-496B-BECD-0B175658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8D2-D806-4842-B13B-262E347D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160-AED6-4493-AC36-F12A9BBA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8EB-F156-41DE-9AFA-59665F19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2B5F-63F8-44F6-9FBB-5D55FC81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B97-A19F-4671-B09B-D1A6B848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25A-391A-40BE-9A8C-92E0F65E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A44-915A-4441-801B-54490FA3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49EB-87DE-442F-9EAD-8B98C38AE4E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CCA3-DD9A-447F-B0C3-299EF473DFD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8f8f8"/>
                </a:solidFill>
                <a:latin typeface="Arial Black"/>
              </a:rPr>
              <a:t>Sindrome de apneas obstructivas del sueño ( SAHOS )</a:t>
            </a:r>
            <a:endParaRPr b="1" lang="en-US" sz="4800" spc="-1" strike="noStrike">
              <a:solidFill>
                <a:srgbClr val="f8f8f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Apnea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Ápnoia , pnê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ada del acto de la respiració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oluntaria : buce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volunta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Apnea del sueño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Cese de flujo aéreo en nariz y boca durante el sueñ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&gt; a 10 segundo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Hipopne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Disminución al 50% del bas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Clasificación de las apneas del sueño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pneas central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pneas obstructiv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pnea mixta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Apnea central del sueño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ese del flujo aére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bolición transitoria de actividad del drive respirator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in actividad de músculos inspirato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Apnea obstructiva del sueño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ese del flujo aére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r oclusión completa de vía aérea alta a nivel de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orofari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 pesar de actividad continua de músculos inspiratori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evento definitivo de Apnea obstructiva del sueño : 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miento posterior de lengua y paladar en aposición con pared faríngea posteri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427640" y="2276640"/>
            <a:ext cx="442728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84216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8f8f8"/>
                </a:solidFill>
                <a:latin typeface="Arial Black"/>
              </a:rPr>
              <a:t>Prevalencia de la apnea obstructiva del sueño</a:t>
            </a:r>
            <a:r>
              <a:rPr b="1" lang="es-CL" sz="4000" spc="-1" strike="noStrike">
                <a:solidFill>
                  <a:srgbClr val="f8f8f8"/>
                </a:solidFill>
                <a:latin typeface="Arial Black"/>
              </a:rPr>
              <a:t>	</a:t>
            </a:r>
            <a:r>
              <a:rPr b="1" lang="es-CL" sz="4000" spc="-1" strike="noStrike">
                <a:solidFill>
                  <a:srgbClr val="f8f8f8"/>
                </a:solidFill>
                <a:latin typeface="Arial Black"/>
              </a:rPr>
              <a:t>	</a:t>
            </a:r>
            <a:r>
              <a:rPr b="1" lang="es-CL" sz="4000" spc="-1" strike="noStrike">
                <a:solidFill>
                  <a:srgbClr val="f8f8f8"/>
                </a:solidFill>
                <a:latin typeface="Arial Black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% de mujeres edad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% de hombres edad med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estima % mayor a mayor edad y en obes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Factores predisponentes anatómicos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amaño farínge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besid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orma craneofac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icrognat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trognat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s fac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ipertrofia amigdali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dema farínge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Factores asociados 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Sedant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Obstrucción nas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Deprivación de sueñ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Objetivos de la clase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rigen de la apnea obstructiva del sueñ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pidemiologí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isiopatalogí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iagnóstic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lín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das ge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PA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678880" cy="44924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Fisiopatología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Síndrome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nifestaciones diur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cundarias a fragmentación y deprivación de s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cundarias a alteración intercambio gase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mostración de apneas  e hipopneas  obstructivas durante  el sue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Manifestaciones clínicas</a:t>
            </a:r>
            <a:br>
              <a:rPr sz="4400"/>
            </a:b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neuropsiquiátrica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Hipersomnolencia diu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efalea mat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apacidad cogni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Sueño poco reparador ( fatig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Depres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Inquietud psicomotora noctu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impot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Manifestaciones cardiorespiratorias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nqu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nea percatada por famili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itm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Enfrentamiento diagnóstico, recordar que…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malías respiratorias desaparecen con la vig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aciones inespecíf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tud metódica de sospecha y búsque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468360" y="341280"/>
          <a:ext cx="8209080" cy="65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1280"/>
                    <a:ext cx="820908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Examen físico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besida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ructura craneofaci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ircunferencia de cuell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( 43 cms – 48 cm 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ofarinfe estrecha, úvula edematos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813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iagnóstico diferencial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onquido 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pneas centrales del sueñ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as causas de somnolencia diurna exces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eño insufi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lteraciones del ritmo circadi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arcolepsia, et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140360" y="260280"/>
          <a:ext cx="4600440" cy="64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60280"/>
                    <a:ext cx="460044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50920" y="263700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ISOMNO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258920" y="1989000"/>
          <a:ext cx="6983280" cy="41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89000"/>
                    <a:ext cx="6983280" cy="41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Polisomnograma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1700280"/>
            <a:ext cx="456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Año 330 A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Dionisius de Heraclia Rey de Pont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Glotón, obeso, con gran dificultad para respirar, era despertado con agujas para evitar que se ahog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                                                </a:t>
            </a: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Aelianu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Oximetría nocturna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2060640"/>
          <a:ext cx="792144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79214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684360" y="1413000"/>
          <a:ext cx="7956360" cy="32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795636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t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os mayores cardiovasculares o cerbrovascul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identes automovilístic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r la calidad de vi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Para qué  tratar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Medidas generales de tratamiento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tar alcohol y sed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tar posición supina al dorm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040360" cy="3673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68360" y="1197000"/>
            <a:ext cx="41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54936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AP: presión positiva constante en vía aér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700360" y="692280"/>
          <a:ext cx="3867120" cy="55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92280"/>
                    <a:ext cx="3867120" cy="55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403280" y="836640"/>
          <a:ext cx="619308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836640"/>
                    <a:ext cx="619308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8440" y="42840"/>
            <a:ext cx="908712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436640" y="324648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4289400" cy="6435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987640" y="59500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8713800" cy="2489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58920" y="765000"/>
            <a:ext cx="655308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as durante el sueñ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eño no R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eño R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Efectos respiratorios del sueño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dad del centro  respirato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il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 CO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O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ves apneas cent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encia vía aérea al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481040" y="1049400"/>
          <a:ext cx="6186600" cy="47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1049400"/>
                    <a:ext cx="618660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Efectos cardiovasculares del sueño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fecto general de descan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 No RE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dad simp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dad va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to cardíac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ón arter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Microdespertares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ci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 respirator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dad de musculos vía aérea a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jo de 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ciación de respuestas protecto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añ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agmentación de s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privación de s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ga sistema CV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(descarga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mpáti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0:06:54Z</dcterms:created>
  <dc:creator>Jaime Escobar D</dc:creator>
  <dc:description/>
  <dc:language>en-US</dc:language>
  <cp:lastModifiedBy>Laura Mendoza I</cp:lastModifiedBy>
  <dcterms:modified xsi:type="dcterms:W3CDTF">2006-08-11T08:48:23Z</dcterms:modified>
  <cp:revision>17</cp:revision>
  <dc:subject/>
  <dc:title>Diapositiva 1</dc:title>
</cp:coreProperties>
</file>