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7BA9-B593-4D29-8BED-D134D6C9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848C-1F50-4E51-BBD0-E5237178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2BED-C891-4A52-8C0C-5110EFE0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F16C-D42E-4832-90AD-CEA0083F7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FB4E-257D-47C3-BE02-6DCBB7E3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01E7-6EF2-4EEB-B6AD-4AE195FF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7C84-BDC1-47C0-A01D-6CFCFE01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9B3B-C03C-4497-9B34-770BD1BD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E069-6FF5-497C-87B9-9B28DBBA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99E2-EAF8-4BDE-9410-E394B691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686A-C1DF-4468-815A-D52B2B64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501C-C5F5-4360-8EC7-EA7E5651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BEE9-1570-4647-ABF1-B1F4694E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5758-0A5D-4BC2-B010-DA524376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19D7-A38D-457E-B9CB-81B77780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B82D-70B4-44E6-A523-317AD68E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EB08-CE9D-4127-8E13-FAAC818F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EAF-D011-4824-8D22-19DA4F85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6E32-E8CB-4EFC-89A4-B53A207B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6E09-8CEF-4190-96F6-FA8A52B0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4959-4339-4847-AE8A-07916AC1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BC2-4A20-4766-AAF0-375FF3E2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0839-5158-4765-AA65-AF87A0BB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2556-A264-43D8-B5E8-E4C093C5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24480"/>
            <a:ext cx="16765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32448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044E-45F8-434A-A65A-650E74E3307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854A-0C51-44CE-A539-3BD286EB7A1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BAQUISM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a. Laura Mendoz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Respiratori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CU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pendencia del tabaco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lquiera que fume todos los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madores mas dependie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ma apenas se despier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ma mas en las mañanas y gran cantidad de cigarril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pira profundamente cada cigar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tolera estar mucho tiempo sin fum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ma aunque esté enfermo en cam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drome de Abstinencia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nqu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cia por fum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minu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la capacidad de concen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rita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om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mento de pe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ip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tapas del proceso de cambio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ntempla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mplación ( &lt; 6 meses quizá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ción (futuro cercano: &lt; 1 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ión / Recaídas ( &lt; 6 meses sin fumar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tención ( &gt; 6 meses sin fum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re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das son normales, la mayoría no deja de fumar al primer int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dentificaci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de l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etapas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 fumado usted en al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 tiem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de fumar  ¿Lo ha dejado hace menos de 6 me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: A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: MANTEN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o fuma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Piensa dejar de fumar en los 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ximos 6 mes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: Precontempl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 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dispuesto a dejar de fumar dentro de 1 m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: PREPARAC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: CONTEMPLAC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po de ayuda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ntempla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ucir a pensar, sin presion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mpla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orz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ció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ific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tenció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itar recaíd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í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oy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SEJERIA BREV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4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IGU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NSEJ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YUD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RDAR SEGU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VERIGUAR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 le debe consultar a todas las personas por el 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ábito de fum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tidad di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¿Está interesado en dejar de fum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¿cuántos cigarrillos fuma al d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identificar etapa , nivel de adicc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y motiv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onsejar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jo claro y firme de acuerdo a la personalidad del paci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2004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yud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572000"/>
            <a:ext cx="7619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tes intervenciones se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 la etap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oyo farmaco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gico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ic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tidepresiv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prop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i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t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eg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a 30 cm2  de nicot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12880" y="628560"/>
            <a:ext cx="751824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07416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ños producidos por el tabaco en los fumador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 de 4000 sustancias 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xicas entre las que desta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otina ( dependenci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xido de Carbo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ecta transporte de o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geno y daña el aparato C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quitra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ectos irritativos  e inflam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ño de función cili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hibición de Antiprote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tes cancerígen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ños producidos por el tabaco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ermedades cardiovascul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ermedad coron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identes vasculares cerebr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ermedad vascular 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eurisma de la Aorta abdomi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ermedades pulmon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nquitis c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O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 complicaciones de infecciones respiratorias agu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or mortalidad por Influenza y Neu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ños producidos por el tabac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aco y 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c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ción de cánceres atribuídos al taba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pulmon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laríng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cavidad o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esofági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de vegi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cuello uteri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ucem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cer de estómago, páncreas y ve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ños producidos por el tabac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de morbilidad y mortalidad perina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ño fetal intrauteri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rdida de elasticidad de la pi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 tabaquismo es una adicci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era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in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del consum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dica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tiemp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umo a pesar de conocimientos o problemas asociados al taba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05:07:56Z</dcterms:created>
  <dc:creator>Laura Mendoza</dc:creator>
  <dc:description/>
  <dc:language>en-US</dc:language>
  <cp:lastModifiedBy>Laura Mendoza</cp:lastModifiedBy>
  <dcterms:modified xsi:type="dcterms:W3CDTF">2007-08-08T15:02:06Z</dcterms:modified>
  <cp:revision>15</cp:revision>
  <dc:subject/>
  <dc:title>PowerPoint Presentation</dc:title>
</cp:coreProperties>
</file>