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ct" ContentType="image/x-pict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C86-6B37-4E7B-BD23-A357C386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F911-1CF5-4A35-8994-F749C2C2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8571-25CA-43EA-9EDD-EA539D5C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B1A-C70C-4E90-8962-92973D23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14FF-8770-4F04-AB19-40F4D8B5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A210-E0B4-4A65-89DD-7A718ABA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473E-9738-487A-B5D6-DD527311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E8D5-2619-4438-9E17-31176333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0B96-85C1-44EF-BEBA-12A2753A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A486-4901-4D11-9AF7-E5FF6D51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036D-0414-420E-BC1D-80CDD631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562-F7A4-463B-B3D7-35999701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5E82-A500-478E-A63E-824A7830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54F5-68D1-419D-AEFB-3F61FD28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3934-3D35-4124-BE21-D81720AB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E7E0-9D62-48E7-985A-10C1E057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5AEC-F344-4753-86A4-35FCAD5D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D492-211B-4259-A2AB-8155C9BD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C1B-D4ED-4ABE-BEEE-A1D93083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818-D3B6-48F6-BF4D-61132917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081-98D5-4B18-BFDD-D5028FA1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8D8C-6978-4FE4-9C3F-DA11CD0C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D9A5-B00D-45C8-9438-39A65698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A8F5-B73F-4D1B-BF82-49A3597E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E2B2-C9EC-44CC-817F-A86EFDB0EF8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F259-495B-45CA-8CE7-7EBAEC01761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Pleur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8280" y="4952880"/>
            <a:ext cx="64008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. Laura Mendoz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ción Respirato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CU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ecanismos y causas del derrame pleural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presión hidrostática en la microvasculatura 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minución de la presión oncótica intravascul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negatividad de la presión inra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permeabilidad capilar con salida de líquido y proteín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ecanismos y causas del derrame pleural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stáculo de drenaje linfático por bloqueo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omas parieta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nglios mediastínic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so de transudado peritoneal ( ascitis) a través de linfáticos o de pequeños orificios del diafrag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ptura de vasos sanguíneos o del conducto torác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ausas mas frecuentes de trans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uficiencia cardíaca congesti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nefrót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rosis hepática con ascit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anismos no precisad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bolia pulmon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rcoidos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xede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ausas mas frecuentes de Ex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ccion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cterianas agud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berculos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ir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pagación directa o metástas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sotelio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bolía pulmon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fermedades colageno-vascular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tritis reumato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og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iopá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ausas mas frecuentes de ex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sión de enfermedades del aparato digestiv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ncreatit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sceso hepátic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foracion esofágic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ados misceáne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índrome post perocardiotomía o post infarto ( Síndrome de Dressler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motórax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liotórax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amen físic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 el líquido es mayor de 300 ml se detec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idez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lencio respirato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876920" y="3809880"/>
            <a:ext cx="380988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Radiografía de tórax P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4419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3214800" cy="446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ografía de tórax lateral y &lt; 300 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pleural locula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91160" y="1981080"/>
            <a:ext cx="372420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intercisu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581280" y="2862360"/>
            <a:ext cx="4876920" cy="3011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anifestaciones clínicas 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adverti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lor pelurít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s se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ne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de derrame 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de neumotór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rrame infrapulmonar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715644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rrame masiv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86000" y="1905120"/>
            <a:ext cx="4270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studio de las características del líquido pleural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oracocentesi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619128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specto macroscópico del líquido pleural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362320" y="990720"/>
            <a:ext cx="4938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IN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UDA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 LÍQUIDO/PROT PLASMA &gt; 0.5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FRAS ABSOLUTAS PUEDEN VARI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D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RITERIOS DE LIGHT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 LÍQUIDO ES EXUDADO SI CUMPLE 1 O MAS DE LAS SIGUIENTES CARACTERISTIC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ción entre proteínas del líquido y plasma es &gt; 0.5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ción entre LDH líquido y del plasma &gt; 0.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entración de LDH pleural sobre 2/3 del Límite superior de lo norm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este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ado &gt; 45 mg/d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a &lt; 60 mg/d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canismos diferen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abolización de la gluc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érmenes, leucocitos, células tumor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iema (8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oplasias ( 3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berculosis(2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queo selectivo de difusión de glucos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5728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tritis reumatoide ( 85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Tahoma"/>
              </a:rPr>
              <a:t>Exudado con glucosa &lt; 60 mg/dl</a:t>
            </a:r>
            <a:endParaRPr b="0" i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515880" y="1332000"/>
            <a:ext cx="8274600" cy="52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Diagnóstico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Incidencia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mg/d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Empiem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0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0-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leuresia reumatoide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85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0-5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Rotura esofágic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80-10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0-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Neoplasi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5-5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leuresia TBC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5-5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ES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5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30-5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143000"/>
            <a:ext cx="83055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81080"/>
            <a:ext cx="83055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6553080"/>
            <a:ext cx="83055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íquido normal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 ≥ 7,50 ( mayor concentración de bicarbonat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udados 7,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udados : la mayoría &lt; 7,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 bajos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ie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trit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Fisopat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leva a limitación ventilatoria restricti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lor pleur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minución del volumen pulmon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ventaja mecánica de los músculos inspiratorios por distensión del tó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gidez toracopulmonar por engrosamiento y sínfisis pleu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Diagnóstico diferencial de un exudado con pH &lt; 7,30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35720" y="1204920"/>
            <a:ext cx="866916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Diagnóstico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Incidencia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mpiem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,00-7,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raneumónico complicad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,9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leuresia reumatoide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85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7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otura esofágic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8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,0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eoplasi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7,0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leuresia TBC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7,0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7,15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1828800"/>
            <a:ext cx="8839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DA ( adenosindeamidasa)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focitos T aactivad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ada 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s por TB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ritis Reumatoi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fom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 razones no precisadas: empie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riterios diagnósticos del AD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30 U/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C extremadamente improbabl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re 30 y 80 U/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discrimina bi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o en muchos lugares si es mayor de 45 U/L igual se considera probable TB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o debe evaluarse probabilidad Pre 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 80 U/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C, empiema, AR, linfo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orte de probablidad clínica pre test : permite confirmar TBC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milas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sobre 2 veces el valor normal 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ncreatitis aguda y pseudoquiste pancreát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ptura de esófag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Otros 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cadores inmunológic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élulas del lup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, AAN, complem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iglicérid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gnóstico de quilotó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 110 mg/d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ilomicron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citológicos : Leucocit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PM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rocesos agud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rrames paraneumón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bolí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ncreatitis agud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se inicial de pleuresía tuberculos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 Linfocit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udad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berculos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osinófil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e o sangre en ple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ritrocit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ausencia de trauma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eoplasi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mbolí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B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índrome post-injuria cardíac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euresía por asbest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elulas mesoteliales y neoplásica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ulas mesotelial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claro rol diagnóst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élulas neoplásic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ibilidad variab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º muestra o centrifugado puede aumentar rendimi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microbiológ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nción de gra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ltivos aerobios y anaerobi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iloscopía y cultivo de Ko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ja sensibil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histológ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ia pleural con agu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ia toracoscóp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ia quirúrgic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Líquido Pleural</a:t>
            </a:r>
            <a:endParaRPr b="0" i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ransudado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udado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angr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1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uilo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PLEURAL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TRANSUDATIV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uficiencia cardía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pertensión venosa pulmonar 2º a insuficncia cardiaca izquierda o estenosis mit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rrame bilateral y cuantía simil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nica clara : no es necesario la punción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 hay dudas : punción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cha magnitud : punción pleural evacuador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TRANSUDATIV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rrosis Hepát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 % de los pacientes con asciti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 frecuente al lado derech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iración del líquido por presión negativa del tórax a través de defectos del diafrag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EXUDATIV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PARANEUMÓNICO SIMP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udado estéri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PARANEUMONICO COMPLIC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cion bacteriana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brina, lóculos múltip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casa llegada de antibiótico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esgo alto de muerte sin tratamiento apropia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rrame paraneumonico complicado </a:t>
            </a:r>
            <a:br>
              <a:rPr sz="4400"/>
            </a:b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ecto macroscópico purul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 baj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7, 2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a baj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40 mg /d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m (+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ltivo (+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ctato al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DH elev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Clasificación de los derrames paraneumónicos y empiema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no complic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pH &gt; 7,20. Glucosa &gt; 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limitro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7 &lt; pH &lt; 7,20 y/o LDH &gt; 1000 y glucosa &gt; 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complicado sim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pH &lt; 7,0 y/o glucosa &lt; 40 mg/d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complicado comple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Gram o cultivo posi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mpie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Derrame paraneumonico complicado Conducta terapeútica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racocentesis  precoz y Evacuadora en lo posible en todo derrame paraneumón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lvo sólo en el fondo de seno costofré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hay dudas: repetir pu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ografía y ecografía : derrame locul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enaje en paraneumónico complica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bo por ciruja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OPLASIAS PLEURALE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oplasias primitivas de la pleur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otelioma fibroso benig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otelioma malig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osición a fibras de asbes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tencia de 20 a 40 añ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íquio pleur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ado hemorrágic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 7,30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gnóstico difícil histológico inmunohistoquím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Etiología del derrame pleural maligno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9040" y="1981080"/>
          <a:ext cx="7758000" cy="410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9040" y="1981080"/>
                    <a:ext cx="7758000" cy="41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ahoma"/>
              </a:rPr>
              <a:t>Derrame pleural masivo sin desviación contralateral del mediastino</a:t>
            </a:r>
            <a:endParaRPr b="0" i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Hallazgo ominos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ncer pulmon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diastino encarcel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sotelioma malig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apón muc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 afecciones de la pleura consisten casi siempre en alteraciones diversas de la serosidad que ella secreta en el estado norm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ennec 185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UMOTORAX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finición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e en cavidad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 frecuencia : urg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gún mecanismo caus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umátic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pontáne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 pulmón san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spontáneo primari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licación de enfermedad pulmonar preexistente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pontáneo secundario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umotórax espontáneo primari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bres/ Mujeres = 6/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óvenes, longilíne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mado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ptura de pequeñas vesiculas subpleurales ( bleb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Neumotórax espontáneo primario Manifestaciones Clínicas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lor pleurítico súbi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ne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de neumotórax al examen físco si la magnitud es significati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grafía de tórax es diagnóst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438280" y="533520"/>
            <a:ext cx="478944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onducta terapeútic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ende 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ntensidad de los síntom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ción del volumen del neumotó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istencia de la entrada de a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 muy raro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68996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onducta terapéutica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 15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servación : resolución espontáne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 15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enaje con sonda fina o tub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exión a trampa de agu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ir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istente: manejo quirúrg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umotórax espontáneo secundari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ilar al primari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o: síntomas de mayor intens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as mas frecue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PO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M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ejo: quirúrg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MOTÓRAX TRAUMAT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MOTORAX A TEN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343400" y="1066680"/>
            <a:ext cx="380520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ransudad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ultrafiltración a nivel capil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mento de la presión hidrostát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minución de la presión coloido- osmótica intracapil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 caracteriza p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ja concentración de proteín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sencia de indicadores de inflam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or permeabilidad capil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en proteínas sanguíneas al líquido 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D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mento de permeabil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eración local por celulas inflamatori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angre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ptura de los vasos sanguíneos de la pleur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OTO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Quil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iones en el conducto torácico  p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um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iltración tumo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LOTORA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1:23:34Z</dcterms:created>
  <dc:creator>Laura Mendoza</dc:creator>
  <dc:description/>
  <dc:language>en-US</dc:language>
  <cp:lastModifiedBy>Laura Mendoza</cp:lastModifiedBy>
  <dcterms:modified xsi:type="dcterms:W3CDTF">2007-08-08T16:50:11Z</dcterms:modified>
  <cp:revision>55</cp:revision>
  <dc:subject/>
  <dc:title>PowerPoint Presentation</dc:title>
</cp:coreProperties>
</file>