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F63-58A2-4634-BE0F-7C66DCCD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4E1-834E-4D2A-98C0-0B2FD462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AAD-D30A-44E8-A271-3BD82CB2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4EF-2EC2-4DBF-B68E-E047B9CB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2497-D446-4DA3-B6A8-2D530C8C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21BB-8067-4992-9A12-5DAE82E1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9CDC-1CA5-4A5E-8264-A4CD4DB9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8BDF-38EB-4A11-8BD2-9CE48BB5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F66E-5F9E-4F3C-984B-2972BFFE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BB4A-6CF1-4E19-AD3D-734804C2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33A5-FCD7-4150-9BA9-3B03CF1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929-FE9A-46EB-A984-8EC219B7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1F7D-1BB5-471D-8DC3-AA87E0E7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A39D-69BB-4716-854C-A0E61D14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DF22-1179-43FA-8AAB-70D348A1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FD3E-1554-4AD9-8CAD-81A52844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12F8-74BC-4F11-85E1-78E5A669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FCC-E0FC-4412-B9FD-12C9E045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4E1-A4DC-4CA4-93E1-B77FE3F2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1DF-FD96-4175-93E2-57FA3D9F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E25-598B-472E-823F-5DEE0F80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7B0-4CE9-4562-A3C2-16C22F7E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D6A-D051-4517-A2BF-C39B81C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2EF-B477-498F-AFC0-50D55E04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8744-C714-4F85-A0E2-30E4EE1E128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CF80-81D0-48AA-A30A-01E61653526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eur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. Laura Mendo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ción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resión hidrostática en la microvasculatura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minución de la presión oncótica intravascu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negatividad de la presión inra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ermeabilidad capilar con salida de líquido y proteí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áculo de drenaje linfático por bloque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omas pariet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lios mediastín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o de transudado peritoneal ( ascitis) a través de linfáticos o de pequeños orificios del diafrag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vasos sanguíneos o del conducto torác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trans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iciencia cardíaca conges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nefrót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rosis hepática con asc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anismos no precis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olia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co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terianas agud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ción directa o metásta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oteli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 pulmon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colageno-vascul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g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iop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ón de enfermedades del aparato diges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ncreat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sceso hep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oracion esofág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s misceáne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índrome post perocardiotomía o post infarto ( Síndrome de Dressl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m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li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amen físic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el líquido es mayor de 300 ml se det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id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encio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098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diografía de tórax P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19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21480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de tórax lateral y &lt; 3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leural locu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1160" y="1981080"/>
            <a:ext cx="3724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intercis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81280" y="2862360"/>
            <a:ext cx="4876920" cy="3011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nifestaciones clínicas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vert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elur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s se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derrame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infrapulmonar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156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mas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27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studio de las características del líquido pleura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racocentesi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1912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specto macroscópico del líquido pleur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9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 LÍQUIDO/PROT PLASMA &gt; 0.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FRAS ABSOLUTAS PUEDEN VARI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E LIGHT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LÍQUIDO ES EXUDADO SI CUMPLE 1 O MAS DE LAS SIGUIENTES CARACTERIS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proteínas del líquido y plasma es &gt; 0.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LDH líquido y del plasma &gt; 0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ción de LDH pleural sobre 2/3 del Límite superior de lo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&gt; 45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&lt; 60 mg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anismos difer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ación de la gl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érmenes, leucocitos, células tu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 (8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( 3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(2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queo selectivo de difusión de gluco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5728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 ( 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Tahoma"/>
              </a:rPr>
              <a:t>Exudado con glucosa &lt; 60 mg/dl</a:t>
            </a:r>
            <a:endParaRPr b="0" i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15880" y="1332000"/>
            <a:ext cx="827460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mg/d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0-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81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553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do norm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≥ 7,50 ( mayor concentración de bicarbo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udados 7,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s : la mayoría &lt; 7,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 bajo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sopat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eva a limitación ventilatoria restric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or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l volumen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entaja mecánica de los músculos inspiratorios por distensión del 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idez toracopulmonar por engrosamiento y sínfisis ple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iagnóstico diferencial de un exudado con pH &lt; 7,30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35720" y="1204920"/>
            <a:ext cx="8669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neumónico complic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9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7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15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828800"/>
            <a:ext cx="8839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DA ( adenosindeamidasa)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focitos T aactiv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da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s por TB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ritis Reumato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f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razones no precisadas: empi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iagnósticos del AD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30 U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 extremadamente improb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30 y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discrimin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en muchos lugares si es mayor de 45 U/L igual se considera probable T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debe evaluarse probabilidad Pr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, empiema, AR, linfo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rte de probablidad clínica pre test : permite confirmar TBC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milas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sobre 2 veces el valor normal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creatitis aguda y pseudoquiste pancreá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esófag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Otros 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adores inmunológic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élulas del lu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, AAN, comple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licéri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e quil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110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lomicr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citológicos : Leuc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PM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os agu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s paraneum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creatitis agu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e inicial de pleuresía tuberculos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Linfocit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ud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osinófi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o sangre en ple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ritr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ausencia de traum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oplas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bolí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B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índrome post-injuria cardíac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uresía por asbes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elulas mesoteliales y neoplásic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ulas mesotel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laro rol diagnós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élulas neoplás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bilidad vari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º muestra o centrifugado puede aumentar rendimi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microbi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ción de 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ivos aerobios y anaerob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iloscopía y cultivo de K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sensi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hist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pleural con agu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toracoscóp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quirúrgic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Líquido Pleural</a:t>
            </a:r>
            <a:endParaRPr b="0" i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1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il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ficiencia cardía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ertensión venosa pulmonar 2º a insuficncia cardiaca izquierda o estenosis mit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 bilateral y cuantía simil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 clara : no es necesario la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udas :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cha magnitud : punción pleural evacuado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rosis Hep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% de los pacientes con ascit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 frecuente al lado dere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iración del líquido por presión negativa del tórax a través de defectos del diafrag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EXUDATIV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ÓNICO SIMP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 estér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ONICO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cion bacteriana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rina, lóculos múltip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asa llegada de antibiótic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sgo alto de muerte sin tratamiento apropi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paraneumonico complicado 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macroscópico purul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 baj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7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ba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40 mg 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m (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ivo (+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ato al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H elev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Clasificación de los derrames paraneumónicos y empiema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no compl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gt; 7,20.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limitro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7 &lt; pH &lt; 7,20 y/o LDH &gt; 1000 y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si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lt; 7,0 y/o glucosa &lt; 40 mg/d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compl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Gram o cultivo posi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Derrame paraneumonico complicado Conducta terapeútic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acocentesis  precoz y Evacuadora en lo posible en todo derrame paraneumón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vo sólo en el fondo de seno costofré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hay dudas: repetir p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y ecografía : derrame locu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en paraneumónico complic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o por ciruja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OPLASIAS PLEURALE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primitivas de la ple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fibroso ben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mal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osición a fibras de asbes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ncia de 20 a 40 añ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o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hemorrág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7,3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ifícil histológico inmunohistoquím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Etiología del derrame pleural maligno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9040" y="1981080"/>
          <a:ext cx="775800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981080"/>
                    <a:ext cx="775800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Derrame pleural masivo sin desviación contralateral del mediastino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llazgo omino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ncer pulm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astino encarc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sotelioma malig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pón mu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afecciones de la pleura consisten casi siempre en alteraciones diversas de la serosidad que ella secreta en el estado nor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ennec 18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ORAX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finición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en cavidad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 frecuencia : urg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ún mecanismo cau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um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ontáne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 pulmón sa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spontáneo primari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icación de enfermedad pulmonar preexisten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ontáneo secundari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prim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bres/ Mujeres = 6/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óvenes, longilíne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mad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pequeñas vesiculas subpleurales ( bleb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Neumotórax espontáneo primario Manifestaciones Clínic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leurítico súb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 al examen físco si la magnitud es significa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fía de tórax es diagnóst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789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eútic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ntensidad de los sínt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ción del volumen del neum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stencia de la entrada de 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muy raro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6899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éutic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ción : resolución espontán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con sonda fina o tub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exión a trampa de agu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i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e: manejo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secund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al pri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: síntomas de mayor inten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 mas frecu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M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ejo: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ÓRAX TRAUMA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ORAX A T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805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ultrafiltración a nivel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la presión hidrost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 la presión coloido- osmótica intracapi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caracteriza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concentración de proteí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ncia de indicadores de inflam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or permeabilidad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en proteínas sanguíneas al líquido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D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permea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ción local por celulas inflamato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los vasos sanguíneos de la pleu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TO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Quil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iones en el conducto torácico 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iltración tum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LOT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1:23:34Z</dcterms:created>
  <dc:creator>Laura Mendoza</dc:creator>
  <dc:description/>
  <dc:language>en-US</dc:language>
  <cp:lastModifiedBy>Laura Mendoza</cp:lastModifiedBy>
  <dcterms:modified xsi:type="dcterms:W3CDTF">2007-08-08T16:50:11Z</dcterms:modified>
  <cp:revision>55</cp:revision>
  <dc:subject/>
  <dc:title>PowerPoint Presentation</dc:title>
</cp:coreProperties>
</file>