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8D86-EE54-4EF7-9761-78491E85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DE06-C5EA-406E-B5A7-7727152C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2F5-FE3E-4988-AC20-804ECB73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C10-7F16-47D0-A372-34466E4FA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6729-FD55-4D25-B633-08A84DBE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9B48-2368-4BDE-A6EF-B13BF9D6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5958-9346-4FC8-B373-6445DF5F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51D86-E9F1-43FD-BDEB-3EE202C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149F-EA70-45DC-A069-195BA835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DBFF5-C3A4-4C55-BC1D-689656E6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94238-2B39-4742-9BAC-45B8CD54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F671-0158-4559-854A-CBD37ED92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F251D-B569-40FC-8E4C-1271DA1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75C-67BE-45CE-A447-B9DE856B3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3223-D506-48C0-9B02-2D107C2D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A83A1-4119-46FA-8F38-1CDF6F6C9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18B6-F690-4242-9B88-C27606A9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D81E-C974-4319-AE26-F579E163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5DBF-41FD-4A05-B9FB-B571E144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4BD-BA1A-495E-B6D9-59205D2C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7B69-279F-401A-905F-BB4714A4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F6A6-2247-4710-9AAA-8891DE4C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5689-7EBC-4358-A915-2466A6C5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663B-9845-4082-9DBF-A5F42C90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324480"/>
            <a:ext cx="167652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32448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FB98-9002-4157-B608-DD1F690A05F2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362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F519-CA3F-4CD3-B4E9-61705FAEAB4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051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ABAQUISM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a. Laura Mendoz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c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Respiratori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CU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pendencia del taba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alquiera que fume todos los 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dores mas depend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penas se despier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mas en las mañanas y gran cantidad de cigarril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pira profundamente cada cigarri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tolera estar mucho tiempo sin fum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ma aunque esté enfermo en cam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í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drome de Abstinenci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anqu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encia por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minu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la capacidad de concent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rritabil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om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mento de p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tip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apas del proceso de cambi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 ( &lt; 6 meses quizá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(futuro cercano: &lt; 1 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 / Recaídas ( &lt; 6 meses sin fumar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( &gt; 6 meses sin fum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re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das son normales, la mayoría no deja de fumar al primer int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dentifica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de la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etapas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 fumado usted en al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tiemp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 de fumar  ¿Lo ha dejado hace menos de 6 me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 AC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: MANTEN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o fumand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Piensa dejar de fumar en los 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mos 6 me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: Precontemplac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 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 dispuesto a dejar de fumar dentro de 1 me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: PREPAR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: CONTEMPLAC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po de ayuda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contempl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ir a pensar, sin presion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mpla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or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a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ific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ció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ció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itar recaí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í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SEJERIA BREVE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4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RIGU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NSEJ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YUD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ORD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VERIGU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 le debe consultar a todas las personas por el h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ábito de fu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tidad diar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Está interesado en dejar de fuma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¿cuántos cigarrillos fuma al dí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identificar etapa , nivel de adicc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y motiv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consejar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jo claro y firme de acuerdo a la personalidad del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2004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yuda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4572000"/>
            <a:ext cx="76197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erentes intervenciones se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 la etap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oyo farmaco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gico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tidepresiv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prop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si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tic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733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rregul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a 30 cm2  de nico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12880" y="628560"/>
            <a:ext cx="75182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2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074160" cy="639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en los fumadores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 de 4000 sustancias 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cas entre las que destac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otina ( dependencia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xido de Carbo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ecta transporte de 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geno y daña el aparato C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quitra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fectos irritativos  e inflam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ño de función cil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hibición de Antiprotea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gentes cancerígen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cardiovascul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corona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identes vasculares cereb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ermedad vascular 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fe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eurisma de la Aorta abdomi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fermedades pulmona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nquitis c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O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complicaciones de infecciones respiratorias agu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or mortalidad por Influenza y Neum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aco y 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ción de cánceres atribuídos al taba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pulmon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laríng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avidad o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esofá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de vegi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0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áncer cuello uteri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ucem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áncer de estómago, páncreas y ve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años producidos por el tabaco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 morbilidad y mortalidad perina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ño fetal intrauteri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érdida de elasticidad de la pi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l tabaquismo es una adicci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inen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mento del consum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ica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ón de tiemp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umo a pesar de conocimientos o problemas asociados al taba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05:07:56Z</dcterms:created>
  <dc:creator>Laura Mendoza</dc:creator>
  <dc:description/>
  <dc:language>en-US</dc:language>
  <cp:lastModifiedBy>Laura Mendoza</cp:lastModifiedBy>
  <dcterms:modified xsi:type="dcterms:W3CDTF">2007-08-08T15:02:06Z</dcterms:modified>
  <cp:revision>15</cp:revision>
  <dc:subject/>
  <dc:title>PowerPoint Presentation</dc:title>
</cp:coreProperties>
</file>