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ct" ContentType="image/x-pict"/>
  <Override PartName="/ppt/media/image9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014-EB36-4264-8307-07ECC17F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4EF5-897F-4C25-8D2F-E5EFCE6E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9BA4-CB3C-4C98-A284-E26B1291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5E23-A1E9-4EF4-B82B-6E4A284F9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98CBF-A440-42A9-8A67-CCD1CA7D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3816F-6ADA-4F9E-8B58-88888168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4D02D-7D09-4900-B446-A2451A62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86A7-C425-4933-BA65-6386EA20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C4E1-DE54-48A3-9767-5ED00B62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8D92-57B7-4D85-8CA1-38BE7E27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7C14-0AA3-4700-932E-9D3015F6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EA65-9F87-49A9-9ED1-ED679E20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3F76-5649-49AE-AB3A-7418049F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5A1C5-AD3B-4B73-B727-8FA5EE21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B128-78D1-4F1F-928E-F8C3DA8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87BC-A42B-41F4-A226-F1EB257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CB68-6A2D-4CBA-9B2E-63F252511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EB8B-6AE0-46AF-9A1C-E4E6C8C2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752C-3EDA-4ECF-BC81-DE4CD0C0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2DB4-DE28-41AE-B76F-F4BD6987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88A-FAD9-491C-9A96-72974380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95FD-F72A-4681-84FF-078FC6B6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3A56-3E83-4D5C-B400-64827AC2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5C0-7699-4DCF-9FF6-8685B744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7107-5367-4CAC-A317-9432D8D2DEE4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AE11-9A7C-4764-B7D0-32E53E70D78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ct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Pleur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438280" y="4952880"/>
            <a:ext cx="6400800" cy="14479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a. Laura Mendoz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ción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CU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resión hidrostática en la microvasculatura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minución de la presión oncótica intravascu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negatividad de la presión inra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permeabilidad capilar con salida de líquido y proteí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ecanismos y causas del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táculo de drenaje linfático por bloqueo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omas pariet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glios mediastínic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so de transudado peritoneal ( ascitis) a través de linfáticos o de pequeños orificios del diafrag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vasos sanguíneos o del conducto torác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trans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uficiencia cardíaca conges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nefrót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irrosis hepática con asciti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canismos no precis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mbolia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rcoidos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ixed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n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acterianas agud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iru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pagación directa o metástas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sotelio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 pulmon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fermedades colageno-vascul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og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iop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ausas mas frecuentes de 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sión de enfermedades del aparato digestiv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ancreat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bsceso hep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erforacion esofágic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s misceáne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índrome post perocardiotomía o post infarto ( Síndrome de Dressle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m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Quliotórax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amen físic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el líquido es mayor de 300 ml se detec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tidez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encio respirator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809880"/>
            <a:ext cx="3809880" cy="23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</a:t>
            </a:r>
            <a:br>
              <a:rPr sz="4400"/>
            </a:b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adiografía de tórax P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286000" y="1981080"/>
            <a:ext cx="4419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3214800" cy="44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de tórax lateral y &lt; 300 m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leural locul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91160" y="1981080"/>
            <a:ext cx="3724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magene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intercis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581280" y="2862360"/>
            <a:ext cx="4876920" cy="30114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anifestaciones clínicas 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adverti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elurít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s se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derrame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infrapulmonar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15644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mas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86000" y="1905120"/>
            <a:ext cx="4270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studio de las características del líquido pleural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oracocentesi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676520" y="1981080"/>
            <a:ext cx="619128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Aspecto macroscópico del líquido pleural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2362320" y="990720"/>
            <a:ext cx="49384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TEIN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 LÍQUIDO/PROT PLASMA &gt; 0.5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FRAS ABSOLUTAS PUEDEN VARI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D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E LIGHT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 LÍQUIDO ES EXUDADO SI CUMPLE 1 O MAS DE LAS SIGUIENTES CARACTERISTIC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proteínas del líquido y plasma es &gt; 0.5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lación entre LDH líquido y del plasma &gt; 0.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entración de LDH pleural sobre 2/3 del Límite superior de lo norm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lester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&gt; 45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&lt; 60 mg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canismos diferen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77240" indent="-38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tabolización de la gluc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érmenes, leucocitos, células tumor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 (8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( 3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00880" indent="-323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uberculosis(20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oqueo selectivo de difusión de glucos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457280" indent="-291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reumatoide ( 85%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3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Tahoma"/>
              </a:rPr>
              <a:t>Exudado con glucosa &lt; 60 mg/dl</a:t>
            </a:r>
            <a:endParaRPr b="0" i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515880" y="1332000"/>
            <a:ext cx="8274600" cy="52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00ffcc"/>
                </a:solidFill>
                <a:latin typeface="Times New Roman"/>
              </a:rPr>
              <a:t>mg/d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5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80-10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0-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15%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30-5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14300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81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6553080"/>
            <a:ext cx="830556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do normal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≥ 7,50 ( mayor concentración de bicarbonat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udados 7,4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s : la mayoría &lt; 7,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 bajos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triti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Fisopatologí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leva a limitación ventilatoria restric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lor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l volumen pulmon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ventaja mecánica de los músculos inspiratorios por distensión del 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gidez toracopulmonar por engrosamiento y sínfisis pleur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Tahoma"/>
              </a:rPr>
              <a:t>Diagnóstico diferencial de un exudado con pH &lt; 7,30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135720" y="1204920"/>
            <a:ext cx="866916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Diagnóstico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Incidencia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ffcc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mpiem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neumónico complicad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9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reumatoide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5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   7,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otura esofág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6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eoplas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3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euresia TBC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00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10%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7,15-7,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1828800"/>
            <a:ext cx="8839440" cy="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DA ( adenosindeamidasa)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focitos T aactiva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ada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s por TBC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tritis Reumato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f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 razones no precisadas: empi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riterios diagnósticos del AD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30 U/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 extremadamente improbabl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ntre 30 y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discrimina bi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en muchos lugares si es mayor de 45 U/L igual se considera probable TB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o debe evaluarse probabilidad Pre T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80 U/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BC, empiema, AR, linfo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orte de probablidad clínica pre test : permite confirmar TBC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Amilas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sobre 2 veces el valor normal 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ncreatitis aguda y pseudoquiste pancreá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ptura de esófag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Otros exámenes bioquím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rcadores inmunológic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élulas del lupu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, AAN, complem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iglicérid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e quil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 110 mg/d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Quilomicron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citológicos : Leuc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gt;PM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Procesos agud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s paraneumón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bolí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ncreatitis agud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se inicial de pleuresía tuberculos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gt; Linfocit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nsudad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erculos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oplasia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ófi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o sangre en pleu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ritrocit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 ausencia de trauma: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Neoplasi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bolí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B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índrome post-injuria cardíaca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leuresía por asbesto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elulas mesoteliales y neoplásica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lulas mesotelial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laro rol diagnós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élulas neoplásica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nsibilidad variab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º muestra o centrifugado puede aumentar rendimi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microbi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nción de gra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ultivos aerobios y anaerobio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ciloscopía y cultivo de Koc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sensi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ámenes histológico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pleural con agu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toracoscóp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opsia quirúrgic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Tahoma"/>
              </a:rPr>
              <a:t>Líquido Pleural</a:t>
            </a:r>
            <a:endParaRPr b="0" i="1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Exudado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0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11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ilo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PLEURAL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uficiencia cardía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pertensión venosa pulmonar 2º a insuficncia cardiaca izquierda o estenosis mit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rrame bilateral y cuantía simila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 clara : no es necesario la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 hay dudas : punción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cha magnitud : punción pleural evacuador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TRANSUDATIV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irrosis Hep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 % de los pacientes con ascitis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 frecuente al lado derech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piración del líquido por presión negativa del tórax a través de defectos del diafragm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NFERMEDADES CON DERRAME EXUDATIV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ÓNICO SIMPL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udado estéri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RRAME PARANEUMONICO COMPLIC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cion bacteriana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brina, lóculos múltipl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casa llegada de antibiótico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esgo alto de muerte sin tratamiento apropi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rrame paraneumonico complicado 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ecto macroscópico purulent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H baj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7, 2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ucosa baj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 40 mg /d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ram (+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-22392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ltivo (+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56816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ctato al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2016000" indent="-22392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DH eleva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Tahoma"/>
              </a:rPr>
              <a:t>Clasificación de los derrames paraneumónicos y empiema</a:t>
            </a:r>
            <a:endParaRPr b="0" i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no complic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gt; 7,20.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limitrof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7 &lt; pH &lt; 7,20 y/o LDH &gt; 1000 y glucosa &gt; 4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si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H &lt; 7,0 y/o glucosa &lt; 40 mg/d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raneumónico complicado comple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Gram o cultivo posi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mpiem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cc0000"/>
                </a:solidFill>
                <a:latin typeface="Tahoma"/>
              </a:rPr>
              <a:t>P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Derrame paraneumonico complicado Conducta terapeútica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racocentesis  precoz y Evacuadora en lo posible en todo derrame paraneumón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lvo sólo en el fondo de seno costofré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 hay dudas: repetir pun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diografía y ecografía : derrame locul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en paraneumónico complicad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bo por ciruja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OPLASIAS PLEURALES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oplasias primitivas de la pleur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fibroso ben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otelioma malign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osición a fibras de asbest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tencia de 20 a 40 año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íquio pleura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udado hemorrág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H 7,30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agnóstico difícil histológico inmunohistoquím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Tahoma"/>
              </a:rPr>
              <a:t>Etiología del derrame pleural maligno</a:t>
            </a:r>
            <a:endParaRPr b="0" i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89040" y="1981080"/>
          <a:ext cx="7758000" cy="410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9040" y="1981080"/>
                    <a:ext cx="7758000" cy="41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Tahoma"/>
              </a:rPr>
              <a:t>Derrame pleural masivo sin desviación contralateral del mediastino</a:t>
            </a:r>
            <a:endParaRPr b="0" i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allazgo ominoso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ancer pulmona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diastino encarcel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Mesotelioma malig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Tapón muco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 afecciones de la pleura consisten casi siempre en alteraciones diversas de la serosidad que ella secreta en el estado norm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ennec 185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ORAX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Definición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re en cavidad pleur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 frecuencia : urg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gún mecanismo caus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aumátic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pontáne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n pulmón sano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Espontáneo primario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plicación de enfermedad pulmonar preexistente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pontáneo secundario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prim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mbres/ Mujeres = 6/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óvenes, longilíne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mado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pequeñas vesiculas subpleurales ( blebs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Neumotórax espontáneo primario Manifestaciones Clínicas</a:t>
            </a: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lor pleurítico súbit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ne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índrome de neumotórax al examen físco si la magnitud es significati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grafía de tórax es diagnóstic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2438280" y="533520"/>
            <a:ext cx="478944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eútica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pend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ntensidad de los síntom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ción del volumen del neumotó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sistencia de la entrada de a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( muy raro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689960" cy="54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onducta terapéutica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l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servación : resolución espontáne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&gt; 15%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renaje con sonda fina o tub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exión a trampa de agu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pir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sistente: manejo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Neumotórax espontáneo secundari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milar al primari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o: síntomas de mayor intensid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 mas frecuen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PO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SMA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ejo: quirúrgico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ÓRAX TRAUMATICO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UMOTORAX A TEN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4343400" y="1066680"/>
            <a:ext cx="3805200" cy="4114800"/>
          </a:xfrm>
          <a:prstGeom prst="rect">
            <a:avLst/>
          </a:prstGeom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Transudad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a ultrafiltración a nivel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la presión hidrostátic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minución de la presión coloido- osmótica intracapil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 caracteriza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ja concentración de proteín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sencia de indicadores de inflamació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Exudado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or permeabilidad capila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en proteínas sanguíneas al líquido pleural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mento de LDH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mento de permeabilida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eración local por celulas inflamatori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Sangre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uptura de los vasos sanguíneos de la pleur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EMOTORAX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Quilo 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siones en el conducto torácico  po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um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iltración tumoral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LOT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1:23:34Z</dcterms:created>
  <dc:creator>Laura Mendoza</dc:creator>
  <dc:description/>
  <dc:language>en-US</dc:language>
  <cp:lastModifiedBy>Laura Mendoza</cp:lastModifiedBy>
  <dcterms:modified xsi:type="dcterms:W3CDTF">2007-08-08T16:50:11Z</dcterms:modified>
  <cp:revision>55</cp:revision>
  <dc:subject/>
  <dc:title>PowerPoint Presentation</dc:title>
</cp:coreProperties>
</file>