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3AC-73AF-49DE-8D3E-681CFACA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124-CFC8-4B60-960B-D00AFCAB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A9C-E6D2-43F5-9726-059637BC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C47-6C58-4977-A3C3-2D6852AD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7E6F-D559-4FB1-8A28-691EE726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4147-E8DF-4237-B606-12117692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90C5-2ED3-40A8-A4AD-CCBEE125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A5E9-D12C-4858-BAE9-13CF7315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191C-FBB1-4617-A2E1-35E703E7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9D77-FE0E-4F37-A284-DF454001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89AB-F49F-4EB0-A28C-8036671A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4EA-8874-4859-9995-1D9F6C1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952B-6F5E-4269-A40F-A3824E36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A824-5A3C-4645-B119-55706529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A4E7-A650-4489-82F2-383796C7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685E-3ADF-461D-894E-178E272D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10C1-3A80-4354-AE6A-46E001F9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067-A39A-4E3E-9C45-ECD0F331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BB4-8CA2-4CEC-9534-24B0BD4A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A10-8FC6-4119-AA23-C1774C88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EC8-9E24-416B-9EF3-DECA7F29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708-33F4-41B8-AD9A-9F1E1656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C4E-F3FA-47C6-A0D5-2BC5E16A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46A-FDB2-40F7-8480-622F44AC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FC9D-22E4-4665-A015-E29DB453704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3DD5-7472-415F-8116-757E4E994D4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AQUISM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. Laura Mendoz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Respirato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endencia del taba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quiera que fume todos los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dores mas depen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penas se despi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mas en las mañanas y gran cantidad de cigarri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pira profundamente cada cigar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tolera estar mucho tiempo sin fu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unque esté enfermo en ca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drome de Abstinenci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qu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cia por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minu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capacidad de 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rit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om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mento de p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ip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l proceso de cambi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 ( &lt; 6 meses qui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(futuro cercano: &lt; 1 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 / Recaídas ( &lt; 6 meses sin fumar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( &gt; 6 meses sin fu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e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as son normales, la mayoría no deja de fumar al primer int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ca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tapa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umado usted en al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fumar  ¿Lo ha dejado hace menos de 6 me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 A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: MAN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o fum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iensa dejar de fumar en los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mos 6 me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: Precontempl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dispuesto a dejar de fumar dentro de 1 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: PREPAR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 CONTEMPL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 de ayud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ir a pensar, sin presio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or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if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itar recaí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í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EJERIA BRE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4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IG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NSE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RD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VERIGU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le debe consultar a todas las personas por el 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ábito de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tidad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Está interesado en dejar de fum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uántos cigarrillos fuma a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identificar etapa , nivel de adic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 motiv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onsej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jo claro y firme de acuerdo a la personalidad del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5720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intervenciones s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la eta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yo farmaco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gi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depres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pro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a 30 cm2  de nico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628560"/>
            <a:ext cx="7518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074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en los fumado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de 4000 sustancias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cas entre las que desta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otina ( depende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do de Carb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a transporte de 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eno y daña el aparat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quitr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ectos irritativos  e inflam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ño de función cili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ción de Antiprote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canceríg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cor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es vasculares cereb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vascular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eurisma de la Aorta 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pulmo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quitis 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complicaciones de infecciones respiratorias agu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mortalidad por Influenza y 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aco y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ción de cánceres atribuídos al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pulmon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laríng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avidad 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esofá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de veg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uello uter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ucem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de estómago, páncreas y ve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 morbilidad y mortalidad perina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ño fetal intrauter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rdida de elasticidad de la p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abaquismo es una adic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l consu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o a pesar de conocimientos o problemas asociados al taba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5:07:56Z</dcterms:created>
  <dc:creator>Laura Mendoza</dc:creator>
  <dc:description/>
  <dc:language>en-US</dc:language>
  <cp:lastModifiedBy>Laura Mendoza</cp:lastModifiedBy>
  <dcterms:modified xsi:type="dcterms:W3CDTF">2007-08-08T15:02:06Z</dcterms:modified>
  <cp:revision>15</cp:revision>
  <dc:subject/>
  <dc:title>PowerPoint Presentation</dc:title>
</cp:coreProperties>
</file>