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3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33.xml.rels" ContentType="application/vnd.openxmlformats-package.relationships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ct" ContentType="image/x-pict"/>
  <Override PartName="/ppt/media/image4.jpeg" ContentType="image/jpeg"/>
  <Override PartName="/ppt/media/image11.pct" ContentType="image/x-pict"/>
  <Override PartName="/ppt/media/image9.jpeg" ContentType="image/jpeg"/>
  <Override PartName="/ppt/media/image12.pct" ContentType="image/x-pict"/>
  <Override PartName="/ppt/media/image7.pct" ContentType="image/x-pict"/>
  <Override PartName="/ppt/media/image10.pct" ContentType="image/x-pict"/>
  <Override PartName="/ppt/media/image6.jpeg" ContentType="image/jpeg"/>
  <Override PartName="/ppt/media/image8.gif" ContentType="image/gif"/>
  <Override PartName="/ppt/media/image24.pct" ContentType="image/x-pict"/>
  <Override PartName="/ppt/media/image3.png" ContentType="image/png"/>
  <Override PartName="/ppt/media/image17.jpeg" ContentType="image/jpeg"/>
  <Override PartName="/ppt/media/image26.png" ContentType="image/png"/>
  <Override PartName="/ppt/media/image23.pct" ContentType="image/x-pict"/>
  <Override PartName="/ppt/media/image21.png" ContentType="image/png"/>
  <Override PartName="/ppt/media/image20.jpeg" ContentType="image/jpeg"/>
  <Override PartName="/ppt/media/image18.png" ContentType="image/png"/>
  <Override PartName="/ppt/media/image19.jpeg" ContentType="image/jpeg"/>
  <Override PartName="/ppt/media/image22.jpeg" ContentType="image/jpeg"/>
  <Override PartName="/ppt/media/image1.jpeg" ContentType="image/jpeg"/>
  <Override PartName="/ppt/media/image5.png" ContentType="image/png"/>
  <Override PartName="/ppt/media/image16.png" ContentType="image/png"/>
  <Override PartName="/ppt/media/image2.pct" ContentType="image/x-pict"/>
  <Override PartName="/ppt/media/image25.pct" ContentType="image/x-pict"/>
  <Override PartName="/ppt/media/image15.png" ContentType="image/png"/>
  <Override PartName="/ppt/media/image14.jpeg" ContentType="image/jpeg"/>
  <Override PartName="/ppt/embeddings/oleObject1.pptx" ContentType="application/vnd.openxmlformats-officedocument.presentationml.presentation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467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96E4E-961C-4C17-A2E9-904B433021E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 diagnosis of COPD should be considered in any patient who has cough, sputum production, or dyspnea and/or a history of exposure to risk factors.  The diagnosis is confirmed by spirometry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 help identify individuals earlier in the course of disease, spirometry should be performed for patients who have chronic cough and sputum production even if they do not have dyspnea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pirometry is the best way to diagnose COPD and to monitor its progression and health care workers to care for COPD patients should have assess to spirometry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11320" y="654120"/>
            <a:ext cx="4651200" cy="348768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22320" y="4358880"/>
            <a:ext cx="5030640" cy="4070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duction of total personal exposure to tobacco smoke, occupational dusts and chemicals, and indoor and outdoor air pollutants are important goals to prevent the onset and progression of COP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moking cessation is the single most effective - and cost effective - intervention to reduce the risk of developing COPD and stop its progres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a5ff4b"/>
              </a:buClr>
              <a:buFont typeface="Agfa Rotis Semisans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ief tobacco dependence treatment is effective, and every tobacco user should be offered at least this treatment at every visit to a health care provid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a5ff4b"/>
              </a:buClr>
              <a:buFont typeface="Agfa Rotis Semisans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ee types of counseling are especially effective: practical counseling, social support as part of treatment, and social support arranged outside of treat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047D-31E1-4708-BE95-9B91185AD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05720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7FD3-AEB4-4604-8EE3-3C795293C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0572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0572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2124-8E9C-4574-98A6-261CE390C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82844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82844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05720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05720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05720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CA55-9132-4E3B-89A6-31DEDD7F2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BA0FC-5AE5-481C-9A8C-B5F1706A7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CF2CF-27D4-4738-96F2-93EDB5A26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F43CB-B6C4-4410-9DFB-1BA95B364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AD465-2708-4FA2-B2F4-CC38E7543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26482-5A77-4E9A-9586-150295C6F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D1EE3-AF6C-47AF-A9CB-AB58220D7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0572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4D32B-6AD2-47F9-95B7-E25090019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EBE4-8187-4502-B713-4EE2735CA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0572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35B12-B5AC-4259-88C8-FC911E405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05720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DF46E-1FCD-40E3-B1BE-DD898F07C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05720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8746A-6E9E-40A3-BC58-8C3E66022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0572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0572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E1611-074F-450E-8B30-CA40470F0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82844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82844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05720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05720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05720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1FB7C-A4EB-4524-9C2A-AD803D9B9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0036-3E24-4245-AA27-BC3F69D9B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61A5-0240-433A-B8CC-C65DD482F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C934-2297-4663-AF8D-9FCB580BE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3D71-8C6B-4A93-BE93-F9398FA28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0572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9913-5574-40F9-A986-6BECAF4FF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0572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FA70-A9DA-454A-9BD4-8F9181B8D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05720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D910-9082-4A53-93F6-E3F186515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46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11FF2-7882-4C03-99DC-0F46DB58E7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99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46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06094-C0DC-4399-8666-77A1459627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ct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image" Target="../media/image11.pct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image" Target="../media/image12.pct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image" Target="../media/image13.pct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3.pct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3.pct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4.pct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5.pct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400" spc="-1" strike="noStrike">
                <a:solidFill>
                  <a:srgbClr val="ffd467"/>
                </a:solidFill>
                <a:latin typeface="Arial"/>
              </a:rPr>
              <a:t>EPOC AMBULATORIO</a:t>
            </a:r>
            <a:r>
              <a:rPr b="0" lang="es-CL" sz="4400" spc="-1" strike="noStrike">
                <a:solidFill>
                  <a:srgbClr val="ffd467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438280" y="4723920"/>
            <a:ext cx="6400800" cy="17528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imes New Roman"/>
              </a:rPr>
              <a:t>Dra. Laura Mendoza I.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imes New Roman"/>
              </a:rPr>
              <a:t>Sección respiratorio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imes New Roman"/>
              </a:rPr>
              <a:t>Hospital Clínico Universidad de Chile 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11280" y="6400800"/>
            <a:ext cx="381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55640" y="6453360"/>
            <a:ext cx="316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2117160" y="312840"/>
            <a:ext cx="536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Tahoma"/>
              </a:rPr>
              <a:t>“</a:t>
            </a:r>
            <a:r>
              <a:rPr b="0" lang="en-US" sz="4800" spc="-1" strike="noStrike">
                <a:solidFill>
                  <a:srgbClr val="ffcc00"/>
                </a:solidFill>
                <a:latin typeface="Tahoma"/>
              </a:rPr>
              <a:t>At Risk” for COP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46160" y="1735200"/>
            <a:ext cx="88344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lnSpc>
                <a:spcPct val="100000"/>
              </a:lnSpc>
              <a:buClr>
                <a:srgbClr val="ffcc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PD includes four stages of severity classified by spirometry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buClr>
                <a:srgbClr val="ffcc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fifth category--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Stage 0: At Risk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-that appeared in the 2001 report is no longer included as a stage of COPD, as there is incomplete evidence that the individuals who meet the definition of “At Risk” (chronic cough and sputum production, normal spirometry) necessarily progress on to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Stage I: Mild COP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buClr>
                <a:srgbClr val="ffcc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public health message is that chronic cough and sputum are not normal remains important  - their presence should trigger a search for underlying cause(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1067040" cy="10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297080" y="90360"/>
            <a:ext cx="7183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Classification of COPD Severit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by Spirometr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82680" y="1735200"/>
            <a:ext cx="8305560" cy="53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Stage I:   Mild</a:t>
            </a:r>
            <a:r>
              <a:rPr b="0" lang="en-US" sz="2400" spc="-1" strike="noStrike">
                <a:solidFill>
                  <a:srgbClr val="4e1192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e1192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EV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/FVC &lt; 0.7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EV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&gt;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80% predicte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Stage II:  Moderate</a:t>
            </a:r>
            <a:r>
              <a:rPr b="0" lang="en-US" sz="2400" spc="-1" strike="noStrike">
                <a:solidFill>
                  <a:srgbClr val="4e1192"/>
                </a:solidFill>
                <a:latin typeface="Tahoma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EV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/FVC &lt; 0.7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50%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&lt;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FEV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&lt; 80% predic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Stage III: Severe</a:t>
            </a:r>
            <a:r>
              <a:rPr b="0" lang="en-US" sz="2400" spc="-1" strike="noStrike">
                <a:solidFill>
                  <a:srgbClr val="4e1192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e1192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EV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/FVC &lt; 0.7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30%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&lt;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FEV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&lt; 50% predic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Stage IV: Very Severe</a:t>
            </a:r>
            <a:r>
              <a:rPr b="0" lang="en-US" sz="2400" spc="-1" strike="noStrike">
                <a:solidFill>
                  <a:srgbClr val="4e1192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EV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/FVC &lt; 0.7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EV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&lt; 30% predicted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o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EV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&lt; 50% predicted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plu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hronic respiratory failur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1067040" cy="10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d467"/>
                </a:solidFill>
                <a:latin typeface="Arial"/>
              </a:rPr>
              <a:t>EPIDEMIOLOGIA </a:t>
            </a: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imes New Roman"/>
              </a:rPr>
              <a:t>ALTA PREVALENCIA MUNDIAL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imes New Roman"/>
              </a:rPr>
              <a:t>2° LUGAR COMO CAUSA DE INVALIDEZ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imes New Roman"/>
              </a:rPr>
              <a:t>4° CAUSA DE MUERTE 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467"/>
                </a:solidFill>
                <a:latin typeface="Arial"/>
              </a:rPr>
              <a:t>Prevalencia de la EPOC n latinoam</a:t>
            </a:r>
            <a:r>
              <a:rPr b="0" lang="en-US" sz="4400" spc="-1" strike="noStrike">
                <a:solidFill>
                  <a:srgbClr val="ffd467"/>
                </a:solidFill>
                <a:latin typeface="Arial"/>
                <a:ea typeface="ＭＳ Ｐゴシック"/>
              </a:rPr>
              <a:t>érica </a:t>
            </a: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520" y="2361960"/>
            <a:ext cx="3048120" cy="4267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La frecuencia de relaci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ón VEF1/CVF post broncodilatador &lt; 0.70 aumenta progresivamente con la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  <a:ea typeface="ＭＳ Ｐゴシック"/>
              </a:rPr>
              <a:t>edad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en 5 ciudades latinoamericanas 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733920" y="2057400"/>
            <a:ext cx="5029200" cy="3929040"/>
          </a:xfrm>
          <a:prstGeom prst="rect">
            <a:avLst/>
          </a:prstGeom>
          <a:ln w="28440">
            <a:solidFill>
              <a:srgbClr val="cc0000"/>
            </a:solidFill>
            <a:miter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</p:pic>
      <p:sp>
        <p:nvSpPr>
          <p:cNvPr id="123" name=""/>
          <p:cNvSpPr/>
          <p:nvPr/>
        </p:nvSpPr>
        <p:spPr>
          <a:xfrm>
            <a:off x="806760" y="6248520"/>
            <a:ext cx="322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d467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ffd467"/>
                </a:solidFill>
                <a:latin typeface="Tahoma"/>
              </a:rPr>
              <a:t>Menezes AM et al.  </a:t>
            </a:r>
            <a:r>
              <a:rPr b="0" i="1" lang="en-US" sz="1600" spc="-1" strike="noStrike">
                <a:solidFill>
                  <a:srgbClr val="ffd467"/>
                </a:solidFill>
                <a:latin typeface="Tahoma"/>
              </a:rPr>
              <a:t>Lancet </a:t>
            </a:r>
            <a:r>
              <a:rPr b="0" lang="en-US" sz="1600" spc="-1" strike="noStrike">
                <a:solidFill>
                  <a:srgbClr val="ffd467"/>
                </a:solidFill>
                <a:latin typeface="Tahoma"/>
              </a:rPr>
              <a:t>200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46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824040" y="2343240"/>
            <a:ext cx="7894440" cy="3806640"/>
          </a:xfrm>
          <a:prstGeom prst="rect">
            <a:avLst/>
          </a:prstGeom>
          <a:gradFill rotWithShape="0">
            <a:gsLst>
              <a:gs pos="0">
                <a:srgbClr val="0097a8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52320" y="247320"/>
            <a:ext cx="70642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1192"/>
                </a:solidFill>
                <a:latin typeface="Tahoma"/>
              </a:rPr>
              <a:t>Percent Change in Age-Adjusted Death Rates, U.S., 1965-1998</a:t>
            </a:r>
            <a:endParaRPr b="0" lang="en-US" sz="36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15960" y="5991120"/>
            <a:ext cx="12708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e1192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25520" y="5388120"/>
            <a:ext cx="31788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e1192"/>
                </a:solidFill>
                <a:latin typeface="Arial"/>
              </a:rPr>
              <a:t>0.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25520" y="4734000"/>
            <a:ext cx="31788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e1192"/>
                </a:solidFill>
                <a:latin typeface="Arial"/>
              </a:rPr>
              <a:t>1.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5520" y="4105440"/>
            <a:ext cx="31788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e1192"/>
                </a:solidFill>
                <a:latin typeface="Arial"/>
              </a:rPr>
              <a:t>1.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25520" y="3476520"/>
            <a:ext cx="31788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e1192"/>
                </a:solidFill>
                <a:latin typeface="Arial"/>
              </a:rPr>
              <a:t>2.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25520" y="2847960"/>
            <a:ext cx="31788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e1192"/>
                </a:solidFill>
                <a:latin typeface="Arial"/>
              </a:rPr>
              <a:t>2.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25520" y="2219400"/>
            <a:ext cx="31788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e1192"/>
                </a:solidFill>
                <a:latin typeface="Arial"/>
              </a:rPr>
              <a:t>3.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46040" y="1873080"/>
            <a:ext cx="2747880" cy="549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portion of 1965 Rat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701640" y="2282760"/>
          <a:ext cx="8110440" cy="394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1640" y="2282760"/>
                    <a:ext cx="8110440" cy="394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843840" y="6232680"/>
            <a:ext cx="1360080" cy="30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1192"/>
                </a:solidFill>
                <a:latin typeface="Arial"/>
              </a:rPr>
              <a:t>1965 - 199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30000" y="6232680"/>
            <a:ext cx="1360080" cy="30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1192"/>
                </a:solidFill>
                <a:latin typeface="Arial"/>
              </a:rPr>
              <a:t>1965 - 199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004640" y="6232680"/>
            <a:ext cx="1360080" cy="30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1192"/>
                </a:solidFill>
                <a:latin typeface="Arial"/>
              </a:rPr>
              <a:t>1965 - 199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579640" y="6232680"/>
            <a:ext cx="1360080" cy="30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1192"/>
                </a:solidFill>
                <a:latin typeface="Arial"/>
              </a:rPr>
              <a:t>1965 - 199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155720" y="6232680"/>
            <a:ext cx="1360080" cy="30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1192"/>
                </a:solidFill>
                <a:latin typeface="Arial"/>
              </a:rPr>
              <a:t>1965 - 199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316520" y="5792760"/>
            <a:ext cx="651600" cy="30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004"/>
                </a:solidFill>
                <a:latin typeface="Arial"/>
              </a:rPr>
              <a:t>–</a:t>
            </a:r>
            <a:r>
              <a:rPr b="0" lang="en-US" sz="2000" spc="-1" strike="noStrike">
                <a:solidFill>
                  <a:srgbClr val="fcf004"/>
                </a:solidFill>
                <a:latin typeface="Arial"/>
              </a:rPr>
              <a:t>59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883240" y="5792760"/>
            <a:ext cx="651600" cy="30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004"/>
                </a:solidFill>
                <a:latin typeface="Arial"/>
              </a:rPr>
              <a:t>–</a:t>
            </a:r>
            <a:r>
              <a:rPr b="0" lang="en-US" sz="2000" spc="-1" strike="noStrike">
                <a:solidFill>
                  <a:srgbClr val="fcf004"/>
                </a:solidFill>
                <a:latin typeface="Arial"/>
              </a:rPr>
              <a:t>64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450320" y="5792760"/>
            <a:ext cx="651600" cy="30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004"/>
                </a:solidFill>
                <a:latin typeface="Arial"/>
              </a:rPr>
              <a:t>–</a:t>
            </a:r>
            <a:r>
              <a:rPr b="0" lang="en-US" sz="2000" spc="-1" strike="noStrike">
                <a:solidFill>
                  <a:srgbClr val="fcf004"/>
                </a:solidFill>
                <a:latin typeface="Arial"/>
              </a:rPr>
              <a:t>35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945760" y="5792760"/>
            <a:ext cx="801000" cy="30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004"/>
                </a:solidFill>
                <a:latin typeface="Arial"/>
              </a:rPr>
              <a:t>+163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654320" y="5792760"/>
            <a:ext cx="509760" cy="30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004"/>
                </a:solidFill>
                <a:latin typeface="Arial"/>
              </a:rPr>
              <a:t>–</a:t>
            </a:r>
            <a:r>
              <a:rPr b="0" lang="en-US" sz="2000" spc="-1" strike="noStrike">
                <a:solidFill>
                  <a:srgbClr val="fcf004"/>
                </a:solidFill>
                <a:latin typeface="Arial"/>
              </a:rPr>
              <a:t>7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078920" y="2496960"/>
            <a:ext cx="1132920" cy="823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ff4b"/>
                </a:solidFill>
                <a:latin typeface="Arial"/>
              </a:rPr>
              <a:t>Coron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ff4b"/>
                </a:solidFill>
                <a:latin typeface="Arial"/>
              </a:rPr>
              <a:t>Hea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ff4b"/>
                </a:solidFill>
                <a:latin typeface="Arial"/>
              </a:rPr>
              <a:t>Dis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815200" y="2496960"/>
            <a:ext cx="793080" cy="30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ff4b"/>
                </a:solidFill>
                <a:latin typeface="Arial"/>
              </a:rPr>
              <a:t>Strok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134960" y="2496960"/>
            <a:ext cx="1288440" cy="30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ff4b"/>
                </a:solidFill>
                <a:latin typeface="Arial"/>
              </a:rPr>
              <a:t>Other CV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973480" y="2496960"/>
            <a:ext cx="736920" cy="30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ff4b"/>
                </a:solidFill>
                <a:latin typeface="Arial"/>
              </a:rPr>
              <a:t>COP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376040" y="2496960"/>
            <a:ext cx="1075320" cy="549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ff4b"/>
                </a:solidFill>
                <a:latin typeface="Arial"/>
              </a:rPr>
              <a:t>All Oth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ff4b"/>
                </a:solidFill>
                <a:latin typeface="Arial"/>
              </a:rPr>
              <a:t>Cau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76960" y="6546960"/>
            <a:ext cx="3767040" cy="368280"/>
          </a:xfrm>
          <a:prstGeom prst="rect">
            <a:avLst/>
          </a:prstGeom>
          <a:solidFill>
            <a:srgbClr val="000066"/>
          </a:solidFill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Source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:  NHLBI/NIH/DHH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067040" cy="10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809880" y="304920"/>
            <a:ext cx="4875480" cy="6172200"/>
          </a:xfrm>
          <a:prstGeom prst="rect">
            <a:avLst/>
          </a:prstGeom>
          <a:ln w="38160">
            <a:solidFill>
              <a:srgbClr val="ff0000"/>
            </a:solidFill>
            <a:miter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</p:pic>
      <p:sp>
        <p:nvSpPr>
          <p:cNvPr id="154" name=""/>
          <p:cNvSpPr/>
          <p:nvPr/>
        </p:nvSpPr>
        <p:spPr>
          <a:xfrm>
            <a:off x="552600" y="5970600"/>
            <a:ext cx="224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Jemal A. et al.  </a:t>
            </a:r>
            <a:r>
              <a:rPr b="0" i="1" lang="en-US" sz="1400" spc="-1" strike="noStrike">
                <a:solidFill>
                  <a:srgbClr val="ffffff"/>
                </a:solidFill>
                <a:latin typeface="Tahoma"/>
              </a:rPr>
              <a:t>JAMA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200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1981080"/>
            <a:ext cx="3062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6 principales causa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de muerte en EEUU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desde 197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hasta el 200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086600" y="3962520"/>
            <a:ext cx="1447920" cy="609480"/>
          </a:xfrm>
          <a:prstGeom prst="ellipse">
            <a:avLst/>
          </a:prstGeom>
          <a:noFill/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654200" y="210960"/>
            <a:ext cx="6727680" cy="1190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d467"/>
                </a:solidFill>
                <a:latin typeface="Tahoma"/>
                <a:ea typeface="ＭＳ Ｐゴシック"/>
              </a:rPr>
              <a:t>COPD Mortality by Gender,</a:t>
            </a:r>
            <a:br>
              <a:rPr sz="4000"/>
            </a:br>
            <a:r>
              <a:rPr b="0" lang="en-US" sz="3200" spc="-1" strike="noStrike">
                <a:solidFill>
                  <a:srgbClr val="ffd467"/>
                </a:solidFill>
                <a:latin typeface="Tahoma"/>
                <a:ea typeface="ＭＳ Ｐゴシック"/>
              </a:rPr>
              <a:t>U.S., 1980-2000</a:t>
            </a:r>
            <a:endParaRPr b="0" lang="en-US" sz="3200" spc="-1" strike="noStrike">
              <a:solidFill>
                <a:srgbClr val="ffd467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609480" y="2001960"/>
          <a:ext cx="8318520" cy="437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001960"/>
                    <a:ext cx="8318520" cy="43783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25455" dir="2700000" blurRad="0" rotWithShape="0">
                      <a:srgbClr val="808080">
                        <a:alpha val="75000"/>
                      </a:srgbClr>
                    </a:outerShdw>
                  </a:effectLst>
                </p:spPr>
              </p:pic>
            </p:oleObj>
          </a:graphicData>
        </a:graphic>
      </p:graphicFrame>
      <p:sp>
        <p:nvSpPr>
          <p:cNvPr id="160" name=""/>
          <p:cNvSpPr/>
          <p:nvPr/>
        </p:nvSpPr>
        <p:spPr>
          <a:xfrm rot="16200000">
            <a:off x="-1374480" y="3510000"/>
            <a:ext cx="40384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  <a:ea typeface="ＭＳ Ｐゴシック"/>
              </a:rPr>
              <a:t>Number Deaths x 1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1747800" y="2838240"/>
            <a:ext cx="4770360" cy="1128600"/>
          </a:xfrm>
          <a:prstGeom prst="line">
            <a:avLst/>
          </a:prstGeom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2098800" y="2803320"/>
            <a:ext cx="4789440" cy="2251080"/>
          </a:xfrm>
          <a:prstGeom prst="line">
            <a:avLst/>
          </a:prstGeom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85800" y="38862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486400" y="137160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144792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200400" y="6437160"/>
            <a:ext cx="5845320" cy="580680"/>
          </a:xfrm>
          <a:prstGeom prst="rect">
            <a:avLst/>
          </a:prstGeom>
          <a:solidFill>
            <a:srgbClr val="4e1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ahoma"/>
              </a:rPr>
              <a:t>Source: 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US Centers for Disease Control and Prevention, 200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d467"/>
                </a:solidFill>
                <a:latin typeface="Arial"/>
              </a:rPr>
              <a:t>CAUSAS DE EPOC </a:t>
            </a: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imes New Roman"/>
              </a:rPr>
              <a:t>TABAQUISMO : MAS DEL 90% 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imes New Roman"/>
              </a:rPr>
              <a:t>Inhalación humo de leña 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imes New Roman"/>
              </a:rPr>
              <a:t>Factores genéticos 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Déficit de alfa 1 antitripsina 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Otros Factores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Socioeconómicos</a:t>
            </a: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Otras exposiciones: cadmio, sílice ?? </a:t>
            </a: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Ambiente, infecciones, etc ??</a:t>
            </a: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imes New Roman"/>
              </a:rPr>
              <a:t>Principal factor de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i="1" lang="es-CL" sz="3200" spc="-1" strike="noStrike">
                <a:solidFill>
                  <a:srgbClr val="ffffff"/>
                </a:solidFill>
                <a:latin typeface="Times New Roman"/>
              </a:rPr>
              <a:t>riesgo (90%).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imes New Roman"/>
              </a:rPr>
              <a:t>15 % de los fumadores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i="1" lang="es-CL" sz="3200" spc="-1" strike="noStrike">
                <a:solidFill>
                  <a:srgbClr val="ffffff"/>
                </a:solidFill>
                <a:latin typeface="Times New Roman"/>
              </a:rPr>
              <a:t>desarrolla EPOC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CL" sz="3200" spc="-1" strike="noStrike">
                <a:solidFill>
                  <a:srgbClr val="ffffff"/>
                </a:solidFill>
                <a:latin typeface="Times New Roman"/>
              </a:rPr>
              <a:t>(factores genéticos, ambientales)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724360" y="1989000"/>
            <a:ext cx="2737080" cy="256068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d467"/>
                </a:solidFill>
                <a:latin typeface="Arial"/>
              </a:rPr>
              <a:t>Tabaquismo </a:t>
            </a: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 u="sng">
                <a:solidFill>
                  <a:srgbClr val="ffff00"/>
                </a:solidFill>
                <a:uFillTx/>
                <a:latin typeface="Times New Roman"/>
              </a:rPr>
              <a:t>Déficit alfa 1-antitripsina: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1% de los casos de EPOC.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 u="sng">
                <a:solidFill>
                  <a:srgbClr val="ffff00"/>
                </a:solidFill>
                <a:uFillTx/>
                <a:latin typeface="Times New Roman"/>
              </a:rPr>
              <a:t>Contaminación ambiental: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Provoca o agrava síntomas.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Rol etiológico no demostrado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00"/>
                </a:solidFill>
                <a:latin typeface="Times New Roman"/>
              </a:rPr>
              <a:t>Exposición a humo de leña intradomiciliario:</a:t>
            </a: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 demostrado , medio rural 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d467"/>
                </a:solidFill>
                <a:latin typeface="Arial"/>
              </a:rPr>
              <a:t>CAUSAS DE EPOC </a:t>
            </a: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d467"/>
                </a:solidFill>
                <a:latin typeface="Arial"/>
              </a:rPr>
              <a:t>Objetivos </a:t>
            </a: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Definici</a:t>
            </a:r>
            <a:r>
              <a:rPr b="1" i="1" lang="es-CL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ón y clasificación 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Impacto de la EPOC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Factores de riesgo 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Etiopatogenia de la EPOC y Fisiopatología de la EPOC 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Síntomas y signos de la EPOC 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Tratamiento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Consideraciones pr</a:t>
            </a:r>
            <a:r>
              <a:rPr b="1" i="1" lang="es-CL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ácticas 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7848720" cy="485928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905120" y="304920"/>
            <a:ext cx="6476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Tahoma"/>
                <a:ea typeface="ＭＳ Ｐゴシック"/>
              </a:rPr>
              <a:t>Risk Factors for COP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553080" y="2057400"/>
            <a:ext cx="1905120" cy="459720"/>
          </a:xfrm>
          <a:prstGeom prst="rect">
            <a:avLst/>
          </a:prstGeom>
          <a:solidFill>
            <a:srgbClr val="ffffcc"/>
          </a:solidFill>
          <a:ln w="38160">
            <a:solidFill>
              <a:srgbClr val="fa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Nutri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53080" y="2895480"/>
            <a:ext cx="1905120" cy="459720"/>
          </a:xfrm>
          <a:prstGeom prst="rect">
            <a:avLst/>
          </a:prstGeom>
          <a:solidFill>
            <a:srgbClr val="ffffcc"/>
          </a:solidFill>
          <a:ln w="38160">
            <a:solidFill>
              <a:srgbClr val="fa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ＭＳ Ｐゴシック"/>
              </a:rPr>
              <a:t>Inf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791320" y="3657600"/>
            <a:ext cx="2666880" cy="825480"/>
          </a:xfrm>
          <a:prstGeom prst="rect">
            <a:avLst/>
          </a:prstGeom>
          <a:solidFill>
            <a:srgbClr val="ffffcc"/>
          </a:solidFill>
          <a:ln w="38160">
            <a:solidFill>
              <a:srgbClr val="fa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Socio-economic stat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828800" y="5748480"/>
            <a:ext cx="5715000" cy="825120"/>
          </a:xfrm>
          <a:prstGeom prst="rect">
            <a:avLst/>
          </a:prstGeom>
          <a:solidFill>
            <a:srgbClr val="ffffcc"/>
          </a:solidFill>
          <a:ln w="57240">
            <a:solidFill>
              <a:srgbClr val="fa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Aging Popula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E91A-BE63-4CB8-9824-69A608904429}" type="slidenum">
              <a:t>20</a:t>
            </a:fld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228600" y="457200"/>
            <a:ext cx="8445600" cy="53352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1371600" y="1219320"/>
            <a:ext cx="6959520" cy="51480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7543800" y="4572000"/>
            <a:ext cx="609480" cy="3808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467480" y="1447920"/>
            <a:ext cx="762120" cy="3808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543800" y="1905120"/>
            <a:ext cx="609480" cy="3808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13200" y="6448320"/>
            <a:ext cx="382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ESTUDIO PLATINO CHILE 20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8445600" cy="5335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4522680" y="6461280"/>
            <a:ext cx="382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ESTUDIO PLATINO CHILE 20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336600" y="1568520"/>
            <a:ext cx="8470800" cy="372096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7848720" y="3962520"/>
            <a:ext cx="609480" cy="3808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8445600" cy="53352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4522680" y="6461280"/>
            <a:ext cx="382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ESTUDIO PLATINO CHILE 20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914400" y="1676520"/>
            <a:ext cx="7721640" cy="34290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8153280" y="3886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2400" y="3962520"/>
            <a:ext cx="609480" cy="3808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0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d467"/>
                </a:solidFill>
                <a:latin typeface="Arial"/>
              </a:rPr>
              <a:t>Indice de tabaquismo : </a:t>
            </a:r>
            <a:br>
              <a:rPr sz="4000"/>
            </a:br>
            <a:r>
              <a:rPr b="0" lang="es-CL" sz="4000" spc="-1" strike="noStrike">
                <a:solidFill>
                  <a:srgbClr val="ffd467"/>
                </a:solidFill>
                <a:latin typeface="Arial"/>
              </a:rPr>
              <a:t>Paquetes-año</a:t>
            </a:r>
            <a:endParaRPr b="0" lang="en-US" sz="40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4000" y="1052640"/>
            <a:ext cx="8785080" cy="467496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1" i="1" lang="es-CL" sz="2800" spc="-1" strike="noStrike" u="sng">
                <a:solidFill>
                  <a:srgbClr val="ffffff"/>
                </a:solidFill>
                <a:uFillTx/>
                <a:latin typeface="Times New Roman"/>
              </a:rPr>
              <a:t>N° de cigarrillos al día</a:t>
            </a: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  x años de fumador 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20 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EPOC = &gt; 20 paquetes -año 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( MUJERES: &gt; 15 paquete –año)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3203640" y="1989000"/>
            <a:ext cx="5327640" cy="32101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228600" y="4175280"/>
            <a:ext cx="3886200" cy="29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ffff00"/>
                </a:solidFill>
                <a:uFillTx/>
                <a:latin typeface="Arial"/>
              </a:rPr>
              <a:t>Histopatologí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Lesión destructiva de alvéolos: enfisem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Inflamación crónica de la vía aérea pequeña                                                                       ( bronquiolo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d4b15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d467"/>
                </a:solidFill>
                <a:latin typeface="Arial"/>
              </a:rPr>
              <a:t>ETIOPATOGENIA DE LA EPOC </a:t>
            </a: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826920" y="620640"/>
            <a:ext cx="7561440" cy="555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1889280" y="307800"/>
            <a:ext cx="6102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76320" y="81000"/>
            <a:ext cx="1139760" cy="11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792600" y="2286000"/>
            <a:ext cx="3794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975120" y="2928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185840" y="98280"/>
            <a:ext cx="6681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Spirometry:  Normal and Patients with COP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1117440" y="1501920"/>
            <a:ext cx="6697800" cy="5330520"/>
          </a:xfrm>
          <a:prstGeom prst="rect">
            <a:avLst/>
          </a:prstGeom>
          <a:ln w="38160">
            <a:solidFill>
              <a:srgbClr val="cc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467"/>
                </a:solidFill>
                <a:latin typeface="Arial"/>
              </a:rPr>
              <a:t>Síntomas </a:t>
            </a: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560" y="1904760"/>
            <a:ext cx="8839080" cy="4267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imes New Roman"/>
              </a:rPr>
              <a:t>En etapas precoces y medias : </a:t>
            </a:r>
            <a:r>
              <a:rPr b="1" i="1" lang="es-ES" sz="3200" spc="-1" strike="noStrike">
                <a:solidFill>
                  <a:srgbClr val="c88f00"/>
                </a:solidFill>
                <a:latin typeface="Times New Roman"/>
              </a:rPr>
              <a:t>ASINTOMÁTICO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88f00"/>
                </a:solidFill>
                <a:latin typeface="Times New Roman"/>
              </a:rPr>
              <a:t>TOS Y EXPECTORACION CRONICA</a:t>
            </a:r>
            <a:r>
              <a:rPr b="1" i="1" lang="es-E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imes New Roman"/>
              </a:rPr>
              <a:t>En etapa mas avanzada 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2400" spc="-1" strike="noStrike" u="sng">
                <a:solidFill>
                  <a:srgbClr val="ffff00"/>
                </a:solidFill>
                <a:uFillTx/>
                <a:latin typeface="Times New Roman"/>
              </a:rPr>
              <a:t>Disnea progresiva</a:t>
            </a:r>
            <a:r>
              <a:rPr b="1" i="1" lang="es-E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s-E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s-E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s-ES" sz="2400" spc="-1" strike="noStrike">
                <a:solidFill>
                  <a:srgbClr val="ffff00"/>
                </a:solidFill>
                <a:latin typeface="Times New Roman"/>
              </a:rPr>
              <a:t>grandes esfuerzos </a:t>
            </a:r>
            <a:r>
              <a:rPr b="1" i="1" lang="es-ES" sz="24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1" i="1" lang="es-ES" sz="2400" spc="-1" strike="noStrike">
                <a:solidFill>
                  <a:srgbClr val="ffff00"/>
                </a:solidFill>
                <a:latin typeface="Times New Roman"/>
              </a:rPr>
              <a:t> medianos </a:t>
            </a:r>
            <a:r>
              <a:rPr b="1" i="1" lang="es-E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s-E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s-E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s-E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s-ES" sz="2400" spc="-1" strike="noStrike">
                <a:solidFill>
                  <a:srgbClr val="ffff00"/>
                </a:solidFill>
                <a:latin typeface="Times New Roman"/>
              </a:rPr>
              <a:t>esfuerzos </a:t>
            </a:r>
            <a:r>
              <a:rPr b="1" i="1" lang="es-ES" sz="24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1" i="1" lang="es-ES" sz="2400" spc="-1" strike="noStrike">
                <a:solidFill>
                  <a:srgbClr val="ffff00"/>
                </a:solidFill>
                <a:latin typeface="Times New Roman"/>
              </a:rPr>
              <a:t> mínimos esfuerzos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s-E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s-ES" sz="2400" spc="-1" strike="noStrike">
                <a:solidFill>
                  <a:srgbClr val="ffff00"/>
                </a:solidFill>
                <a:latin typeface="Times New Roman"/>
              </a:rPr>
              <a:t>Disminución de la tolerancia al </a:t>
            </a:r>
            <a:r>
              <a:rPr b="1" i="1" lang="es-E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s-E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s-E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s-E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s-ES" sz="2400" spc="-1" strike="noStrike">
                <a:solidFill>
                  <a:srgbClr val="ffff00"/>
                </a:solidFill>
                <a:latin typeface="Times New Roman"/>
              </a:rPr>
              <a:t>ejercicio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s-E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s-ES" sz="2400" spc="-1" strike="noStrike">
                <a:solidFill>
                  <a:srgbClr val="ffff00"/>
                </a:solidFill>
                <a:latin typeface="Times New Roman"/>
              </a:rPr>
              <a:t>Deterioro de la calidad de vida 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s-E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s-E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d467"/>
                </a:solidFill>
                <a:latin typeface="Arial"/>
              </a:rPr>
              <a:t>LCFA</a:t>
            </a: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772400" cy="38098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imes New Roman"/>
              </a:rPr>
              <a:t>Concepto fisiopatológico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imes New Roman"/>
              </a:rPr>
              <a:t>Obstrucción irreversible del flujo aéreo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imes New Roman"/>
              </a:rPr>
              <a:t>Espirometría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VEF1/CVF bajo LIN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</a:t>
            </a: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VEF1 bajo LIN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No se normaliza con el tratamiento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467"/>
                </a:solidFill>
                <a:latin typeface="Arial"/>
              </a:rPr>
              <a:t>Examen físico </a:t>
            </a: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imes New Roman"/>
              </a:rPr>
              <a:t>Generalmente normal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imes New Roman"/>
              </a:rPr>
              <a:t>En etapas avanzadas 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Times New Roman"/>
              </a:rPr>
              <a:t>Aumento de volumen torácico 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Times New Roman"/>
              </a:rPr>
              <a:t>Baja de peso 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Times New Roman"/>
              </a:rPr>
              <a:t>Signos de aumento del esfuerzo inspiratorio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Times New Roman"/>
              </a:rPr>
              <a:t>Uso de musculatura accesoria inspiratoria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Times New Roman"/>
              </a:rPr>
              <a:t>Espiración activa,uso de musculatura abdominal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Times New Roman"/>
              </a:rPr>
              <a:t>Respiración alternante y paradojal 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Times New Roman"/>
              </a:rPr>
              <a:t>Fijación  de la cintura escapular 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1619280" y="333360"/>
          <a:ext cx="5089320" cy="616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333360"/>
                    <a:ext cx="5089320" cy="616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2050920" y="304920"/>
            <a:ext cx="487692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2505240" y="5645160"/>
            <a:ext cx="3520800" cy="836640"/>
          </a:xfrm>
          <a:custGeom>
            <a:avLst/>
            <a:gdLst/>
            <a:ahLst/>
            <a:rect l="l" t="t" r="r" b="b"/>
            <a:pathLst>
              <a:path w="2496" h="527">
                <a:moveTo>
                  <a:pt x="79" y="0"/>
                </a:moveTo>
                <a:lnTo>
                  <a:pt x="62" y="2"/>
                </a:lnTo>
                <a:lnTo>
                  <a:pt x="48" y="8"/>
                </a:lnTo>
                <a:lnTo>
                  <a:pt x="35" y="16"/>
                </a:lnTo>
                <a:lnTo>
                  <a:pt x="23" y="26"/>
                </a:lnTo>
                <a:lnTo>
                  <a:pt x="14" y="40"/>
                </a:lnTo>
                <a:lnTo>
                  <a:pt x="7" y="54"/>
                </a:lnTo>
                <a:lnTo>
                  <a:pt x="1" y="70"/>
                </a:lnTo>
                <a:lnTo>
                  <a:pt x="0" y="89"/>
                </a:lnTo>
                <a:lnTo>
                  <a:pt x="0" y="440"/>
                </a:lnTo>
                <a:lnTo>
                  <a:pt x="1" y="458"/>
                </a:lnTo>
                <a:lnTo>
                  <a:pt x="7" y="475"/>
                </a:lnTo>
                <a:lnTo>
                  <a:pt x="14" y="489"/>
                </a:lnTo>
                <a:lnTo>
                  <a:pt x="23" y="503"/>
                </a:lnTo>
                <a:lnTo>
                  <a:pt x="35" y="513"/>
                </a:lnTo>
                <a:lnTo>
                  <a:pt x="48" y="521"/>
                </a:lnTo>
                <a:lnTo>
                  <a:pt x="62" y="525"/>
                </a:lnTo>
                <a:lnTo>
                  <a:pt x="79" y="527"/>
                </a:lnTo>
                <a:lnTo>
                  <a:pt x="2419" y="527"/>
                </a:lnTo>
                <a:lnTo>
                  <a:pt x="2435" y="525"/>
                </a:lnTo>
                <a:lnTo>
                  <a:pt x="2449" y="521"/>
                </a:lnTo>
                <a:lnTo>
                  <a:pt x="2462" y="513"/>
                </a:lnTo>
                <a:lnTo>
                  <a:pt x="2475" y="503"/>
                </a:lnTo>
                <a:lnTo>
                  <a:pt x="2484" y="489"/>
                </a:lnTo>
                <a:lnTo>
                  <a:pt x="2491" y="475"/>
                </a:lnTo>
                <a:lnTo>
                  <a:pt x="2494" y="458"/>
                </a:lnTo>
                <a:lnTo>
                  <a:pt x="2496" y="440"/>
                </a:lnTo>
                <a:lnTo>
                  <a:pt x="2496" y="89"/>
                </a:lnTo>
                <a:lnTo>
                  <a:pt x="2494" y="70"/>
                </a:lnTo>
                <a:lnTo>
                  <a:pt x="2491" y="54"/>
                </a:lnTo>
                <a:lnTo>
                  <a:pt x="2484" y="40"/>
                </a:lnTo>
                <a:lnTo>
                  <a:pt x="2475" y="26"/>
                </a:lnTo>
                <a:lnTo>
                  <a:pt x="2462" y="16"/>
                </a:lnTo>
                <a:lnTo>
                  <a:pt x="2449" y="8"/>
                </a:lnTo>
                <a:lnTo>
                  <a:pt x="2435" y="2"/>
                </a:lnTo>
                <a:lnTo>
                  <a:pt x="2419" y="0"/>
                </a:lnTo>
                <a:lnTo>
                  <a:pt x="79" y="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57200" y="2130480"/>
            <a:ext cx="3638520" cy="2206440"/>
          </a:xfrm>
          <a:custGeom>
            <a:avLst/>
            <a:gdLst/>
            <a:ahLst/>
            <a:rect l="l" t="t" r="r" b="b"/>
            <a:pathLst>
              <a:path w="1664" h="1390">
                <a:moveTo>
                  <a:pt x="206" y="0"/>
                </a:moveTo>
                <a:lnTo>
                  <a:pt x="185" y="2"/>
                </a:lnTo>
                <a:lnTo>
                  <a:pt x="165" y="4"/>
                </a:lnTo>
                <a:lnTo>
                  <a:pt x="145" y="10"/>
                </a:lnTo>
                <a:lnTo>
                  <a:pt x="125" y="18"/>
                </a:lnTo>
                <a:lnTo>
                  <a:pt x="91" y="38"/>
                </a:lnTo>
                <a:lnTo>
                  <a:pt x="61" y="67"/>
                </a:lnTo>
                <a:lnTo>
                  <a:pt x="35" y="101"/>
                </a:lnTo>
                <a:lnTo>
                  <a:pt x="16" y="141"/>
                </a:lnTo>
                <a:lnTo>
                  <a:pt x="8" y="161"/>
                </a:lnTo>
                <a:lnTo>
                  <a:pt x="3" y="184"/>
                </a:lnTo>
                <a:lnTo>
                  <a:pt x="1" y="206"/>
                </a:lnTo>
                <a:lnTo>
                  <a:pt x="0" y="230"/>
                </a:lnTo>
                <a:lnTo>
                  <a:pt x="0" y="1160"/>
                </a:lnTo>
                <a:lnTo>
                  <a:pt x="1" y="1184"/>
                </a:lnTo>
                <a:lnTo>
                  <a:pt x="3" y="1206"/>
                </a:lnTo>
                <a:lnTo>
                  <a:pt x="8" y="1228"/>
                </a:lnTo>
                <a:lnTo>
                  <a:pt x="16" y="1249"/>
                </a:lnTo>
                <a:lnTo>
                  <a:pt x="35" y="1289"/>
                </a:lnTo>
                <a:lnTo>
                  <a:pt x="61" y="1323"/>
                </a:lnTo>
                <a:lnTo>
                  <a:pt x="91" y="1352"/>
                </a:lnTo>
                <a:lnTo>
                  <a:pt x="125" y="1372"/>
                </a:lnTo>
                <a:lnTo>
                  <a:pt x="145" y="1380"/>
                </a:lnTo>
                <a:lnTo>
                  <a:pt x="165" y="1386"/>
                </a:lnTo>
                <a:lnTo>
                  <a:pt x="185" y="1388"/>
                </a:lnTo>
                <a:lnTo>
                  <a:pt x="206" y="1390"/>
                </a:lnTo>
                <a:lnTo>
                  <a:pt x="1458" y="1390"/>
                </a:lnTo>
                <a:lnTo>
                  <a:pt x="1479" y="1388"/>
                </a:lnTo>
                <a:lnTo>
                  <a:pt x="1499" y="1386"/>
                </a:lnTo>
                <a:lnTo>
                  <a:pt x="1519" y="1380"/>
                </a:lnTo>
                <a:lnTo>
                  <a:pt x="1539" y="1372"/>
                </a:lnTo>
                <a:lnTo>
                  <a:pt x="1573" y="1352"/>
                </a:lnTo>
                <a:lnTo>
                  <a:pt x="1603" y="1323"/>
                </a:lnTo>
                <a:lnTo>
                  <a:pt x="1629" y="1289"/>
                </a:lnTo>
                <a:lnTo>
                  <a:pt x="1648" y="1249"/>
                </a:lnTo>
                <a:lnTo>
                  <a:pt x="1655" y="1228"/>
                </a:lnTo>
                <a:lnTo>
                  <a:pt x="1661" y="1206"/>
                </a:lnTo>
                <a:lnTo>
                  <a:pt x="1663" y="1184"/>
                </a:lnTo>
                <a:lnTo>
                  <a:pt x="1664" y="1160"/>
                </a:lnTo>
                <a:lnTo>
                  <a:pt x="1664" y="230"/>
                </a:lnTo>
                <a:lnTo>
                  <a:pt x="1663" y="206"/>
                </a:lnTo>
                <a:lnTo>
                  <a:pt x="1661" y="184"/>
                </a:lnTo>
                <a:lnTo>
                  <a:pt x="1655" y="161"/>
                </a:lnTo>
                <a:lnTo>
                  <a:pt x="1648" y="141"/>
                </a:lnTo>
                <a:lnTo>
                  <a:pt x="1629" y="101"/>
                </a:lnTo>
                <a:lnTo>
                  <a:pt x="1603" y="67"/>
                </a:lnTo>
                <a:lnTo>
                  <a:pt x="1573" y="38"/>
                </a:lnTo>
                <a:lnTo>
                  <a:pt x="1539" y="18"/>
                </a:lnTo>
                <a:lnTo>
                  <a:pt x="1519" y="10"/>
                </a:lnTo>
                <a:lnTo>
                  <a:pt x="1499" y="4"/>
                </a:lnTo>
                <a:lnTo>
                  <a:pt x="1479" y="2"/>
                </a:lnTo>
                <a:lnTo>
                  <a:pt x="1458" y="0"/>
                </a:lnTo>
                <a:lnTo>
                  <a:pt x="206" y="0"/>
                </a:lnTo>
                <a:close/>
              </a:path>
            </a:pathLst>
          </a:custGeom>
          <a:solidFill>
            <a:srgbClr val="f08f00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68360" y="2300400"/>
            <a:ext cx="2351160" cy="189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206360" y="2327400"/>
            <a:ext cx="20293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YMPTO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632960" y="2776680"/>
            <a:ext cx="1064520" cy="426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oug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01200" y="3235320"/>
            <a:ext cx="1282320" cy="426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putu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72840" y="3657600"/>
            <a:ext cx="3319920" cy="426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hortness of bre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572000" y="1893960"/>
            <a:ext cx="4419720" cy="2628720"/>
          </a:xfrm>
          <a:custGeom>
            <a:avLst/>
            <a:gdLst/>
            <a:ahLst/>
            <a:rect l="l" t="t" r="r" b="b"/>
            <a:pathLst>
              <a:path w="2496" h="1584">
                <a:moveTo>
                  <a:pt x="235" y="0"/>
                </a:moveTo>
                <a:lnTo>
                  <a:pt x="212" y="2"/>
                </a:lnTo>
                <a:lnTo>
                  <a:pt x="188" y="6"/>
                </a:lnTo>
                <a:lnTo>
                  <a:pt x="165" y="12"/>
                </a:lnTo>
                <a:lnTo>
                  <a:pt x="143" y="20"/>
                </a:lnTo>
                <a:lnTo>
                  <a:pt x="124" y="32"/>
                </a:lnTo>
                <a:lnTo>
                  <a:pt x="104" y="44"/>
                </a:lnTo>
                <a:lnTo>
                  <a:pt x="70" y="77"/>
                </a:lnTo>
                <a:lnTo>
                  <a:pt x="39" y="115"/>
                </a:lnTo>
                <a:lnTo>
                  <a:pt x="28" y="137"/>
                </a:lnTo>
                <a:lnTo>
                  <a:pt x="18" y="159"/>
                </a:lnTo>
                <a:lnTo>
                  <a:pt x="10" y="184"/>
                </a:lnTo>
                <a:lnTo>
                  <a:pt x="5" y="210"/>
                </a:lnTo>
                <a:lnTo>
                  <a:pt x="1" y="236"/>
                </a:lnTo>
                <a:lnTo>
                  <a:pt x="0" y="263"/>
                </a:lnTo>
                <a:lnTo>
                  <a:pt x="0" y="1319"/>
                </a:lnTo>
                <a:lnTo>
                  <a:pt x="1" y="1346"/>
                </a:lnTo>
                <a:lnTo>
                  <a:pt x="5" y="1372"/>
                </a:lnTo>
                <a:lnTo>
                  <a:pt x="10" y="1398"/>
                </a:lnTo>
                <a:lnTo>
                  <a:pt x="18" y="1422"/>
                </a:lnTo>
                <a:lnTo>
                  <a:pt x="28" y="1445"/>
                </a:lnTo>
                <a:lnTo>
                  <a:pt x="39" y="1467"/>
                </a:lnTo>
                <a:lnTo>
                  <a:pt x="70" y="1507"/>
                </a:lnTo>
                <a:lnTo>
                  <a:pt x="104" y="1540"/>
                </a:lnTo>
                <a:lnTo>
                  <a:pt x="124" y="1552"/>
                </a:lnTo>
                <a:lnTo>
                  <a:pt x="143" y="1564"/>
                </a:lnTo>
                <a:lnTo>
                  <a:pt x="165" y="1572"/>
                </a:lnTo>
                <a:lnTo>
                  <a:pt x="188" y="1578"/>
                </a:lnTo>
                <a:lnTo>
                  <a:pt x="212" y="1582"/>
                </a:lnTo>
                <a:lnTo>
                  <a:pt x="235" y="1584"/>
                </a:lnTo>
                <a:lnTo>
                  <a:pt x="2261" y="1584"/>
                </a:lnTo>
                <a:lnTo>
                  <a:pt x="2286" y="1582"/>
                </a:lnTo>
                <a:lnTo>
                  <a:pt x="2309" y="1578"/>
                </a:lnTo>
                <a:lnTo>
                  <a:pt x="2331" y="1572"/>
                </a:lnTo>
                <a:lnTo>
                  <a:pt x="2353" y="1564"/>
                </a:lnTo>
                <a:lnTo>
                  <a:pt x="2374" y="1552"/>
                </a:lnTo>
                <a:lnTo>
                  <a:pt x="2394" y="1540"/>
                </a:lnTo>
                <a:lnTo>
                  <a:pt x="2428" y="1507"/>
                </a:lnTo>
                <a:lnTo>
                  <a:pt x="2457" y="1467"/>
                </a:lnTo>
                <a:lnTo>
                  <a:pt x="2467" y="1445"/>
                </a:lnTo>
                <a:lnTo>
                  <a:pt x="2478" y="1422"/>
                </a:lnTo>
                <a:lnTo>
                  <a:pt x="2485" y="1398"/>
                </a:lnTo>
                <a:lnTo>
                  <a:pt x="2491" y="1372"/>
                </a:lnTo>
                <a:lnTo>
                  <a:pt x="2494" y="1346"/>
                </a:lnTo>
                <a:lnTo>
                  <a:pt x="2496" y="1319"/>
                </a:lnTo>
                <a:lnTo>
                  <a:pt x="2496" y="263"/>
                </a:lnTo>
                <a:lnTo>
                  <a:pt x="2494" y="236"/>
                </a:lnTo>
                <a:lnTo>
                  <a:pt x="2491" y="210"/>
                </a:lnTo>
                <a:lnTo>
                  <a:pt x="2485" y="184"/>
                </a:lnTo>
                <a:lnTo>
                  <a:pt x="2478" y="159"/>
                </a:lnTo>
                <a:lnTo>
                  <a:pt x="2467" y="137"/>
                </a:lnTo>
                <a:lnTo>
                  <a:pt x="2457" y="115"/>
                </a:lnTo>
                <a:lnTo>
                  <a:pt x="2428" y="77"/>
                </a:lnTo>
                <a:lnTo>
                  <a:pt x="2394" y="44"/>
                </a:lnTo>
                <a:lnTo>
                  <a:pt x="2374" y="32"/>
                </a:lnTo>
                <a:lnTo>
                  <a:pt x="2353" y="20"/>
                </a:lnTo>
                <a:lnTo>
                  <a:pt x="2331" y="12"/>
                </a:lnTo>
                <a:lnTo>
                  <a:pt x="2309" y="6"/>
                </a:lnTo>
                <a:lnTo>
                  <a:pt x="2286" y="2"/>
                </a:lnTo>
                <a:lnTo>
                  <a:pt x="2261" y="0"/>
                </a:lnTo>
                <a:lnTo>
                  <a:pt x="235" y="0"/>
                </a:lnTo>
                <a:close/>
              </a:path>
            </a:pathLst>
          </a:custGeom>
          <a:solidFill>
            <a:srgbClr val="f08f00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119560" y="1982880"/>
            <a:ext cx="3556080" cy="23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099400" y="2048040"/>
            <a:ext cx="3507480" cy="7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POSURE TO RIS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ACTOR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148440" y="2949480"/>
            <a:ext cx="1363320" cy="426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bacc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884200" y="3408480"/>
            <a:ext cx="1895040" cy="426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ccup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760280" y="3863880"/>
            <a:ext cx="4140000" cy="426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door/outdoor poll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165400" y="5742000"/>
            <a:ext cx="343692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948040" y="5789520"/>
            <a:ext cx="3022920" cy="549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SPIROME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265400" y="438120"/>
            <a:ext cx="680688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981080" y="304920"/>
            <a:ext cx="6324840" cy="823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ahoma"/>
                <a:ea typeface="ＭＳ Ｐゴシック"/>
              </a:rPr>
              <a:t>Diagnosis of COPD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3949200" y="2709720"/>
            <a:ext cx="490320" cy="4157640"/>
          </a:xfrm>
          <a:custGeom>
            <a:avLst/>
            <a:gdLst>
              <a:gd name="textAreaLeft" fmla="*/ 0 w 490320"/>
              <a:gd name="textAreaRight" fmla="*/ 177120 w 490320"/>
              <a:gd name="textAreaTop" fmla="*/ 108360 h 4157640"/>
              <a:gd name="textAreaBottom" fmla="*/ 4049280 h 415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a5ff4b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3889800" y="4901400"/>
            <a:ext cx="69120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5ff4b"/>
                </a:solidFill>
                <a:latin typeface="Monotype Sorts"/>
                <a:ea typeface="Monotype Sorts"/>
              </a:rPr>
              <a:t>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rot="5400000">
            <a:off x="3875400" y="4901400"/>
            <a:ext cx="69120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5ff4b"/>
                </a:solidFill>
                <a:latin typeface="Monotype Sorts"/>
                <a:ea typeface="Monotype Sorts"/>
              </a:rPr>
              <a:t>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rot="5400000">
            <a:off x="3877200" y="4892040"/>
            <a:ext cx="69120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5ff4b"/>
                </a:solidFill>
                <a:latin typeface="Monotype Sorts"/>
                <a:ea typeface="Monotype Sorts"/>
              </a:rPr>
              <a:t>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467"/>
                </a:solidFill>
                <a:latin typeface="Arial"/>
              </a:rPr>
              <a:t>DIAGNOSTICO DIFERENCIAL </a:t>
            </a: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ASMA 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ICC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BRONQUIECTASIAS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SECUELA 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TUBERCULOSIS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BRONQUIOLITIS OBLITERANTE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PANBRONQUIOLITIS DIFUSA 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467"/>
                </a:solidFill>
                <a:latin typeface="Arial"/>
              </a:rPr>
              <a:t>HECHOS SUGERENTES DE ASMA EN FASE IRREVERSIBLE </a:t>
            </a: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COMIENZO ANTES DE LOS 40 AÑOS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AUSENCIA DE TABAQUISMO U OTRA EXPOSICION 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CRISIS PROVOCADAS POR ALERGENOS 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ALTA VARIABLIDAD ESPIROMETRICA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EVOLUCION INHABITUAL 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d467"/>
                </a:solidFill>
                <a:latin typeface="Arial"/>
              </a:rPr>
              <a:t>Tratamiento : Objetivos </a:t>
            </a: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Detener la progresión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Recuperar parcialmente la función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Mejorar la capacidad física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Disminuir los síntomas ( DISNEA)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Prevenir las exacerbaciones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Disminuir las hospitalizaciones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Mejorar la calidad de vida 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Mejorar la sobrevida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d467"/>
                </a:solidFill>
                <a:latin typeface="Arial"/>
              </a:rPr>
              <a:t>Tratamiento: fase estable </a:t>
            </a: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99640" y="1484280"/>
            <a:ext cx="8007480" cy="41911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Medidas preventivas 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 u="sng">
                <a:solidFill>
                  <a:srgbClr val="ff3300"/>
                </a:solidFill>
                <a:uFillTx/>
                <a:latin typeface="Times New Roman"/>
              </a:rPr>
              <a:t>Detener tabaquismo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Vacuna Antiinfluenza, antineumocócica cada 5 años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Tratamiento broncodilatador </a:t>
            </a:r>
            <a:r>
              <a:rPr b="1" i="1" lang="es-CL" sz="2800" spc="-1" strike="noStrike" u="sng">
                <a:solidFill>
                  <a:srgbClr val="ffffff"/>
                </a:solidFill>
                <a:uFillTx/>
                <a:latin typeface="Times New Roman"/>
              </a:rPr>
              <a:t>escalonado</a:t>
            </a: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:  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Symbol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Anticolinérgicos ó betaadrenérgicos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Symbol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Uso combinado de anticolinérgicos y betaagonistas 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Symbol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Teofilinas 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Symbol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Corticoides inhalados 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Symbol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Times New Roman"/>
              </a:rPr>
              <a:t>Rehabilitaci</a:t>
            </a:r>
            <a:r>
              <a:rPr b="1" i="1" lang="es-E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ón pulmonar 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1676520" y="66600"/>
            <a:ext cx="7157880" cy="12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  <a:ea typeface="ＭＳ Ｐゴシック"/>
              </a:rPr>
              <a:t>Management of Stable COP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ahoma"/>
                <a:ea typeface="ＭＳ Ｐゴシック"/>
              </a:rPr>
              <a:t>Reduce Risk Factors:  Key Poi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55680" y="1866960"/>
            <a:ext cx="8634240" cy="55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04640" indent="-290160">
              <a:lnSpc>
                <a:spcPct val="100000"/>
              </a:lnSpc>
              <a:buClr>
                <a:srgbClr val="ffcc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Reduction of total personal exposure to tobacco smoke, occupational dusts and chemicals, and indoor and outdoor air pollutants are important goals to prevent the onset and progression of COPD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04640" indent="-290160">
              <a:lnSpc>
                <a:spcPct val="100000"/>
              </a:lnSpc>
              <a:buClr>
                <a:srgbClr val="ffcc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04640" indent="-290160">
              <a:lnSpc>
                <a:spcPct val="100000"/>
              </a:lnSpc>
              <a:buClr>
                <a:srgbClr val="ffcc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ab300"/>
                </a:solidFill>
                <a:latin typeface="Tahoma"/>
                <a:ea typeface="ＭＳ Ｐゴシック"/>
              </a:rPr>
              <a:t>Smoking cessation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 is the single most effective — and cost effective — intervention in most people to reduce the risk of developing COPD and stop its progression </a:t>
            </a:r>
            <a:r>
              <a:rPr b="0" lang="en-US" sz="3000" spc="-1" strike="noStrike">
                <a:solidFill>
                  <a:srgbClr val="fab300"/>
                </a:solidFill>
                <a:latin typeface="Tahoma"/>
                <a:ea typeface="ＭＳ Ｐゴシック"/>
              </a:rPr>
              <a:t>(Evidence A)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04640" indent="-29016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30200" y="1560600"/>
            <a:ext cx="8372520" cy="0"/>
          </a:xfrm>
          <a:prstGeom prst="line">
            <a:avLst/>
          </a:prstGeom>
          <a:ln w="28440">
            <a:solidFill>
              <a:srgbClr val="f4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061E-FFA3-44B8-B05B-58086F525939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d467"/>
                </a:solidFill>
                <a:latin typeface="Arial"/>
              </a:rPr>
              <a:t>Principales causas de LCFA</a:t>
            </a: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EPOC ( COPD)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Asma en fase irreversible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Bronquiectasias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Secuela de TBC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Fibrosis quística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Neumoconiosis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Sarcoidosis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3792600" y="2286000"/>
            <a:ext cx="3794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975120" y="2928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92680" y="79200"/>
            <a:ext cx="7624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Brief Strategies to Help the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Patient Willing to Quit Smok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04920" y="1900080"/>
            <a:ext cx="8458200" cy="45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a5ff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ff4b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a5ff4b"/>
                </a:solidFill>
                <a:latin typeface="Arial"/>
              </a:rPr>
              <a:t>ASK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ystematically identify all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bacco users at every vis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DVISE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ongly urge all tobacco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rs to qu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8000"/>
                </a:solidFill>
                <a:latin typeface="Arial"/>
              </a:rPr>
              <a:t>ASSES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termine willingness to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ke a quit attemp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6666"/>
                </a:solidFill>
                <a:latin typeface="Arial"/>
              </a:rPr>
              <a:t>ASSIST</a:t>
            </a:r>
            <a:r>
              <a:rPr b="0" lang="en-US" sz="3200" spc="-1" strike="noStrike">
                <a:solidFill>
                  <a:srgbClr val="ff66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id the patient in quitt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RRANG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hedule follow-up contac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30200" y="1560600"/>
            <a:ext cx="8372520" cy="0"/>
          </a:xfrm>
          <a:prstGeom prst="line">
            <a:avLst/>
          </a:prstGeom>
          <a:ln w="28440">
            <a:solidFill>
              <a:srgbClr val="f4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3" name=""/>
          <p:cNvGraphicFramePr/>
          <p:nvPr/>
        </p:nvGraphicFramePr>
        <p:xfrm>
          <a:off x="1042920" y="404640"/>
          <a:ext cx="7632720" cy="6215400"/>
        </p:xfrm>
        <a:graphic>
          <a:graphicData uri="http://schemas.openxmlformats.org/drawingml/2006/table">
            <a:tbl>
              <a:tblPr/>
              <a:tblGrid>
                <a:gridCol w="1165320"/>
                <a:gridCol w="241200"/>
                <a:gridCol w="1090800"/>
                <a:gridCol w="1506600"/>
                <a:gridCol w="1506240"/>
                <a:gridCol w="2122560"/>
              </a:tblGrid>
              <a:tr h="56520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TRATAMIENTO DE LA EPOC SEGÚN ESTADIO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408000"/>
                      </a:solidFill>
                    </a:lnL>
                    <a:lnR w="9360">
                      <a:solidFill>
                        <a:srgbClr val="408000"/>
                      </a:solidFill>
                    </a:lnR>
                    <a:lnT w="9360">
                      <a:solidFill>
                        <a:srgbClr val="408000"/>
                      </a:solidFill>
                    </a:lnT>
                    <a:lnB w="9360">
                      <a:solidFill>
                        <a:srgbClr val="408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 En riesg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408000"/>
                      </a:solidFill>
                    </a:lnL>
                    <a:lnR w="9360">
                      <a:solidFill>
                        <a:srgbClr val="408000"/>
                      </a:solidFill>
                    </a:lnR>
                    <a:lnT w="9360">
                      <a:solidFill>
                        <a:srgbClr val="408000"/>
                      </a:solidFill>
                    </a:lnT>
                    <a:lnB w="9360">
                      <a:solidFill>
                        <a:srgbClr val="408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. Lev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408000"/>
                      </a:solidFill>
                    </a:lnL>
                    <a:lnR w="9360">
                      <a:solidFill>
                        <a:srgbClr val="408000"/>
                      </a:solidFill>
                    </a:lnR>
                    <a:lnT w="9360">
                      <a:solidFill>
                        <a:srgbClr val="408000"/>
                      </a:solidFill>
                    </a:lnT>
                    <a:lnB w="9360">
                      <a:solidFill>
                        <a:srgbClr val="408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. Moderad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408000"/>
                      </a:solidFill>
                    </a:lnL>
                    <a:lnR w="9360">
                      <a:solidFill>
                        <a:srgbClr val="408000"/>
                      </a:solidFill>
                    </a:lnR>
                    <a:lnT w="9360">
                      <a:solidFill>
                        <a:srgbClr val="408000"/>
                      </a:solidFill>
                    </a:lnT>
                    <a:lnB w="9360">
                      <a:solidFill>
                        <a:srgbClr val="4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. Sever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408000"/>
                      </a:solidFill>
                    </a:lnL>
                    <a:lnR w="9360">
                      <a:solidFill>
                        <a:srgbClr val="408000"/>
                      </a:solidFill>
                    </a:lnR>
                    <a:lnT w="9360">
                      <a:solidFill>
                        <a:srgbClr val="408000"/>
                      </a:solidFill>
                    </a:lnT>
                    <a:lnB w="9360">
                      <a:solidFill>
                        <a:srgbClr val="4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. Muy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ever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408000"/>
                      </a:solidFill>
                    </a:lnL>
                    <a:lnR w="9360">
                      <a:solidFill>
                        <a:srgbClr val="408000"/>
                      </a:solidFill>
                    </a:lnR>
                    <a:lnT w="9360">
                      <a:solidFill>
                        <a:srgbClr val="408000"/>
                      </a:solidFill>
                    </a:lnT>
                    <a:lnB w="9360">
                      <a:solidFill>
                        <a:srgbClr val="408000"/>
                      </a:solidFill>
                    </a:lnB>
                    <a:noFill/>
                  </a:tcPr>
                </a:tc>
              </a:tr>
              <a:tr h="1496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Espirometría normal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íntomas crónicos: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tos, expectoració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408000"/>
                      </a:solidFill>
                    </a:lnL>
                    <a:lnR w="9360">
                      <a:solidFill>
                        <a:srgbClr val="408000"/>
                      </a:solidFill>
                    </a:lnR>
                    <a:lnT w="9360">
                      <a:solidFill>
                        <a:srgbClr val="408000"/>
                      </a:solidFill>
                    </a:lnT>
                    <a:lnB w="9360">
                      <a:solidFill>
                        <a:srgbClr val="408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VEF</a:t>
                      </a:r>
                      <a:r>
                        <a:rPr b="1" lang="en-US" sz="1200" spc="-1" strike="noStrike" baseline="-30000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/CVF&lt;70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VEF</a:t>
                      </a:r>
                      <a:r>
                        <a:rPr b="1" lang="en-US" sz="1200" spc="-1" strike="noStrike" baseline="-30000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≥ 80% del valor predicho*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408000"/>
                      </a:solidFill>
                    </a:lnL>
                    <a:lnR w="9360">
                      <a:solidFill>
                        <a:srgbClr val="408000"/>
                      </a:solidFill>
                    </a:lnR>
                    <a:lnT w="9360">
                      <a:solidFill>
                        <a:srgbClr val="408000"/>
                      </a:solidFill>
                    </a:lnT>
                    <a:lnB w="9360">
                      <a:solidFill>
                        <a:srgbClr val="408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VEF</a:t>
                      </a:r>
                      <a:r>
                        <a:rPr b="1" lang="en-US" sz="1200" spc="-1" strike="noStrike" baseline="-30000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/CVF&lt;70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50% ≤ VEF</a:t>
                      </a:r>
                      <a:r>
                        <a:rPr b="1" lang="en-US" sz="1200" spc="-1" strike="noStrike" baseline="-30000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&lt;80% del valor predicho*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408000"/>
                      </a:solidFill>
                    </a:lnL>
                    <a:lnR w="9360">
                      <a:solidFill>
                        <a:srgbClr val="408000"/>
                      </a:solidFill>
                    </a:lnR>
                    <a:lnT w="9360">
                      <a:solidFill>
                        <a:srgbClr val="408000"/>
                      </a:solidFill>
                    </a:lnT>
                    <a:lnB w="9360">
                      <a:solidFill>
                        <a:srgbClr val="4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700360"/>
                          <a:tab algn="r" pos="54007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VEF</a:t>
                      </a:r>
                      <a:r>
                        <a:rPr b="1" lang="en-US" sz="1200" spc="-1" strike="noStrike" baseline="-30000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/CVF&lt;70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700360"/>
                          <a:tab algn="r" pos="54007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0% ≤ VEF</a:t>
                      </a:r>
                      <a:r>
                        <a:rPr b="1" lang="en-US" sz="1200" spc="-1" strike="noStrike" baseline="-30000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&lt;50%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700360"/>
                          <a:tab algn="r" pos="54007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el valor predicho*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408000"/>
                      </a:solidFill>
                    </a:lnL>
                    <a:lnR w="9360">
                      <a:solidFill>
                        <a:srgbClr val="408000"/>
                      </a:solidFill>
                    </a:lnR>
                    <a:lnT w="9360">
                      <a:solidFill>
                        <a:srgbClr val="408000"/>
                      </a:solidFill>
                    </a:lnT>
                    <a:lnB w="9360">
                      <a:solidFill>
                        <a:srgbClr val="4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700360"/>
                          <a:tab algn="r" pos="54007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VEF</a:t>
                      </a:r>
                      <a:r>
                        <a:rPr b="1" lang="en-US" sz="1200" spc="-1" strike="noStrike" baseline="-30000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/CVF&lt; 70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700360"/>
                          <a:tab algn="r" pos="54007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VEF</a:t>
                      </a:r>
                      <a:r>
                        <a:rPr b="1" lang="en-US" sz="1200" spc="-1" strike="noStrike" baseline="-30000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&lt; 30% del valor predicho, o VEF</a:t>
                      </a:r>
                      <a:r>
                        <a:rPr b="1" lang="en-US" sz="1200" spc="-1" strike="noStrike" baseline="-30000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&lt;50% con insuficiencia respiratoria crónica*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408000"/>
                      </a:solidFill>
                    </a:lnL>
                    <a:lnR w="9360">
                      <a:solidFill>
                        <a:srgbClr val="408000"/>
                      </a:solidFill>
                    </a:lnR>
                    <a:lnT w="9360">
                      <a:solidFill>
                        <a:srgbClr val="408000"/>
                      </a:solidFill>
                    </a:lnT>
                    <a:lnB w="9360">
                      <a:solidFill>
                        <a:srgbClr val="408000"/>
                      </a:solidFill>
                    </a:lnB>
                    <a:noFill/>
                  </a:tcPr>
                </a:tc>
              </a:tr>
              <a:tr h="33804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Evitar los factores de riesgo (tabaco). Vacuna Influenza anua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408000"/>
                      </a:solidFill>
                    </a:lnL>
                    <a:lnR w="9360">
                      <a:solidFill>
                        <a:srgbClr val="408000"/>
                      </a:solidFill>
                    </a:lnR>
                    <a:lnT w="9360">
                      <a:solidFill>
                        <a:srgbClr val="408000"/>
                      </a:solidFill>
                    </a:lnT>
                    <a:lnB w="9360">
                      <a:solidFill>
                        <a:srgbClr val="408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1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408000"/>
                      </a:solidFill>
                    </a:lnL>
                    <a:lnR w="9360">
                      <a:solidFill>
                        <a:srgbClr val="408000"/>
                      </a:solidFill>
                    </a:lnR>
                    <a:lnT w="9360">
                      <a:solidFill>
                        <a:srgbClr val="408000"/>
                      </a:solidFill>
                    </a:lnT>
                    <a:lnB w="9360">
                      <a:solidFill>
                        <a:srgbClr val="408000"/>
                      </a:solidFill>
                    </a:lnB>
                    <a:solidFill>
                      <a:srgbClr val="e0e0e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gregar broncodilatadores de acción corta según necesida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408000"/>
                      </a:solidFill>
                    </a:lnL>
                    <a:lnR w="9360">
                      <a:solidFill>
                        <a:srgbClr val="408000"/>
                      </a:solidFill>
                    </a:lnR>
                    <a:lnT w="9360">
                      <a:solidFill>
                        <a:srgbClr val="408000"/>
                      </a:solidFill>
                    </a:lnT>
                    <a:lnB w="9360">
                      <a:solidFill>
                        <a:srgbClr val="408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2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408000"/>
                      </a:solidFill>
                    </a:lnL>
                    <a:lnR w="9360">
                      <a:solidFill>
                        <a:srgbClr val="408000"/>
                      </a:solidFill>
                    </a:lnR>
                    <a:lnT w="9360">
                      <a:solidFill>
                        <a:srgbClr val="408000"/>
                      </a:solidFill>
                    </a:lnT>
                    <a:lnB w="9360">
                      <a:solidFill>
                        <a:srgbClr val="408000"/>
                      </a:solidFill>
                    </a:lnB>
                    <a:solidFill>
                      <a:srgbClr val="e0e0e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408000"/>
                      </a:solidFill>
                    </a:lnL>
                    <a:lnR w="9360">
                      <a:solidFill>
                        <a:srgbClr val="408000"/>
                      </a:solidFill>
                    </a:lnR>
                    <a:lnT w="9360">
                      <a:solidFill>
                        <a:srgbClr val="408000"/>
                      </a:solidFill>
                    </a:lnT>
                    <a:lnB w="9360">
                      <a:solidFill>
                        <a:srgbClr val="408000"/>
                      </a:solidFill>
                    </a:lnB>
                    <a:solidFill>
                      <a:srgbClr val="e0e0e0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gregar uno o más broncodilatadores de acción prolongada en forma constante, y rehabilitació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408000"/>
                      </a:solidFill>
                    </a:lnL>
                    <a:lnR w="9360">
                      <a:solidFill>
                        <a:srgbClr val="408000"/>
                      </a:solidFill>
                    </a:lnR>
                    <a:lnT w="9360">
                      <a:solidFill>
                        <a:srgbClr val="408000"/>
                      </a:solidFill>
                    </a:lnT>
                    <a:lnB w="9360">
                      <a:solidFill>
                        <a:srgbClr val="408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40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408000"/>
                      </a:solidFill>
                    </a:lnL>
                    <a:lnR w="9360">
                      <a:solidFill>
                        <a:srgbClr val="408000"/>
                      </a:solidFill>
                    </a:lnR>
                    <a:lnT w="9360">
                      <a:solidFill>
                        <a:srgbClr val="408000"/>
                      </a:solidFill>
                    </a:lnT>
                    <a:lnB w="9360">
                      <a:solidFill>
                        <a:srgbClr val="408000"/>
                      </a:solidFill>
                    </a:lnB>
                    <a:solidFill>
                      <a:srgbClr val="e0e0e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408000"/>
                      </a:solidFill>
                    </a:lnL>
                    <a:lnR w="9360">
                      <a:solidFill>
                        <a:srgbClr val="408000"/>
                      </a:solidFill>
                    </a:lnR>
                    <a:lnT w="9360">
                      <a:solidFill>
                        <a:srgbClr val="408000"/>
                      </a:solidFill>
                    </a:lnT>
                    <a:lnB w="9360">
                      <a:solidFill>
                        <a:srgbClr val="408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408000"/>
                      </a:solidFill>
                    </a:lnL>
                    <a:lnR w="9360">
                      <a:solidFill>
                        <a:srgbClr val="408000"/>
                      </a:solidFill>
                    </a:lnR>
                    <a:lnT w="9360">
                      <a:solidFill>
                        <a:srgbClr val="408000"/>
                      </a:solidFill>
                    </a:lnT>
                    <a:lnB w="9360">
                      <a:solidFill>
                        <a:srgbClr val="408000"/>
                      </a:solidFill>
                    </a:lnB>
                    <a:solidFill>
                      <a:srgbClr val="e0e0e0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gregar corticoides inhalados si hay exacerbaciones a repetició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408000"/>
                      </a:solidFill>
                    </a:lnL>
                    <a:lnR w="9360">
                      <a:solidFill>
                        <a:srgbClr val="408000"/>
                      </a:solidFill>
                    </a:lnR>
                    <a:lnT w="9360">
                      <a:solidFill>
                        <a:srgbClr val="408000"/>
                      </a:solidFill>
                    </a:lnT>
                    <a:lnB w="9360">
                      <a:solidFill>
                        <a:srgbClr val="408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41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408000"/>
                      </a:solidFill>
                    </a:lnL>
                    <a:lnR w="9360">
                      <a:solidFill>
                        <a:srgbClr val="408000"/>
                      </a:solidFill>
                    </a:lnR>
                    <a:lnT w="9360">
                      <a:solidFill>
                        <a:srgbClr val="408000"/>
                      </a:solidFill>
                    </a:lnT>
                    <a:lnB w="9360">
                      <a:solidFill>
                        <a:srgbClr val="408000"/>
                      </a:solidFill>
                    </a:lnB>
                    <a:solidFill>
                      <a:srgbClr val="e0e0e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408000"/>
                      </a:solidFill>
                    </a:lnL>
                    <a:lnR w="9360">
                      <a:solidFill>
                        <a:srgbClr val="408000"/>
                      </a:solidFill>
                    </a:lnR>
                    <a:lnT w="9360">
                      <a:solidFill>
                        <a:srgbClr val="408000"/>
                      </a:solidFill>
                    </a:lnT>
                    <a:lnB w="9360">
                      <a:solidFill>
                        <a:srgbClr val="408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408000"/>
                      </a:solidFill>
                    </a:lnL>
                    <a:lnR w="9360">
                      <a:solidFill>
                        <a:srgbClr val="408000"/>
                      </a:solidFill>
                    </a:lnR>
                    <a:lnT w="9360">
                      <a:solidFill>
                        <a:srgbClr val="408000"/>
                      </a:solidFill>
                    </a:lnT>
                    <a:lnB w="9360">
                      <a:solidFill>
                        <a:srgbClr val="408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408000"/>
                      </a:solidFill>
                    </a:lnL>
                    <a:lnR w="9360">
                      <a:solidFill>
                        <a:srgbClr val="408000"/>
                      </a:solidFill>
                    </a:lnR>
                    <a:lnT w="9360">
                      <a:solidFill>
                        <a:srgbClr val="408000"/>
                      </a:solidFill>
                    </a:lnT>
                    <a:lnB w="9360">
                      <a:solidFill>
                        <a:srgbClr val="408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gregar oxigenoterapia si hay insuficiencia respiratoria.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nsiderar tratamientos quirúrgico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408000"/>
                      </a:solidFill>
                    </a:lnL>
                    <a:lnR w="9360">
                      <a:solidFill>
                        <a:srgbClr val="408000"/>
                      </a:solidFill>
                    </a:lnR>
                    <a:lnT w="9360">
                      <a:solidFill>
                        <a:srgbClr val="408000"/>
                      </a:solidFill>
                    </a:lnT>
                    <a:lnB w="9360">
                      <a:solidFill>
                        <a:srgbClr val="408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d467"/>
                </a:solidFill>
                <a:latin typeface="Arial"/>
              </a:rPr>
              <a:t>Exacerbaciones de la EPOC </a:t>
            </a: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imes New Roman"/>
              </a:rPr>
              <a:t>Evento en el desarrollo natural de la enfermedad caracterizado por un cambio de disnea, tos y/o expectoración basales del paciente mas allá de la variabilidad diaria, suficiente para justificar un cambio de tratamiento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d467"/>
                </a:solidFill>
                <a:latin typeface="Arial"/>
              </a:rPr>
              <a:t>Exacerbaciones EPOC, bases morfológicas</a:t>
            </a: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imes New Roman"/>
              </a:rPr>
              <a:t>Aumento de inflamación en vía aérea 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Acúmulo de células inflamatorias y edema de las paredes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Reducción del lumen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imes New Roman"/>
              </a:rPr>
              <a:t>Tapones mucocelulares en bronquiolos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d467"/>
                </a:solidFill>
                <a:latin typeface="Arial"/>
              </a:rPr>
              <a:t>Etiología de las exacerbaciones </a:t>
            </a: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Exacerbaciones propiamente tales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Infecciones virales y bacterianas (80%)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Contaminación ambiental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Incumplimiento de tratamiento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ffffff"/>
                </a:solidFill>
                <a:latin typeface="Times New Roman"/>
              </a:rPr>
              <a:t>Defectos en técnica inhalatoria</a:t>
            </a: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Agravaciones por co-morbilidad agregada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Neumonia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Cáncer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TEP, neumotórax, insuficiencia cardíaca 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d467"/>
                </a:solidFill>
                <a:latin typeface="Arial"/>
              </a:rPr>
              <a:t>Exacerbaciones: enfoque práctico</a:t>
            </a: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811680" cy="4267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3 elementos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Volumen de expectoración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Purulencia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Disnea 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46520" y="1828440"/>
            <a:ext cx="3811680" cy="4267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Gravedad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Grave</a:t>
            </a: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3 síntomas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Mediana 2 síntomas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Leve </a:t>
            </a: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1 síntoma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PEF&lt; 100l/min ó VEF1 &lt; 1 L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GSA y SaO2 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Rx Tx, ECG, etc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d467"/>
                </a:solidFill>
                <a:latin typeface="Arial"/>
              </a:rPr>
              <a:t>Manejo domiciliario</a:t>
            </a: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imes New Roman"/>
              </a:rPr>
              <a:t>Aumento de tratamiento BD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Dosis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Frecuencia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Asociación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imes New Roman"/>
              </a:rPr>
              <a:t>Corticoides sistémicos 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imes New Roman"/>
              </a:rPr>
              <a:t>Antibióticos ( neumococ, B.catarr, H, Influenzae)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d467"/>
                </a:solidFill>
                <a:latin typeface="Arial"/>
              </a:rPr>
              <a:t>Indicaciones de hospitalización en exacerbaciones </a:t>
            </a:r>
            <a:endParaRPr b="0" lang="en-US" sz="40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Aumento muy marcado de síntomas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EPOC grave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Signos físicos nuevos ( edema, cianosis)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Mala respuesta a tratamiento médico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Comorbilidades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Arritmias nuevas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Duda diagnóstica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Edad avanzada 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Mal soporte domiciliario 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d467"/>
                </a:solidFill>
                <a:latin typeface="Arial"/>
              </a:rPr>
              <a:t>Corticoides sistémicos en EPOC</a:t>
            </a:r>
            <a:endParaRPr b="0" lang="en-US" sz="40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600" spc="-1" strike="noStrike">
                <a:solidFill>
                  <a:srgbClr val="ffffff"/>
                </a:solidFill>
                <a:latin typeface="Times New Roman"/>
              </a:rPr>
              <a:t>Efectividad demostrada  en las exacerbaciones  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4b158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d4b158"/>
                </a:solidFill>
                <a:latin typeface="Times New Roman"/>
              </a:rPr>
              <a:t>Evidencia grado A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Estadía hospitalaria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Intervalo entre exacerbaciones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imes New Roman"/>
              </a:rPr>
              <a:t>EPOC estable: Se recomienda evitar su uso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d4b158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d4b158"/>
                </a:solidFill>
                <a:latin typeface="Times New Roman"/>
              </a:rPr>
              <a:t>Evidencia grado A</a:t>
            </a: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Relación costo/beneficio desfavorable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9" name=""/>
          <p:cNvGraphicFramePr/>
          <p:nvPr/>
        </p:nvGraphicFramePr>
        <p:xfrm>
          <a:off x="395280" y="3357720"/>
          <a:ext cx="8383680" cy="2644560"/>
        </p:xfrm>
        <a:graphic>
          <a:graphicData uri="http://schemas.openxmlformats.org/drawingml/2006/table">
            <a:tbl>
              <a:tblPr/>
              <a:tblGrid>
                <a:gridCol w="1576440"/>
                <a:gridCol w="958680"/>
                <a:gridCol w="1508400"/>
                <a:gridCol w="933480"/>
                <a:gridCol w="1968480"/>
                <a:gridCol w="1438200"/>
              </a:tblGrid>
              <a:tr h="6426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DICE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SAL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RONCODILATADOR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93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 cambio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tros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rcentaj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tros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rcentaj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VF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93 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05 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45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F</a:t>
                      </a:r>
                      <a:r>
                        <a:rPr b="0" lang="es-MX" sz="18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90 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93 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45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F</a:t>
                      </a:r>
                      <a:r>
                        <a:rPr b="0" lang="es-MX" sz="18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CVF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270" name=""/>
          <p:cNvSpPr/>
          <p:nvPr/>
        </p:nvSpPr>
        <p:spPr>
          <a:xfrm>
            <a:off x="1476360" y="304920"/>
            <a:ext cx="6524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ab300"/>
                </a:solidFill>
                <a:latin typeface="Arial"/>
              </a:rPr>
              <a:t>Valores predeterminados</a:t>
            </a:r>
            <a:r>
              <a:rPr b="0" lang="es-MX" sz="2400" spc="-1" strike="noStrike">
                <a:solidFill>
                  <a:srgbClr val="fab300"/>
                </a:solidFill>
                <a:latin typeface="Arial"/>
              </a:rPr>
              <a:t>  MNV, </a:t>
            </a:r>
            <a:r>
              <a:rPr b="1" lang="es-MX" sz="2400" spc="-1" strike="noStrike">
                <a:solidFill>
                  <a:srgbClr val="ffd467"/>
                </a:solidFill>
                <a:latin typeface="Arial"/>
              </a:rPr>
              <a:t>( </a:t>
            </a:r>
            <a:r>
              <a:rPr b="0" lang="es-MX" sz="2400" spc="-1" strike="noStrike">
                <a:solidFill>
                  <a:srgbClr val="ffd467"/>
                </a:solidFill>
                <a:latin typeface="Times New Roman"/>
                <a:ea typeface="Times New Roman"/>
              </a:rPr>
              <a:t>♀</a:t>
            </a:r>
            <a:r>
              <a:rPr b="1" lang="es-MX" sz="2400" spc="-1" strike="noStrike">
                <a:solidFill>
                  <a:srgbClr val="ffd467"/>
                </a:solidFill>
                <a:latin typeface="Times New Roman"/>
                <a:ea typeface="Times New Roman"/>
              </a:rPr>
              <a:t>, </a:t>
            </a:r>
            <a:r>
              <a:rPr b="0" lang="es-MX" sz="1800" spc="-1" strike="noStrike">
                <a:solidFill>
                  <a:srgbClr val="ffd467"/>
                </a:solidFill>
                <a:latin typeface="Times New Roman"/>
                <a:ea typeface="Times New Roman"/>
              </a:rPr>
              <a:t>52 años</a:t>
            </a:r>
            <a:r>
              <a:rPr b="1" lang="es-MX" sz="2400" spc="-1" strike="noStrike">
                <a:solidFill>
                  <a:srgbClr val="ffd467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1403280" y="981000"/>
          <a:ext cx="6313680" cy="1460520"/>
        </p:xfrm>
        <a:graphic>
          <a:graphicData uri="http://schemas.openxmlformats.org/drawingml/2006/table">
            <a:tbl>
              <a:tblPr/>
              <a:tblGrid>
                <a:gridCol w="1646280"/>
                <a:gridCol w="2511360"/>
                <a:gridCol w="21560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ÍNDICE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ab300"/>
                      </a:solidFill>
                    </a:lnL>
                    <a:lnR w="13680">
                      <a:solidFill>
                        <a:srgbClr val="fab300"/>
                      </a:solidFill>
                    </a:lnR>
                    <a:lnT w="13680">
                      <a:solidFill>
                        <a:srgbClr val="fab300"/>
                      </a:solidFill>
                    </a:lnT>
                    <a:lnB w="13680">
                      <a:solidFill>
                        <a:srgbClr val="fa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redeterminado(L)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ab300"/>
                      </a:solidFill>
                    </a:lnL>
                    <a:lnR w="13680">
                      <a:solidFill>
                        <a:srgbClr val="fab300"/>
                      </a:solidFill>
                    </a:lnR>
                    <a:lnT w="13680">
                      <a:solidFill>
                        <a:srgbClr val="fab300"/>
                      </a:solidFill>
                    </a:lnT>
                    <a:lnB w="13680">
                      <a:solidFill>
                        <a:srgbClr val="fa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ercentil 5 (LIN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ab300"/>
                      </a:solidFill>
                    </a:lnL>
                    <a:lnR w="13680">
                      <a:solidFill>
                        <a:srgbClr val="fab300"/>
                      </a:solidFill>
                    </a:lnR>
                    <a:lnT w="13680">
                      <a:solidFill>
                        <a:srgbClr val="fab300"/>
                      </a:solidFill>
                    </a:lnT>
                    <a:lnB w="13680">
                      <a:solidFill>
                        <a:srgbClr val="fab3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VF (L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ab300"/>
                      </a:solidFill>
                    </a:lnL>
                    <a:lnR w="13680">
                      <a:solidFill>
                        <a:srgbClr val="fab300"/>
                      </a:solidFill>
                    </a:lnR>
                    <a:lnT w="13680">
                      <a:solidFill>
                        <a:srgbClr val="fab300"/>
                      </a:solidFill>
                    </a:lnT>
                    <a:lnB w="13680">
                      <a:solidFill>
                        <a:srgbClr val="fa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3,2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ab300"/>
                      </a:solidFill>
                    </a:lnL>
                    <a:lnR w="13680">
                      <a:solidFill>
                        <a:srgbClr val="fab300"/>
                      </a:solidFill>
                    </a:lnR>
                    <a:lnT w="13680">
                      <a:solidFill>
                        <a:srgbClr val="fab300"/>
                      </a:solidFill>
                    </a:lnT>
                    <a:lnB w="13680">
                      <a:solidFill>
                        <a:srgbClr val="fa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71,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ab300"/>
                      </a:solidFill>
                    </a:lnL>
                    <a:lnR w="13680">
                      <a:solidFill>
                        <a:srgbClr val="fab300"/>
                      </a:solidFill>
                    </a:lnR>
                    <a:lnT w="13680">
                      <a:solidFill>
                        <a:srgbClr val="fab300"/>
                      </a:solidFill>
                    </a:lnT>
                    <a:lnB w="13680">
                      <a:solidFill>
                        <a:srgbClr val="fab3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VEF</a:t>
                      </a:r>
                      <a:r>
                        <a:rPr b="0" lang="es-MX" sz="1800" spc="-1" strike="noStrike" baseline="-25000">
                          <a:solidFill>
                            <a:srgbClr val="ffff00"/>
                          </a:solidFill>
                          <a:latin typeface="Arial"/>
                        </a:rPr>
                        <a:t>1</a:t>
                      </a:r>
                      <a:r>
                        <a:rPr b="0" lang="es-MX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(L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ab300"/>
                      </a:solidFill>
                    </a:lnL>
                    <a:lnR w="13680">
                      <a:solidFill>
                        <a:srgbClr val="fab300"/>
                      </a:solidFill>
                    </a:lnR>
                    <a:lnT w="13680">
                      <a:solidFill>
                        <a:srgbClr val="fab300"/>
                      </a:solidFill>
                    </a:lnT>
                    <a:lnB w="13680">
                      <a:solidFill>
                        <a:srgbClr val="fa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2,6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ab300"/>
                      </a:solidFill>
                    </a:lnL>
                    <a:lnR w="13680">
                      <a:solidFill>
                        <a:srgbClr val="fab300"/>
                      </a:solidFill>
                    </a:lnR>
                    <a:lnT w="13680">
                      <a:solidFill>
                        <a:srgbClr val="fab300"/>
                      </a:solidFill>
                    </a:lnT>
                    <a:lnB w="13680">
                      <a:solidFill>
                        <a:srgbClr val="fa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72,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ab300"/>
                      </a:solidFill>
                    </a:lnL>
                    <a:lnR w="13680">
                      <a:solidFill>
                        <a:srgbClr val="fab300"/>
                      </a:solidFill>
                    </a:lnR>
                    <a:lnT w="13680">
                      <a:solidFill>
                        <a:srgbClr val="fab300"/>
                      </a:solidFill>
                    </a:lnT>
                    <a:lnB w="13680">
                      <a:solidFill>
                        <a:srgbClr val="fab3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VEF</a:t>
                      </a:r>
                      <a:r>
                        <a:rPr b="0" lang="es-MX" sz="1800" spc="-1" strike="noStrike" baseline="-25000">
                          <a:solidFill>
                            <a:srgbClr val="ffff00"/>
                          </a:solidFill>
                          <a:latin typeface="Arial"/>
                        </a:rPr>
                        <a:t>1</a:t>
                      </a:r>
                      <a:r>
                        <a:rPr b="0" lang="es-MX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/CVF%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ab300"/>
                      </a:solidFill>
                    </a:lnL>
                    <a:lnR w="13680">
                      <a:solidFill>
                        <a:srgbClr val="fab300"/>
                      </a:solidFill>
                    </a:lnR>
                    <a:lnT w="13680">
                      <a:solidFill>
                        <a:srgbClr val="fab300"/>
                      </a:solidFill>
                    </a:lnT>
                    <a:lnB w="13680">
                      <a:solidFill>
                        <a:srgbClr val="fa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8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ab300"/>
                      </a:solidFill>
                    </a:lnL>
                    <a:lnR w="13680">
                      <a:solidFill>
                        <a:srgbClr val="fab300"/>
                      </a:solidFill>
                    </a:lnR>
                    <a:lnT w="13680">
                      <a:solidFill>
                        <a:srgbClr val="fab300"/>
                      </a:solidFill>
                    </a:lnT>
                    <a:lnB w="13680">
                      <a:solidFill>
                        <a:srgbClr val="fa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6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ab300"/>
                      </a:solidFill>
                    </a:lnL>
                    <a:lnR w="13680">
                      <a:solidFill>
                        <a:srgbClr val="fab300"/>
                      </a:solidFill>
                    </a:lnR>
                    <a:lnT w="13680">
                      <a:solidFill>
                        <a:srgbClr val="fab300"/>
                      </a:solidFill>
                    </a:lnT>
                    <a:lnB w="13680">
                      <a:solidFill>
                        <a:srgbClr val="fa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2" name=""/>
          <p:cNvSpPr/>
          <p:nvPr/>
        </p:nvSpPr>
        <p:spPr>
          <a:xfrm>
            <a:off x="2133720" y="2819520"/>
            <a:ext cx="331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56000" y="2852640"/>
            <a:ext cx="33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ab300"/>
                </a:solidFill>
                <a:latin typeface="Arial"/>
              </a:rPr>
              <a:t>Espirometría 6-2-0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d467"/>
                </a:solidFill>
                <a:latin typeface="Arial"/>
              </a:rPr>
              <a:t>Bronquitis crónica</a:t>
            </a: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Tos y expectoración diaria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+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3 meses por año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+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2 años consecutivos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Histopatología: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hipertrofia de las glándulas mucosas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aumento de las células caliciformes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470560" y="2492280"/>
            <a:ext cx="367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!No signific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obstrucción bronquial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4" name=""/>
          <p:cNvGraphicFramePr/>
          <p:nvPr/>
        </p:nvGraphicFramePr>
        <p:xfrm>
          <a:off x="395280" y="3357720"/>
          <a:ext cx="8383680" cy="2644560"/>
        </p:xfrm>
        <a:graphic>
          <a:graphicData uri="http://schemas.openxmlformats.org/drawingml/2006/table">
            <a:tbl>
              <a:tblPr/>
              <a:tblGrid>
                <a:gridCol w="1576440"/>
                <a:gridCol w="958680"/>
                <a:gridCol w="1508400"/>
                <a:gridCol w="933480"/>
                <a:gridCol w="1968480"/>
                <a:gridCol w="1438200"/>
              </a:tblGrid>
              <a:tr h="6426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DICE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SAL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RONCODILATADOR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93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 cambio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tros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rcentaj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tros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rcentaj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VF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,71 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8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,67 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6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1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45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F</a:t>
                      </a:r>
                      <a:r>
                        <a:rPr b="0" lang="es-MX" sz="18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97 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5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95 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4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1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45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F</a:t>
                      </a:r>
                      <a:r>
                        <a:rPr b="0" lang="es-MX" sz="18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CVF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275" name=""/>
          <p:cNvSpPr/>
          <p:nvPr/>
        </p:nvSpPr>
        <p:spPr>
          <a:xfrm>
            <a:off x="1476360" y="304920"/>
            <a:ext cx="6524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ab300"/>
                </a:solidFill>
                <a:latin typeface="Arial"/>
              </a:rPr>
              <a:t>Valores predeterminados</a:t>
            </a:r>
            <a:r>
              <a:rPr b="0" lang="es-MX" sz="2400" spc="-1" strike="noStrike">
                <a:solidFill>
                  <a:srgbClr val="fab300"/>
                </a:solidFill>
                <a:latin typeface="Arial"/>
              </a:rPr>
              <a:t>  MNV, </a:t>
            </a:r>
            <a:r>
              <a:rPr b="1" lang="es-MX" sz="2400" spc="-1" strike="noStrike">
                <a:solidFill>
                  <a:srgbClr val="ffd467"/>
                </a:solidFill>
                <a:latin typeface="Arial"/>
              </a:rPr>
              <a:t>( </a:t>
            </a:r>
            <a:r>
              <a:rPr b="0" lang="es-MX" sz="2400" spc="-1" strike="noStrike">
                <a:solidFill>
                  <a:srgbClr val="ffd467"/>
                </a:solidFill>
                <a:latin typeface="Times New Roman"/>
                <a:ea typeface="Times New Roman"/>
              </a:rPr>
              <a:t>♀</a:t>
            </a:r>
            <a:r>
              <a:rPr b="1" lang="es-MX" sz="2400" spc="-1" strike="noStrike">
                <a:solidFill>
                  <a:srgbClr val="ffd467"/>
                </a:solidFill>
                <a:latin typeface="Times New Roman"/>
                <a:ea typeface="Times New Roman"/>
              </a:rPr>
              <a:t>, </a:t>
            </a:r>
            <a:r>
              <a:rPr b="0" lang="es-MX" sz="1800" spc="-1" strike="noStrike">
                <a:solidFill>
                  <a:srgbClr val="ffd467"/>
                </a:solidFill>
                <a:latin typeface="Times New Roman"/>
                <a:ea typeface="Times New Roman"/>
              </a:rPr>
              <a:t>52 años</a:t>
            </a:r>
            <a:r>
              <a:rPr b="1" lang="es-MX" sz="2400" spc="-1" strike="noStrike">
                <a:solidFill>
                  <a:srgbClr val="ffd467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1403280" y="981000"/>
          <a:ext cx="6313680" cy="1460520"/>
        </p:xfrm>
        <a:graphic>
          <a:graphicData uri="http://schemas.openxmlformats.org/drawingml/2006/table">
            <a:tbl>
              <a:tblPr/>
              <a:tblGrid>
                <a:gridCol w="1646280"/>
                <a:gridCol w="2511360"/>
                <a:gridCol w="21560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ÍNDICE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ab300"/>
                      </a:solidFill>
                    </a:lnL>
                    <a:lnR w="13680">
                      <a:solidFill>
                        <a:srgbClr val="fab300"/>
                      </a:solidFill>
                    </a:lnR>
                    <a:lnT w="13680">
                      <a:solidFill>
                        <a:srgbClr val="fab300"/>
                      </a:solidFill>
                    </a:lnT>
                    <a:lnB w="13680">
                      <a:solidFill>
                        <a:srgbClr val="fa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redeterminado(L)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ab300"/>
                      </a:solidFill>
                    </a:lnL>
                    <a:lnR w="13680">
                      <a:solidFill>
                        <a:srgbClr val="fab300"/>
                      </a:solidFill>
                    </a:lnR>
                    <a:lnT w="13680">
                      <a:solidFill>
                        <a:srgbClr val="fab300"/>
                      </a:solidFill>
                    </a:lnT>
                    <a:lnB w="13680">
                      <a:solidFill>
                        <a:srgbClr val="fa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ercentil 5 (LIN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ab300"/>
                      </a:solidFill>
                    </a:lnL>
                    <a:lnR w="13680">
                      <a:solidFill>
                        <a:srgbClr val="fab300"/>
                      </a:solidFill>
                    </a:lnR>
                    <a:lnT w="13680">
                      <a:solidFill>
                        <a:srgbClr val="fab300"/>
                      </a:solidFill>
                    </a:lnT>
                    <a:lnB w="13680">
                      <a:solidFill>
                        <a:srgbClr val="fab3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VF (L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ab300"/>
                      </a:solidFill>
                    </a:lnL>
                    <a:lnR w="13680">
                      <a:solidFill>
                        <a:srgbClr val="fab300"/>
                      </a:solidFill>
                    </a:lnR>
                    <a:lnT w="13680">
                      <a:solidFill>
                        <a:srgbClr val="fab300"/>
                      </a:solidFill>
                    </a:lnT>
                    <a:lnB w="13680">
                      <a:solidFill>
                        <a:srgbClr val="fa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3,2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ab300"/>
                      </a:solidFill>
                    </a:lnL>
                    <a:lnR w="13680">
                      <a:solidFill>
                        <a:srgbClr val="fab300"/>
                      </a:solidFill>
                    </a:lnR>
                    <a:lnT w="13680">
                      <a:solidFill>
                        <a:srgbClr val="fab300"/>
                      </a:solidFill>
                    </a:lnT>
                    <a:lnB w="13680">
                      <a:solidFill>
                        <a:srgbClr val="fa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71,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ab300"/>
                      </a:solidFill>
                    </a:lnL>
                    <a:lnR w="13680">
                      <a:solidFill>
                        <a:srgbClr val="fab300"/>
                      </a:solidFill>
                    </a:lnR>
                    <a:lnT w="13680">
                      <a:solidFill>
                        <a:srgbClr val="fab300"/>
                      </a:solidFill>
                    </a:lnT>
                    <a:lnB w="13680">
                      <a:solidFill>
                        <a:srgbClr val="fab3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VEF</a:t>
                      </a:r>
                      <a:r>
                        <a:rPr b="0" lang="es-MX" sz="1800" spc="-1" strike="noStrike" baseline="-25000">
                          <a:solidFill>
                            <a:srgbClr val="ffff00"/>
                          </a:solidFill>
                          <a:latin typeface="Arial"/>
                        </a:rPr>
                        <a:t>1</a:t>
                      </a:r>
                      <a:r>
                        <a:rPr b="0" lang="es-MX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(L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ab300"/>
                      </a:solidFill>
                    </a:lnL>
                    <a:lnR w="13680">
                      <a:solidFill>
                        <a:srgbClr val="fab300"/>
                      </a:solidFill>
                    </a:lnR>
                    <a:lnT w="13680">
                      <a:solidFill>
                        <a:srgbClr val="fab300"/>
                      </a:solidFill>
                    </a:lnT>
                    <a:lnB w="13680">
                      <a:solidFill>
                        <a:srgbClr val="fa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2,6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ab300"/>
                      </a:solidFill>
                    </a:lnL>
                    <a:lnR w="13680">
                      <a:solidFill>
                        <a:srgbClr val="fab300"/>
                      </a:solidFill>
                    </a:lnR>
                    <a:lnT w="13680">
                      <a:solidFill>
                        <a:srgbClr val="fab300"/>
                      </a:solidFill>
                    </a:lnT>
                    <a:lnB w="13680">
                      <a:solidFill>
                        <a:srgbClr val="fa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72,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ab300"/>
                      </a:solidFill>
                    </a:lnL>
                    <a:lnR w="13680">
                      <a:solidFill>
                        <a:srgbClr val="fab300"/>
                      </a:solidFill>
                    </a:lnR>
                    <a:lnT w="13680">
                      <a:solidFill>
                        <a:srgbClr val="fab300"/>
                      </a:solidFill>
                    </a:lnT>
                    <a:lnB w="13680">
                      <a:solidFill>
                        <a:srgbClr val="fab3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VEF</a:t>
                      </a:r>
                      <a:r>
                        <a:rPr b="0" lang="es-MX" sz="1800" spc="-1" strike="noStrike" baseline="-25000">
                          <a:solidFill>
                            <a:srgbClr val="ffff00"/>
                          </a:solidFill>
                          <a:latin typeface="Arial"/>
                        </a:rPr>
                        <a:t>1</a:t>
                      </a:r>
                      <a:r>
                        <a:rPr b="0" lang="es-MX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/CVF%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ab300"/>
                      </a:solidFill>
                    </a:lnL>
                    <a:lnR w="13680">
                      <a:solidFill>
                        <a:srgbClr val="fab300"/>
                      </a:solidFill>
                    </a:lnR>
                    <a:lnT w="13680">
                      <a:solidFill>
                        <a:srgbClr val="fab300"/>
                      </a:solidFill>
                    </a:lnT>
                    <a:lnB w="13680">
                      <a:solidFill>
                        <a:srgbClr val="fa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8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ab300"/>
                      </a:solidFill>
                    </a:lnL>
                    <a:lnR w="13680">
                      <a:solidFill>
                        <a:srgbClr val="fab300"/>
                      </a:solidFill>
                    </a:lnR>
                    <a:lnT w="13680">
                      <a:solidFill>
                        <a:srgbClr val="fab300"/>
                      </a:solidFill>
                    </a:lnT>
                    <a:lnB w="13680">
                      <a:solidFill>
                        <a:srgbClr val="fa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6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ab300"/>
                      </a:solidFill>
                    </a:lnL>
                    <a:lnR w="13680">
                      <a:solidFill>
                        <a:srgbClr val="fab300"/>
                      </a:solidFill>
                    </a:lnR>
                    <a:lnT w="13680">
                      <a:solidFill>
                        <a:srgbClr val="fab300"/>
                      </a:solidFill>
                    </a:lnT>
                    <a:lnB w="13680">
                      <a:solidFill>
                        <a:srgbClr val="fa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7" name=""/>
          <p:cNvSpPr/>
          <p:nvPr/>
        </p:nvSpPr>
        <p:spPr>
          <a:xfrm>
            <a:off x="2133720" y="2819520"/>
            <a:ext cx="331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556000" y="2852640"/>
            <a:ext cx="33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ab300"/>
                </a:solidFill>
                <a:latin typeface="Arial"/>
              </a:rPr>
              <a:t>Espirometría 29-3-0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9" name=""/>
          <p:cNvGraphicFramePr/>
          <p:nvPr/>
        </p:nvGraphicFramePr>
        <p:xfrm>
          <a:off x="395280" y="3357720"/>
          <a:ext cx="8383680" cy="2644560"/>
        </p:xfrm>
        <a:graphic>
          <a:graphicData uri="http://schemas.openxmlformats.org/drawingml/2006/table">
            <a:tbl>
              <a:tblPr/>
              <a:tblGrid>
                <a:gridCol w="1576440"/>
                <a:gridCol w="958680"/>
                <a:gridCol w="1508400"/>
                <a:gridCol w="933480"/>
                <a:gridCol w="1968480"/>
                <a:gridCol w="1438200"/>
              </a:tblGrid>
              <a:tr h="6426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DICE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SAL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RONCODILATADOR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93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 cambio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tros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rcentaj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tros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rcentaj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VF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,04 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8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,40 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7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1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45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F</a:t>
                      </a:r>
                      <a:r>
                        <a:rPr b="0" lang="es-MX" sz="18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04 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05 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45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F</a:t>
                      </a:r>
                      <a:r>
                        <a:rPr b="0" lang="es-MX" sz="18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CVF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280" name=""/>
          <p:cNvSpPr/>
          <p:nvPr/>
        </p:nvSpPr>
        <p:spPr>
          <a:xfrm>
            <a:off x="990720" y="304920"/>
            <a:ext cx="7057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ab300"/>
                </a:solidFill>
                <a:latin typeface="Arial"/>
              </a:rPr>
              <a:t>Valores predeterminados</a:t>
            </a:r>
            <a:r>
              <a:rPr b="0" lang="es-MX" sz="2400" spc="-1" strike="noStrike">
                <a:solidFill>
                  <a:srgbClr val="fab300"/>
                </a:solidFill>
                <a:latin typeface="Arial"/>
              </a:rPr>
              <a:t>  OSS, </a:t>
            </a:r>
            <a:r>
              <a:rPr b="1" lang="es-MX" sz="2400" spc="-1" strike="noStrike">
                <a:solidFill>
                  <a:srgbClr val="ffd467"/>
                </a:solidFill>
                <a:latin typeface="Arial"/>
              </a:rPr>
              <a:t>( </a:t>
            </a:r>
            <a:r>
              <a:rPr b="0" lang="es-MX" sz="2400" spc="-1" strike="noStrike">
                <a:solidFill>
                  <a:srgbClr val="ffd467"/>
                </a:solidFill>
                <a:latin typeface="Times New Roman"/>
                <a:ea typeface="Times New Roman"/>
              </a:rPr>
              <a:t>hombre</a:t>
            </a:r>
            <a:r>
              <a:rPr b="1" lang="es-MX" sz="2400" spc="-1" strike="noStrike">
                <a:solidFill>
                  <a:srgbClr val="ffd467"/>
                </a:solidFill>
                <a:latin typeface="Times New Roman"/>
                <a:ea typeface="Times New Roman"/>
              </a:rPr>
              <a:t>, </a:t>
            </a:r>
            <a:r>
              <a:rPr b="0" lang="es-MX" sz="1800" spc="-1" strike="noStrike">
                <a:solidFill>
                  <a:srgbClr val="ffd467"/>
                </a:solidFill>
                <a:latin typeface="Times New Roman"/>
                <a:ea typeface="Times New Roman"/>
              </a:rPr>
              <a:t>50 años</a:t>
            </a:r>
            <a:r>
              <a:rPr b="1" lang="es-MX" sz="2400" spc="-1" strike="noStrike">
                <a:solidFill>
                  <a:srgbClr val="ffd467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1403280" y="981000"/>
          <a:ext cx="6313680" cy="1460520"/>
        </p:xfrm>
        <a:graphic>
          <a:graphicData uri="http://schemas.openxmlformats.org/drawingml/2006/table">
            <a:tbl>
              <a:tblPr/>
              <a:tblGrid>
                <a:gridCol w="1646280"/>
                <a:gridCol w="2511360"/>
                <a:gridCol w="21560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ÍNDICE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ab300"/>
                      </a:solidFill>
                    </a:lnL>
                    <a:lnR w="13680">
                      <a:solidFill>
                        <a:srgbClr val="fab300"/>
                      </a:solidFill>
                    </a:lnR>
                    <a:lnT w="13680">
                      <a:solidFill>
                        <a:srgbClr val="fab300"/>
                      </a:solidFill>
                    </a:lnT>
                    <a:lnB w="13680">
                      <a:solidFill>
                        <a:srgbClr val="fa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redeterminado(L)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ab300"/>
                      </a:solidFill>
                    </a:lnL>
                    <a:lnR w="13680">
                      <a:solidFill>
                        <a:srgbClr val="fab300"/>
                      </a:solidFill>
                    </a:lnR>
                    <a:lnT w="13680">
                      <a:solidFill>
                        <a:srgbClr val="fab300"/>
                      </a:solidFill>
                    </a:lnT>
                    <a:lnB w="13680">
                      <a:solidFill>
                        <a:srgbClr val="fa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ercentil 5 (LIN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ab300"/>
                      </a:solidFill>
                    </a:lnL>
                    <a:lnR w="13680">
                      <a:solidFill>
                        <a:srgbClr val="fab300"/>
                      </a:solidFill>
                    </a:lnR>
                    <a:lnT w="13680">
                      <a:solidFill>
                        <a:srgbClr val="fab300"/>
                      </a:solidFill>
                    </a:lnT>
                    <a:lnB w="13680">
                      <a:solidFill>
                        <a:srgbClr val="fab3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VF (L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ab300"/>
                      </a:solidFill>
                    </a:lnL>
                    <a:lnR w="13680">
                      <a:solidFill>
                        <a:srgbClr val="fab300"/>
                      </a:solidFill>
                    </a:lnR>
                    <a:lnT w="13680">
                      <a:solidFill>
                        <a:srgbClr val="fab300"/>
                      </a:solidFill>
                    </a:lnT>
                    <a:lnB w="13680">
                      <a:solidFill>
                        <a:srgbClr val="fa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3,9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ab300"/>
                      </a:solidFill>
                    </a:lnL>
                    <a:lnR w="13680">
                      <a:solidFill>
                        <a:srgbClr val="fab300"/>
                      </a:solidFill>
                    </a:lnR>
                    <a:lnT w="13680">
                      <a:solidFill>
                        <a:srgbClr val="fab300"/>
                      </a:solidFill>
                    </a:lnT>
                    <a:lnB w="13680">
                      <a:solidFill>
                        <a:srgbClr val="fa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73,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ab300"/>
                      </a:solidFill>
                    </a:lnL>
                    <a:lnR w="13680">
                      <a:solidFill>
                        <a:srgbClr val="fab300"/>
                      </a:solidFill>
                    </a:lnR>
                    <a:lnT w="13680">
                      <a:solidFill>
                        <a:srgbClr val="fab300"/>
                      </a:solidFill>
                    </a:lnT>
                    <a:lnB w="13680">
                      <a:solidFill>
                        <a:srgbClr val="fab3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VEF</a:t>
                      </a:r>
                      <a:r>
                        <a:rPr b="0" lang="es-MX" sz="1800" spc="-1" strike="noStrike" baseline="-25000">
                          <a:solidFill>
                            <a:srgbClr val="ffff00"/>
                          </a:solidFill>
                          <a:latin typeface="Arial"/>
                        </a:rPr>
                        <a:t>1</a:t>
                      </a:r>
                      <a:r>
                        <a:rPr b="0" lang="es-MX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(L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ab300"/>
                      </a:solidFill>
                    </a:lnL>
                    <a:lnR w="13680">
                      <a:solidFill>
                        <a:srgbClr val="fab300"/>
                      </a:solidFill>
                    </a:lnR>
                    <a:lnT w="13680">
                      <a:solidFill>
                        <a:srgbClr val="fab300"/>
                      </a:solidFill>
                    </a:lnT>
                    <a:lnB w="13680">
                      <a:solidFill>
                        <a:srgbClr val="fa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3,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ab300"/>
                      </a:solidFill>
                    </a:lnL>
                    <a:lnR w="13680">
                      <a:solidFill>
                        <a:srgbClr val="fab300"/>
                      </a:solidFill>
                    </a:lnR>
                    <a:lnT w="13680">
                      <a:solidFill>
                        <a:srgbClr val="fab300"/>
                      </a:solidFill>
                    </a:lnT>
                    <a:lnB w="13680">
                      <a:solidFill>
                        <a:srgbClr val="fa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77,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ab300"/>
                      </a:solidFill>
                    </a:lnL>
                    <a:lnR w="13680">
                      <a:solidFill>
                        <a:srgbClr val="fab300"/>
                      </a:solidFill>
                    </a:lnR>
                    <a:lnT w="13680">
                      <a:solidFill>
                        <a:srgbClr val="fab300"/>
                      </a:solidFill>
                    </a:lnT>
                    <a:lnB w="13680">
                      <a:solidFill>
                        <a:srgbClr val="fab3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VEF</a:t>
                      </a:r>
                      <a:r>
                        <a:rPr b="0" lang="es-MX" sz="1800" spc="-1" strike="noStrike" baseline="-25000">
                          <a:solidFill>
                            <a:srgbClr val="ffff00"/>
                          </a:solidFill>
                          <a:latin typeface="Arial"/>
                        </a:rPr>
                        <a:t>1</a:t>
                      </a:r>
                      <a:r>
                        <a:rPr b="0" lang="es-MX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/CVF%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ab300"/>
                      </a:solidFill>
                    </a:lnL>
                    <a:lnR w="13680">
                      <a:solidFill>
                        <a:srgbClr val="fab300"/>
                      </a:solidFill>
                    </a:lnR>
                    <a:lnT w="13680">
                      <a:solidFill>
                        <a:srgbClr val="fab300"/>
                      </a:solidFill>
                    </a:lnT>
                    <a:lnB w="13680">
                      <a:solidFill>
                        <a:srgbClr val="fa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8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ab300"/>
                      </a:solidFill>
                    </a:lnL>
                    <a:lnR w="13680">
                      <a:solidFill>
                        <a:srgbClr val="fab300"/>
                      </a:solidFill>
                    </a:lnR>
                    <a:lnT w="13680">
                      <a:solidFill>
                        <a:srgbClr val="fab300"/>
                      </a:solidFill>
                    </a:lnT>
                    <a:lnB w="13680">
                      <a:solidFill>
                        <a:srgbClr val="fa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7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ab300"/>
                      </a:solidFill>
                    </a:lnL>
                    <a:lnR w="13680">
                      <a:solidFill>
                        <a:srgbClr val="fab300"/>
                      </a:solidFill>
                    </a:lnR>
                    <a:lnT w="13680">
                      <a:solidFill>
                        <a:srgbClr val="fab300"/>
                      </a:solidFill>
                    </a:lnT>
                    <a:lnB w="13680">
                      <a:solidFill>
                        <a:srgbClr val="fa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2" name=""/>
          <p:cNvSpPr/>
          <p:nvPr/>
        </p:nvSpPr>
        <p:spPr>
          <a:xfrm>
            <a:off x="2133720" y="2819520"/>
            <a:ext cx="331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556000" y="2852640"/>
            <a:ext cx="33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ab300"/>
                </a:solidFill>
                <a:latin typeface="Arial"/>
              </a:rPr>
              <a:t>Espirometría 29-3-0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1752480" y="122400"/>
            <a:ext cx="5322960" cy="67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2438280" y="1143000"/>
            <a:ext cx="2616480" cy="459720"/>
          </a:xfrm>
          <a:prstGeom prst="rect">
            <a:avLst/>
          </a:prstGeom>
          <a:solidFill>
            <a:srgbClr val="fab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e1192"/>
                </a:solidFill>
                <a:latin typeface="Arial"/>
              </a:rPr>
              <a:t>Chronic hypox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676520" y="2209680"/>
            <a:ext cx="4572000" cy="459720"/>
          </a:xfrm>
          <a:prstGeom prst="rect">
            <a:avLst/>
          </a:prstGeom>
          <a:solidFill>
            <a:srgbClr val="99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e1192"/>
                </a:solidFill>
                <a:latin typeface="Arial"/>
              </a:rPr>
              <a:t>Pulmonary vasoconstri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733920" y="1676520"/>
            <a:ext cx="0" cy="5331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300720" y="2708280"/>
            <a:ext cx="2538360" cy="2214000"/>
          </a:xfrm>
          <a:prstGeom prst="rect">
            <a:avLst/>
          </a:prstGeom>
          <a:solidFill>
            <a:srgbClr val="cc0066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e1192"/>
                </a:solidFill>
                <a:latin typeface="Arial"/>
              </a:rPr>
              <a:t>Musculariz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e1192"/>
                </a:solidFill>
                <a:latin typeface="Arial"/>
              </a:rPr>
              <a:t>Intima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e1192"/>
                </a:solidFill>
                <a:latin typeface="Arial"/>
              </a:rPr>
              <a:t>hyperplas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e1192"/>
                </a:solidFill>
                <a:latin typeface="Arial"/>
              </a:rPr>
              <a:t>Fibro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e1192"/>
                </a:solidFill>
                <a:latin typeface="Arial"/>
              </a:rPr>
              <a:t>Oblite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733920" y="2708280"/>
            <a:ext cx="0" cy="5335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5649840" y="3089160"/>
            <a:ext cx="609840" cy="4572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649840" y="354636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649840" y="3546360"/>
            <a:ext cx="609840" cy="4572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718240" y="3622680"/>
            <a:ext cx="541440" cy="8380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828800" y="3394080"/>
            <a:ext cx="3849840" cy="459720"/>
          </a:xfrm>
          <a:prstGeom prst="rect">
            <a:avLst/>
          </a:prstGeom>
          <a:solidFill>
            <a:srgbClr val="cc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e1192"/>
                </a:solidFill>
                <a:latin typeface="Arial"/>
              </a:rPr>
              <a:t>Pulmonary hyperten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438280" y="4495680"/>
            <a:ext cx="2457720" cy="45972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e1192"/>
                </a:solidFill>
                <a:latin typeface="Arial"/>
              </a:rPr>
              <a:t>Cor pulmona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24080" y="5638680"/>
            <a:ext cx="12193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e1192"/>
                </a:solidFill>
                <a:latin typeface="Arial"/>
              </a:rPr>
              <a:t>Dea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733920" y="3962520"/>
            <a:ext cx="0" cy="4572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733920" y="5029200"/>
            <a:ext cx="0" cy="5335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366520" y="5172120"/>
            <a:ext cx="1179000" cy="459720"/>
          </a:xfrm>
          <a:prstGeom prst="rect">
            <a:avLst/>
          </a:prstGeom>
          <a:solidFill>
            <a:srgbClr val="00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e1192"/>
                </a:solidFill>
                <a:latin typeface="Arial"/>
              </a:rPr>
              <a:t>Ede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929120" y="4800600"/>
            <a:ext cx="40644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836720" y="210960"/>
            <a:ext cx="5554800" cy="947160"/>
          </a:xfrm>
          <a:prstGeom prst="rect">
            <a:avLst/>
          </a:prstGeom>
          <a:noFill/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Pulmonary Hypertension in COP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867280" y="6516720"/>
            <a:ext cx="31813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4e1192"/>
                </a:solidFill>
                <a:latin typeface="Tahoma"/>
              </a:rPr>
              <a:t>Source</a:t>
            </a:r>
            <a:r>
              <a:rPr b="1" lang="en-US" sz="1400" spc="-1" strike="noStrike">
                <a:solidFill>
                  <a:srgbClr val="4e1192"/>
                </a:solidFill>
                <a:latin typeface="Tahoma"/>
              </a:rPr>
              <a:t>:  Peter J. Barnes, M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d467"/>
                </a:solidFill>
                <a:latin typeface="Arial"/>
              </a:rPr>
              <a:t>Indicación de oxigenoterapia</a:t>
            </a: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imes New Roman"/>
              </a:rPr>
              <a:t>GSA : VEF1 &lt; 40%  </a:t>
            </a:r>
            <a:r>
              <a:rPr b="1" i="1" lang="es-CL" sz="3200" spc="-1" strike="noStrike">
                <a:solidFill>
                  <a:srgbClr val="ff0000"/>
                </a:solidFill>
                <a:latin typeface="Times New Roman"/>
              </a:rPr>
              <a:t>( ahora &lt; 50%)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imes New Roman"/>
              </a:rPr>
              <a:t>Oxigenoterapia: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Pacientes en fase estable, al menos con 1mes de tratamiento y  PaO2 &lt; 55 mmHg.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Pacientes con PaO2 entre 55 y 59 mmHg con signos de disfunción orgánica por hipoxia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Hipertensión pulmonar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Cor pulmonar 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Hto &gt; 55%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063080" y="6019920"/>
            <a:ext cx="738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 u="sng">
                <a:solidFill>
                  <a:srgbClr val="ffff00"/>
                </a:solidFill>
                <a:uFillTx/>
                <a:latin typeface="Times New Roman"/>
              </a:rPr>
              <a:t>Después de un mes de tratamiento farmacológico  óptim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1066680"/>
            <a:ext cx="84582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Arial"/>
              </a:rPr>
              <a:t>ADMINISTRACIÓN DE OXÍGENO 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33520" y="2057400"/>
            <a:ext cx="8229600" cy="42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Cánula binas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Flujo necesario para SaO</a:t>
            </a:r>
            <a:r>
              <a:rPr b="1" lang="es-ES_tradnl" sz="28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 de 90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Mínimo 15 horas diaria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Control mensual de saturación arterial de oxígen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24000" y="691920"/>
            <a:ext cx="8385120" cy="1431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00"/>
                </a:solidFill>
                <a:latin typeface="Arial"/>
              </a:rPr>
              <a:t>BENEFICIOS DE LA OXIGENOTERAPIA A LARGO PLAZO</a:t>
            </a:r>
            <a:endParaRPr b="0" lang="en-US" sz="40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7921800" cy="4248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Mejora sobrevida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Aumenta tolerancia al ejercicio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Reduce  hospitalizaciones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Mejora  estado mental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Reduce policitemia 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Disminuye arritmias durante el sueño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Reduce o revierte la hipertensión pulmonar.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d467"/>
                </a:solidFill>
                <a:latin typeface="Arial"/>
              </a:rPr>
              <a:t>Indicaciones para referir a especialista</a:t>
            </a:r>
            <a:endParaRPr b="0" lang="en-US" sz="40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Duda diagnóstica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Mala respuesta a tratamiento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Sospecha de EPOC severo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Para confirmar diagnóstico y optimizar tratamiento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Sospecha de corazón pulmonar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Para confirmar diagnóstico y optimizar tratamiento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Sospecha de necesidad de oxigenoterapia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Medición de GSA, decisión de indicación y dosis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d467"/>
                </a:solidFill>
                <a:latin typeface="Arial"/>
              </a:rPr>
              <a:t>Indicaciones para referir a especialista</a:t>
            </a:r>
            <a:endParaRPr b="0" lang="en-US" sz="40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Enfisema buloso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ffffff"/>
                </a:solidFill>
                <a:latin typeface="Times New Roman"/>
              </a:rPr>
              <a:t>Para evaluar posibles candidatos para cirugía</a:t>
            </a: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EPOC en &lt; de 50 años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ffffff"/>
                </a:solidFill>
                <a:latin typeface="Times New Roman"/>
              </a:rPr>
              <a:t>Para identificar déficit de </a:t>
            </a:r>
            <a:r>
              <a:rPr b="1" i="1" lang="es-CL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i="1" lang="es-CL" sz="2000" spc="-1" strike="noStrike">
                <a:solidFill>
                  <a:srgbClr val="ffffff"/>
                </a:solidFill>
                <a:latin typeface="Times New Roman"/>
              </a:rPr>
              <a:t> 1 antitripsina</a:t>
            </a: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Síntomas desproporcionado a resultado de función pulmonar 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ffffff"/>
                </a:solidFill>
                <a:latin typeface="Times New Roman"/>
              </a:rPr>
              <a:t>Para buscar otras explicaciones </a:t>
            </a: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Infecciones o exacerbaciones frecuentes 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ffffff"/>
                </a:solidFill>
                <a:latin typeface="Times New Roman"/>
              </a:rPr>
              <a:t>Para descartar bronquiectasias y decidir otras terapias</a:t>
            </a: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171440" y="609120"/>
            <a:ext cx="7439040" cy="42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4400" spc="-1" strike="noStrike">
                <a:solidFill>
                  <a:srgbClr val="ffff00"/>
                </a:solidFill>
                <a:latin typeface="Times New Roman"/>
                <a:ea typeface="华文仿宋"/>
              </a:rPr>
              <a:t>Desafíos y perspectivas</a:t>
            </a: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076960" cy="51116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ffffff"/>
                </a:solidFill>
                <a:latin typeface="Times New Roman"/>
              </a:rPr>
              <a:t>Disminuir la prevalencia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ffffff"/>
                </a:solidFill>
                <a:latin typeface="Times New Roman"/>
              </a:rPr>
              <a:t>Combatir el tabaquismo</a:t>
            </a: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ffffff"/>
                </a:solidFill>
                <a:latin typeface="Times New Roman"/>
              </a:rPr>
              <a:t>Mejorar el pronóstico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ffffff"/>
                </a:solidFill>
                <a:latin typeface="Times New Roman"/>
              </a:rPr>
              <a:t>Diagnóstico precoz: espirometría</a:t>
            </a: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ffffff"/>
                </a:solidFill>
                <a:latin typeface="Times New Roman"/>
              </a:rPr>
              <a:t>Mejorar la calidad de vida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ffffff"/>
                </a:solidFill>
                <a:latin typeface="Times New Roman"/>
              </a:rPr>
              <a:t>Tratamiento broncodilatador óptimo</a:t>
            </a: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ffffff"/>
                </a:solidFill>
                <a:latin typeface="Times New Roman"/>
              </a:rPr>
              <a:t>Tratamiento precoz de exacerbaciones</a:t>
            </a: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ffffff"/>
                </a:solidFill>
                <a:latin typeface="Times New Roman"/>
              </a:rPr>
              <a:t>Rehabilitación pulmonar.</a:t>
            </a: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ffffff"/>
                </a:solidFill>
                <a:latin typeface="Times New Roman"/>
              </a:rPr>
              <a:t>Prolongar la sobrevida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ffffff"/>
                </a:solidFill>
                <a:latin typeface="Times New Roman"/>
              </a:rPr>
              <a:t>Oxigenoterapia en etapa avanzada</a:t>
            </a: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d467"/>
                </a:solidFill>
                <a:latin typeface="Arial"/>
              </a:rPr>
              <a:t>Definición de EPOC</a:t>
            </a: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La EPOC es una enfermedad </a:t>
            </a:r>
            <a:r>
              <a:rPr b="1" i="1" lang="es-CL" sz="2800" spc="-1" strike="noStrike">
                <a:solidFill>
                  <a:srgbClr val="fab300"/>
                </a:solidFill>
                <a:latin typeface="Times New Roman"/>
              </a:rPr>
              <a:t>prevenible</a:t>
            </a: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 y tratable con consecuencias extrapulmonares que contribuyen a su gravedad 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Se caracteriza por Limitaci</a:t>
            </a:r>
            <a:r>
              <a:rPr b="1" i="1" lang="es-CL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ón del flujo </a:t>
            </a:r>
            <a:r>
              <a:rPr b="1" i="1" lang="es-CL" sz="2800" spc="-1" strike="noStrike">
                <a:solidFill>
                  <a:srgbClr val="fab300"/>
                </a:solidFill>
                <a:latin typeface="Times New Roman"/>
                <a:ea typeface="ＭＳ Ｐゴシック"/>
              </a:rPr>
              <a:t>que no es reversible 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La limitaci</a:t>
            </a:r>
            <a:r>
              <a:rPr b="1" i="1" lang="es-CL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ón del flujo aéreo es usualmente progresiva y se asocia a una respuesta inflamatoria anormal del pulmón a la inhalación de gases, principalmente </a:t>
            </a:r>
            <a:r>
              <a:rPr b="1" i="1" lang="es-CL" sz="2800" spc="-1" strike="noStrike">
                <a:solidFill>
                  <a:srgbClr val="fab300"/>
                </a:solidFill>
                <a:latin typeface="Times New Roman"/>
                <a:ea typeface="ＭＳ Ｐゴシック"/>
              </a:rPr>
              <a:t>humo del tabaco</a:t>
            </a:r>
            <a:r>
              <a:rPr b="1" i="1" lang="es-CL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7207200" y="627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2243160" y="166680"/>
            <a:ext cx="4660920" cy="652788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7381800" y="6678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2243160" y="166680"/>
            <a:ext cx="4660920" cy="652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2249640" y="179280"/>
            <a:ext cx="4647960" cy="650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2262240" y="223920"/>
            <a:ext cx="4622760" cy="641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3" name=""/>
          <p:cNvGraphicFramePr/>
          <p:nvPr/>
        </p:nvGraphicFramePr>
        <p:xfrm>
          <a:off x="3265560" y="2598840"/>
          <a:ext cx="2289240" cy="255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65560" y="2598840"/>
                    <a:ext cx="2289240" cy="255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5" name=""/>
          <p:cNvSpPr/>
          <p:nvPr/>
        </p:nvSpPr>
        <p:spPr>
          <a:xfrm>
            <a:off x="592200" y="361800"/>
            <a:ext cx="8128080" cy="201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66"/>
                </a:solidFill>
                <a:latin typeface="Arial"/>
              </a:rPr>
              <a:t>WORLD COPD DAY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66"/>
                </a:solidFill>
                <a:latin typeface="Arial"/>
              </a:rPr>
              <a:t>November 14, 2007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57200" y="5759280"/>
            <a:ext cx="82296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ahoma"/>
              </a:rPr>
              <a:t>Raising COPD Awareness Worldwid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d467"/>
                </a:solidFill>
                <a:latin typeface="Arial"/>
              </a:rPr>
              <a:t>EPOC</a:t>
            </a: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813120" cy="4267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Enfermedad con LCFA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Usualmente progresiva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Causa principal : Tabaco 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( humo de leña)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775040" y="1857240"/>
            <a:ext cx="3603960" cy="3591000"/>
          </a:xfrm>
          <a:prstGeom prst="rect">
            <a:avLst/>
          </a:prstGeom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99640" y="188640"/>
            <a:ext cx="7185240" cy="1243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467"/>
                </a:solidFill>
                <a:latin typeface="Arial"/>
              </a:rPr>
              <a:t>ESPIROMETRIA </a:t>
            </a: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0" y="1341360"/>
          <a:ext cx="9144000" cy="51055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41360"/>
                    <a:ext cx="914400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3840" cy="1492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d4b158"/>
                </a:solidFill>
                <a:latin typeface="Arial"/>
              </a:rPr>
              <a:t>     </a:t>
            </a:r>
            <a:r>
              <a:rPr b="1" i="1" lang="es-ES_tradnl" sz="3200" spc="-1" strike="noStrike">
                <a:solidFill>
                  <a:srgbClr val="ffff00"/>
                </a:solidFill>
                <a:latin typeface="Times New Roman"/>
              </a:rPr>
              <a:t>Clasificación de gravedad</a:t>
            </a:r>
            <a:br>
              <a:rPr sz="3200"/>
            </a:br>
            <a:r>
              <a:rPr b="1" i="1" lang="es-ES_tradnl" sz="3200" spc="-1" strike="noStrike">
                <a:solidFill>
                  <a:srgbClr val="ffff00"/>
                </a:solidFill>
                <a:latin typeface="Times New Roman"/>
              </a:rPr>
              <a:t>de la EPOC según </a:t>
            </a:r>
            <a:r>
              <a:rPr b="1" i="1" lang="es-ES_tradnl" sz="3200" spc="-1" strike="noStrike">
                <a:solidFill>
                  <a:srgbClr val="ffff00"/>
                </a:solidFill>
                <a:latin typeface="Times New Roman"/>
                <a:ea typeface="ＭＳ Ｐゴシック"/>
              </a:rPr>
              <a:t>espirometría </a:t>
            </a:r>
            <a:br>
              <a:rPr sz="3200"/>
            </a:br>
            <a:r>
              <a:rPr b="1" i="1" lang="es-ES_tradnl" sz="1400" spc="-1" strike="noStrike">
                <a:solidFill>
                  <a:srgbClr val="ffff00"/>
                </a:solidFill>
                <a:latin typeface="Times New Roman"/>
              </a:rPr>
              <a:t>Clasificación de GOLD</a:t>
            </a:r>
            <a:endParaRPr b="0" lang="en-US" sz="1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9280" y="1828800"/>
            <a:ext cx="8153640" cy="5029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c88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c88f00"/>
                </a:solidFill>
                <a:latin typeface="Times New Roman"/>
              </a:rPr>
              <a:t>Estadio 0:</a:t>
            </a:r>
            <a:r>
              <a:rPr b="1" i="1" lang="es-ES_tradnl" sz="1800" spc="-1" strike="noStrike">
                <a:solidFill>
                  <a:srgbClr val="ffffff"/>
                </a:solidFill>
                <a:latin typeface="Times New Roman"/>
              </a:rPr>
              <a:t> Tos crónica. Función pulmonar normal ( en riesgo ) </a:t>
            </a:r>
            <a:r>
              <a:rPr b="1" i="1" lang="es-ES_tradnl" sz="1800" spc="-1" strike="noStrike">
                <a:solidFill>
                  <a:srgbClr val="ff0000"/>
                </a:solidFill>
                <a:latin typeface="Times New Roman"/>
              </a:rPr>
              <a:t>( esta etapa se retir</a:t>
            </a:r>
            <a:r>
              <a:rPr b="1" i="1" lang="es-ES_tradnl" sz="1800" spc="-1" strike="noStrike">
                <a:solidFill>
                  <a:srgbClr val="ff0000"/>
                </a:solidFill>
                <a:latin typeface="Times New Roman"/>
                <a:ea typeface="ＭＳ Ｐゴシック"/>
              </a:rPr>
              <a:t>ó actualmente) </a:t>
            </a:r>
            <a:endParaRPr b="1" i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c88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c88f00"/>
                </a:solidFill>
                <a:latin typeface="Times New Roman"/>
              </a:rPr>
              <a:t>Estadio I:</a:t>
            </a:r>
            <a:r>
              <a:rPr b="1" i="1" lang="es-ES_tradnl" sz="1800" spc="-1" strike="noStrike">
                <a:solidFill>
                  <a:srgbClr val="ffffff"/>
                </a:solidFill>
                <a:latin typeface="Times New Roman"/>
              </a:rPr>
              <a:t> EPOC leve</a:t>
            </a:r>
            <a:endParaRPr b="1" i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VEF1/CVF &lt; 70%. VEF&gt; 80%</a:t>
            </a:r>
            <a:endParaRPr b="1" i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c88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c88f00"/>
                </a:solidFill>
                <a:latin typeface="Times New Roman"/>
              </a:rPr>
              <a:t>Estadio II:</a:t>
            </a:r>
            <a:r>
              <a:rPr b="1" i="1" lang="es-ES_tradnl" sz="1800" spc="-1" strike="noStrike">
                <a:solidFill>
                  <a:srgbClr val="ffffff"/>
                </a:solidFill>
                <a:latin typeface="Times New Roman"/>
              </a:rPr>
              <a:t> EPOC moderado. Disnea de esfuerzo</a:t>
            </a:r>
            <a:endParaRPr b="1" i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50% &lt; VEF1 &lt; 80%</a:t>
            </a:r>
            <a:endParaRPr b="1" i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c88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c88f00"/>
                </a:solidFill>
                <a:latin typeface="Times New Roman"/>
              </a:rPr>
              <a:t>Estadio III:</a:t>
            </a:r>
            <a:r>
              <a:rPr b="1" i="1" lang="es-ES_tradnl" sz="1800" spc="-1" strike="noStrike">
                <a:solidFill>
                  <a:srgbClr val="ffffff"/>
                </a:solidFill>
                <a:latin typeface="Times New Roman"/>
              </a:rPr>
              <a:t> EPOC grave. Progresión de disnea. Exacerbaciones </a:t>
            </a:r>
            <a:endParaRPr b="1" i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30% &lt; VEF1 &lt; 50%</a:t>
            </a:r>
            <a:r>
              <a:rPr b="1" i="1" lang="es-ES_tradnl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1" i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c88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c88f00"/>
                </a:solidFill>
                <a:latin typeface="Times New Roman"/>
              </a:rPr>
              <a:t>Estadio IV:</a:t>
            </a:r>
            <a:r>
              <a:rPr b="1" i="1" lang="es-ES_tradnl" sz="1800" spc="-1" strike="noStrike">
                <a:solidFill>
                  <a:srgbClr val="ffffff"/>
                </a:solidFill>
                <a:latin typeface="Times New Roman"/>
              </a:rPr>
              <a:t> EPOC muy grave.I Respiratoria Cronica. Afecta calidad de vida</a:t>
            </a:r>
            <a:endParaRPr b="1" i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VEF1 &lt; 30%</a:t>
            </a:r>
            <a:endParaRPr b="1" i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4T05:15:16Z</dcterms:created>
  <dc:creator>Jaime Escobar D</dc:creator>
  <dc:description/>
  <dc:language>en-US</dc:language>
  <cp:lastModifiedBy>Laura Mendoza</cp:lastModifiedBy>
  <dcterms:modified xsi:type="dcterms:W3CDTF">2007-08-05T01:12:33Z</dcterms:modified>
  <cp:revision>68</cp:revision>
  <dc:subject/>
  <dc:title>EPOC </dc:title>
</cp:coreProperties>
</file>