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11.pct" ContentType="image/x-pict"/>
  <Override PartName="/ppt/media/image9.jpeg" ContentType="image/jpeg"/>
  <Override PartName="/ppt/media/image12.pct" ContentType="image/x-pict"/>
  <Override PartName="/ppt/media/image7.pct" ContentType="image/x-pict"/>
  <Override PartName="/ppt/media/image10.pct" ContentType="image/x-pict"/>
  <Override PartName="/ppt/media/image6.jpeg" ContentType="image/jpeg"/>
  <Override PartName="/ppt/media/image8.gif" ContentType="image/gif"/>
  <Override PartName="/ppt/media/image24.pct" ContentType="image/x-pict"/>
  <Override PartName="/ppt/media/image3.png" ContentType="image/png"/>
  <Override PartName="/ppt/media/image17.jpeg" ContentType="image/jpeg"/>
  <Override PartName="/ppt/media/image26.png" ContentType="image/png"/>
  <Override PartName="/ppt/media/image23.pct" ContentType="image/x-pict"/>
  <Override PartName="/ppt/media/image21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6.png" ContentType="image/png"/>
  <Override PartName="/ppt/media/image2.pct" ContentType="image/x-pict"/>
  <Override PartName="/ppt/media/image25.pct" ContentType="image/x-pict"/>
  <Override PartName="/ppt/media/image15.png" ContentType="image/png"/>
  <Override PartName="/ppt/media/image14.jpeg" ContentType="image/jpe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A5DB-73EA-4C3E-8F28-75ACD4CE29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iagnosis of COPD should be considered in any patient who has cough, sputum production, or dyspnea and/or a history of exposure to risk factors.  The diagnosis is confirmed by spiromet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help identify individuals earlier in the course of disease, spirometry should be performed for patients who have chronic cough and sputum production even if they do not have dyspne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irometry is the best way to diagnose COPD and to monitor its progression and health care workers to care for COPD patients should have assess to spiromet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11320" y="654120"/>
            <a:ext cx="4651200" cy="3487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22320" y="4358880"/>
            <a:ext cx="5030640" cy="40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tion of total personal exposure to tobacco smoke, occupational dusts and chemicals, and indoor and outdoor air pollutants are important goals to prevent the onset and progression of COP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cessation is the single most effective - and cost effective - intervention to reduce the risk of developing COPD and stop its pro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a5ff4b"/>
              </a:buClr>
              <a:buFont typeface="Agfa Rotis Semisan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tobacco dependence treatment is effective, and every tobacco user should be offered at least this treatment at every visit to a health care provi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a5ff4b"/>
              </a:buClr>
              <a:buFont typeface="Agfa Rotis Semisan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types of counseling are especially effective: practical counseling, social support as part of treatment, and social support arranged outside of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510-FDF5-4EFB-82AF-E3A3A413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BE4-093C-4CD3-A517-76B06B6A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CB9-296F-4D5C-94F8-F6B68B0B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57C-E4B8-4C67-9B40-B06FA169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8A21-B000-495F-A43C-D42ED197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664A-AFF1-4FBE-BC3C-D1B939B3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71CB-0A60-4571-BEFE-490F25AD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7A24-8053-4C19-97B8-29687AA5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15F8-82BC-4F37-BCFF-0F733820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DF12-440B-4E38-978D-13E28679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C479-604B-4F2C-BEAD-CCF40EA4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C01-75D4-4A64-A647-5BEF7904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4038-8B5C-4F85-84B4-3DA94CD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5F17-0C92-40E2-AECD-FD5A3693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78A8-A8E0-4A27-8326-4B1FC41B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96A-70E9-445C-92D2-FA572FC9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1829-64F5-48A5-A6C4-2A33BA7E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C65-1289-4392-8933-0BC139AF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3AF-0A21-475E-87AB-2E29595C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F93-F95A-40FA-B77F-EF45EEC2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133-ACDA-4DD0-BEF8-30FAAF56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721-AE88-468E-B233-EDDA952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068-59E1-4718-99F7-4D08FDEB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FDF-D4DA-40CF-AC31-98C9448D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B94A-18D2-452C-8314-F482E12F4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1DD2-BBA3-4824-9DED-D15787C9D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d467"/>
                </a:solidFill>
                <a:latin typeface="Arial"/>
              </a:rPr>
              <a:t>EPOC AMBULATORIO</a:t>
            </a: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47239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Dra. Laura Mendoza I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Sección respiratori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Hospital Clínico Universidad de Chil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4008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45336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17160" y="312840"/>
            <a:ext cx="53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At Risk” for COP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6160" y="1735200"/>
            <a:ext cx="8834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D includes four stages of severity classified by spiromet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fth category-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ge 0: At Ris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that appeared in the 2001 report is no longer included as a stage of COPD, as there is incomplete evidence that the individuals who meet the definition of “At Risk” (chronic cough and sputum production, normal spirometry) necessarily progress on t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ge I: Mild COP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ublic health message is that chronic cough and sputum are not normal remains important  - their presence should trigger a search for underlying cause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7080" y="90360"/>
            <a:ext cx="718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lassification of COPD Seve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y Spiromet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680" y="1735200"/>
            <a:ext cx="830556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:   Mild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80% predic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I:  Moderat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%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80%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II: Sever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%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50%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V: Very Sever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30% predicte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50% predicte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l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 respiratory fail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PIDEMIOLOGI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LTA PREVALENCIA MUNDIA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2° LUGAR COMO CAUSA DE INVALIDEZ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4° CAUSA DE MUERT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evalencia de la EPOC n latinoam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  <a:ea typeface="ＭＳ Ｐゴシック"/>
              </a:rPr>
              <a:t>éric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304812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a frecuencia de relaci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VEF1/CVF post broncodilatador &lt; 0.70 aumenta progresivamente con l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dad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 5 ciudades latinoamerican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5029200" cy="3929040"/>
          </a:xfrm>
          <a:prstGeom prst="rect">
            <a:avLst/>
          </a:prstGeom>
          <a:ln w="28440">
            <a:solidFill>
              <a:srgbClr val="cc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806760" y="6248520"/>
            <a:ext cx="32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Menezes AM et al.  </a:t>
            </a:r>
            <a:r>
              <a:rPr b="0" i="1" lang="en-US" sz="1600" spc="-1" strike="noStrike">
                <a:solidFill>
                  <a:srgbClr val="ffd467"/>
                </a:solidFill>
                <a:latin typeface="Tahoma"/>
              </a:rPr>
              <a:t>Lancet </a:t>
            </a: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4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4040" y="2343240"/>
            <a:ext cx="7894440" cy="3806640"/>
          </a:xfrm>
          <a:prstGeom prst="rect">
            <a:avLst/>
          </a:prstGeom>
          <a:gradFill rotWithShape="0">
            <a:gsLst>
              <a:gs pos="0">
                <a:srgbClr val="0097a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52320" y="247320"/>
            <a:ext cx="706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1192"/>
                </a:solidFill>
                <a:latin typeface="Tahoma"/>
              </a:rPr>
              <a:t>Percent Change in Age-Adjusted Death Rates, U.S., 1965-1998</a:t>
            </a:r>
            <a:endParaRPr b="0" lang="en-US" sz="36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960" y="5991120"/>
            <a:ext cx="1270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520" y="538812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520" y="473400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5520" y="410544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5520" y="347652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5520" y="284796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20" y="221940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6040" y="1873080"/>
            <a:ext cx="274788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rtion of 1965 R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01640" y="2282760"/>
          <a:ext cx="811044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282760"/>
                    <a:ext cx="811044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8438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000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046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796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5572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652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5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8324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6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5032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5760" y="5792760"/>
            <a:ext cx="801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+16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54320" y="57927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8920" y="2496960"/>
            <a:ext cx="113292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oron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He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5200" y="2496960"/>
            <a:ext cx="793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34960" y="2496960"/>
            <a:ext cx="12884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Other CV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73480" y="2496960"/>
            <a:ext cx="736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76040" y="2496960"/>
            <a:ext cx="10753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All 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a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76960" y="6546960"/>
            <a:ext cx="37670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our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 NHLBI/NIH/DH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875480" cy="617220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54" name=""/>
          <p:cNvSpPr/>
          <p:nvPr/>
        </p:nvSpPr>
        <p:spPr>
          <a:xfrm>
            <a:off x="552600" y="5970600"/>
            <a:ext cx="22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mal A. et al. 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JAM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81080"/>
            <a:ext cx="30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6 principales caus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 muerte en EEU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sde 197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asta el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962520"/>
            <a:ext cx="1447920" cy="6094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54200" y="210960"/>
            <a:ext cx="672768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467"/>
                </a:solidFill>
                <a:latin typeface="Tahoma"/>
                <a:ea typeface="ＭＳ Ｐゴシック"/>
              </a:rPr>
              <a:t>COPD Mortality by Gender,</a:t>
            </a:r>
            <a:br>
              <a:rPr sz="4000"/>
            </a:br>
            <a:r>
              <a:rPr b="0" lang="en-US" sz="3200" spc="-1" strike="noStrike">
                <a:solidFill>
                  <a:srgbClr val="ffd467"/>
                </a:solidFill>
                <a:latin typeface="Tahoma"/>
                <a:ea typeface="ＭＳ Ｐゴシック"/>
              </a:rPr>
              <a:t>U.S., 1980-2000</a:t>
            </a:r>
            <a:endParaRPr b="0" lang="en-US" sz="3200" spc="-1" strike="noStrike">
              <a:solidFill>
                <a:srgbClr val="ffd467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2001960"/>
          <a:ext cx="831852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01960"/>
                    <a:ext cx="8318520" cy="4378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55" dir="27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 rot="16200000">
            <a:off x="-1374480" y="3510000"/>
            <a:ext cx="4038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Number Deaths x 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747800" y="2838240"/>
            <a:ext cx="4770360" cy="11286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098800" y="2803320"/>
            <a:ext cx="4789440" cy="22510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886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13716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447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6437160"/>
            <a:ext cx="5845320" cy="580680"/>
          </a:xfrm>
          <a:prstGeom prst="rect">
            <a:avLst/>
          </a:prstGeom>
          <a:solidFill>
            <a:srgbClr val="4e1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Source: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 Centers for Disease Control and Prevention, 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CAUSAS DE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TABAQUISMO : MAS DEL 90%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Inhalación humo de leñ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Factores genético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éficit de alfa 1 antitripsina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tros Factore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Socioeconómico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tras exposiciones: cadmio, sílice ??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Ambiente, infecciones, etc ??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Principal factor d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riesgo (90%)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15 % de los fumador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desarrolla EPOC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(factores genéticos, ambientales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737080" cy="2560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abaquismo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00"/>
                </a:solidFill>
                <a:uFillTx/>
                <a:latin typeface="Times New Roman"/>
              </a:rPr>
              <a:t>Déficit alfa 1-antitripsina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1% de los casos de EPOC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ntaminación ambiental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rovoca o agrava síntomas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ol etiológico no demostrad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Exposición a humo de leña intradomiciliario: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demostrado , medio rural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CAUSAS DE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Objetivo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y clasificación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Impacto de la EPOC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Factores de riesg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tiopatogenia de la EPOC y Fisiopatología de la EPOC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íntomas y signos de la EPOC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Consideraciones pr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ctica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848720" cy="4859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05120" y="30492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Risk Factors for COP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2057400"/>
            <a:ext cx="1905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2895480"/>
            <a:ext cx="1905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nf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657600"/>
            <a:ext cx="266688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ocio-economic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748480"/>
            <a:ext cx="5715000" cy="825120"/>
          </a:xfrm>
          <a:prstGeom prst="rect">
            <a:avLst/>
          </a:prstGeom>
          <a:solidFill>
            <a:srgbClr val="ffffcc"/>
          </a:solidFill>
          <a:ln w="5724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ging Popul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3A1-503A-4F84-871E-C28082B89B2D}" type="slidenum">
              <a:t>20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445600" cy="533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959520" cy="514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43800" y="457200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447920"/>
            <a:ext cx="7621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19051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13200" y="644832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45600" cy="533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22680" y="646128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36600" y="1568520"/>
            <a:ext cx="8470800" cy="3720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848720" y="39625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45600" cy="533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22680" y="646128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721640" cy="3429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15328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39625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e de tabaquismo : </a:t>
            </a:r>
            <a:br>
              <a:rPr sz="4000"/>
            </a:b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Paquetes-año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785080" cy="4674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N° de cigarrillos al día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 x años de fumador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20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POC = &gt; 20 paquetes -añ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( MUJERES: &gt; 15 paquete –año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5327640" cy="3210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4175280"/>
            <a:ext cx="38862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Histopat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esión destructiva de alvéolos: enfis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Inflamación crónica de la vía aérea pequeña                                                                       ( bronquiol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d4b15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TIOPATOGENIA DE LA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89280" y="307800"/>
            <a:ext cx="610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6320" y="81000"/>
            <a:ext cx="11397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92600" y="2286000"/>
            <a:ext cx="379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51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5840" y="98280"/>
            <a:ext cx="668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pirometry:  Normal and Patients with COP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17440" y="1501920"/>
            <a:ext cx="6697800" cy="53305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Síntoma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s precoces y medias : </a:t>
            </a:r>
            <a:r>
              <a:rPr b="1" i="1" lang="es-ES" sz="3200" spc="-1" strike="noStrike">
                <a:solidFill>
                  <a:srgbClr val="c88f00"/>
                </a:solidFill>
                <a:latin typeface="Times New Roman"/>
              </a:rPr>
              <a:t>ASINTOMÁTIC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88f00"/>
                </a:solidFill>
                <a:latin typeface="Times New Roman"/>
              </a:rPr>
              <a:t>TOS Y EXPECTORACION CRONICA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 mas avanzad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isnea progresiva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grandes esfuerzos </a:t>
            </a:r>
            <a:r>
              <a:rPr b="1" i="1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medianos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sfuerzos </a:t>
            </a:r>
            <a:r>
              <a:rPr b="1" i="1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mínimos esfuerz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Disminución de la tolerancia al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jercici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Deterioro de la calidad de vid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LCF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Concepto fisiopatológic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Obstrucción irreversible del flujo aére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spirometrí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VEF1/CVF bajo LI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VEF1 bajo LI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No se normaliza con el 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Examen físico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Generalmente norma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s avanzada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Aumento de volumen torácic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Baja de pes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Signos de aumento del esfuerzo inspiratori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Uso de musculatura accesoria inspirator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spiración activa,uso de musculatura abdomin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Respiración alternante y paradojal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Fijación  de la cintura escapul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19280" y="333360"/>
          <a:ext cx="508932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33360"/>
                    <a:ext cx="508932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0920" y="30492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5240" y="5645160"/>
            <a:ext cx="3520800" cy="836640"/>
          </a:xfrm>
          <a:custGeom>
            <a:avLst/>
            <a:gdLst/>
            <a:ahLst/>
            <a:rect l="l" t="t" r="r" b="b"/>
            <a:pathLst>
              <a:path w="2496" h="527">
                <a:moveTo>
                  <a:pt x="79" y="0"/>
                </a:moveTo>
                <a:lnTo>
                  <a:pt x="62" y="2"/>
                </a:lnTo>
                <a:lnTo>
                  <a:pt x="48" y="8"/>
                </a:lnTo>
                <a:lnTo>
                  <a:pt x="35" y="16"/>
                </a:lnTo>
                <a:lnTo>
                  <a:pt x="23" y="26"/>
                </a:lnTo>
                <a:lnTo>
                  <a:pt x="14" y="40"/>
                </a:lnTo>
                <a:lnTo>
                  <a:pt x="7" y="54"/>
                </a:lnTo>
                <a:lnTo>
                  <a:pt x="1" y="70"/>
                </a:lnTo>
                <a:lnTo>
                  <a:pt x="0" y="89"/>
                </a:lnTo>
                <a:lnTo>
                  <a:pt x="0" y="440"/>
                </a:lnTo>
                <a:lnTo>
                  <a:pt x="1" y="458"/>
                </a:lnTo>
                <a:lnTo>
                  <a:pt x="7" y="475"/>
                </a:lnTo>
                <a:lnTo>
                  <a:pt x="14" y="489"/>
                </a:lnTo>
                <a:lnTo>
                  <a:pt x="23" y="503"/>
                </a:lnTo>
                <a:lnTo>
                  <a:pt x="35" y="513"/>
                </a:lnTo>
                <a:lnTo>
                  <a:pt x="48" y="521"/>
                </a:lnTo>
                <a:lnTo>
                  <a:pt x="62" y="525"/>
                </a:lnTo>
                <a:lnTo>
                  <a:pt x="79" y="527"/>
                </a:lnTo>
                <a:lnTo>
                  <a:pt x="2419" y="527"/>
                </a:lnTo>
                <a:lnTo>
                  <a:pt x="2435" y="525"/>
                </a:lnTo>
                <a:lnTo>
                  <a:pt x="2449" y="521"/>
                </a:lnTo>
                <a:lnTo>
                  <a:pt x="2462" y="513"/>
                </a:lnTo>
                <a:lnTo>
                  <a:pt x="2475" y="503"/>
                </a:lnTo>
                <a:lnTo>
                  <a:pt x="2484" y="489"/>
                </a:lnTo>
                <a:lnTo>
                  <a:pt x="2491" y="475"/>
                </a:lnTo>
                <a:lnTo>
                  <a:pt x="2494" y="458"/>
                </a:lnTo>
                <a:lnTo>
                  <a:pt x="2496" y="440"/>
                </a:lnTo>
                <a:lnTo>
                  <a:pt x="2496" y="89"/>
                </a:lnTo>
                <a:lnTo>
                  <a:pt x="2494" y="70"/>
                </a:lnTo>
                <a:lnTo>
                  <a:pt x="2491" y="54"/>
                </a:lnTo>
                <a:lnTo>
                  <a:pt x="2484" y="40"/>
                </a:lnTo>
                <a:lnTo>
                  <a:pt x="2475" y="26"/>
                </a:lnTo>
                <a:lnTo>
                  <a:pt x="2462" y="16"/>
                </a:lnTo>
                <a:lnTo>
                  <a:pt x="2449" y="8"/>
                </a:lnTo>
                <a:lnTo>
                  <a:pt x="2435" y="2"/>
                </a:lnTo>
                <a:lnTo>
                  <a:pt x="2419" y="0"/>
                </a:lnTo>
                <a:lnTo>
                  <a:pt x="79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130480"/>
            <a:ext cx="3638520" cy="2206440"/>
          </a:xfrm>
          <a:custGeom>
            <a:avLst/>
            <a:gdLst/>
            <a:ahLst/>
            <a:rect l="l" t="t" r="r" b="b"/>
            <a:pathLst>
              <a:path w="1664" h="1390">
                <a:moveTo>
                  <a:pt x="206" y="0"/>
                </a:moveTo>
                <a:lnTo>
                  <a:pt x="185" y="2"/>
                </a:lnTo>
                <a:lnTo>
                  <a:pt x="165" y="4"/>
                </a:lnTo>
                <a:lnTo>
                  <a:pt x="145" y="10"/>
                </a:lnTo>
                <a:lnTo>
                  <a:pt x="125" y="18"/>
                </a:lnTo>
                <a:lnTo>
                  <a:pt x="91" y="38"/>
                </a:lnTo>
                <a:lnTo>
                  <a:pt x="61" y="67"/>
                </a:lnTo>
                <a:lnTo>
                  <a:pt x="35" y="101"/>
                </a:lnTo>
                <a:lnTo>
                  <a:pt x="16" y="141"/>
                </a:lnTo>
                <a:lnTo>
                  <a:pt x="8" y="161"/>
                </a:lnTo>
                <a:lnTo>
                  <a:pt x="3" y="184"/>
                </a:lnTo>
                <a:lnTo>
                  <a:pt x="1" y="206"/>
                </a:lnTo>
                <a:lnTo>
                  <a:pt x="0" y="230"/>
                </a:lnTo>
                <a:lnTo>
                  <a:pt x="0" y="1160"/>
                </a:lnTo>
                <a:lnTo>
                  <a:pt x="1" y="1184"/>
                </a:lnTo>
                <a:lnTo>
                  <a:pt x="3" y="1206"/>
                </a:lnTo>
                <a:lnTo>
                  <a:pt x="8" y="1228"/>
                </a:lnTo>
                <a:lnTo>
                  <a:pt x="16" y="1249"/>
                </a:lnTo>
                <a:lnTo>
                  <a:pt x="35" y="1289"/>
                </a:lnTo>
                <a:lnTo>
                  <a:pt x="61" y="1323"/>
                </a:lnTo>
                <a:lnTo>
                  <a:pt x="91" y="1352"/>
                </a:lnTo>
                <a:lnTo>
                  <a:pt x="125" y="1372"/>
                </a:lnTo>
                <a:lnTo>
                  <a:pt x="145" y="1380"/>
                </a:lnTo>
                <a:lnTo>
                  <a:pt x="165" y="1386"/>
                </a:lnTo>
                <a:lnTo>
                  <a:pt x="185" y="1388"/>
                </a:lnTo>
                <a:lnTo>
                  <a:pt x="206" y="1390"/>
                </a:lnTo>
                <a:lnTo>
                  <a:pt x="1458" y="1390"/>
                </a:lnTo>
                <a:lnTo>
                  <a:pt x="1479" y="1388"/>
                </a:lnTo>
                <a:lnTo>
                  <a:pt x="1499" y="1386"/>
                </a:lnTo>
                <a:lnTo>
                  <a:pt x="1519" y="1380"/>
                </a:lnTo>
                <a:lnTo>
                  <a:pt x="1539" y="1372"/>
                </a:lnTo>
                <a:lnTo>
                  <a:pt x="1573" y="1352"/>
                </a:lnTo>
                <a:lnTo>
                  <a:pt x="1603" y="1323"/>
                </a:lnTo>
                <a:lnTo>
                  <a:pt x="1629" y="1289"/>
                </a:lnTo>
                <a:lnTo>
                  <a:pt x="1648" y="1249"/>
                </a:lnTo>
                <a:lnTo>
                  <a:pt x="1655" y="1228"/>
                </a:lnTo>
                <a:lnTo>
                  <a:pt x="1661" y="1206"/>
                </a:lnTo>
                <a:lnTo>
                  <a:pt x="1663" y="1184"/>
                </a:lnTo>
                <a:lnTo>
                  <a:pt x="1664" y="1160"/>
                </a:lnTo>
                <a:lnTo>
                  <a:pt x="1664" y="230"/>
                </a:lnTo>
                <a:lnTo>
                  <a:pt x="1663" y="206"/>
                </a:lnTo>
                <a:lnTo>
                  <a:pt x="1661" y="184"/>
                </a:lnTo>
                <a:lnTo>
                  <a:pt x="1655" y="161"/>
                </a:lnTo>
                <a:lnTo>
                  <a:pt x="1648" y="141"/>
                </a:lnTo>
                <a:lnTo>
                  <a:pt x="1629" y="101"/>
                </a:lnTo>
                <a:lnTo>
                  <a:pt x="1603" y="67"/>
                </a:lnTo>
                <a:lnTo>
                  <a:pt x="1573" y="38"/>
                </a:lnTo>
                <a:lnTo>
                  <a:pt x="1539" y="18"/>
                </a:lnTo>
                <a:lnTo>
                  <a:pt x="1519" y="10"/>
                </a:lnTo>
                <a:lnTo>
                  <a:pt x="1499" y="4"/>
                </a:lnTo>
                <a:lnTo>
                  <a:pt x="1479" y="2"/>
                </a:lnTo>
                <a:lnTo>
                  <a:pt x="1458" y="0"/>
                </a:lnTo>
                <a:lnTo>
                  <a:pt x="206" y="0"/>
                </a:lnTo>
                <a:close/>
              </a:path>
            </a:pathLst>
          </a:custGeom>
          <a:solidFill>
            <a:srgbClr val="f08f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300400"/>
            <a:ext cx="235116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06360" y="2327400"/>
            <a:ext cx="2029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32960" y="2776680"/>
            <a:ext cx="10645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01200" y="3235320"/>
            <a:ext cx="1282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u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2840" y="3657600"/>
            <a:ext cx="33199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1893960"/>
            <a:ext cx="4419720" cy="2628720"/>
          </a:xfrm>
          <a:custGeom>
            <a:avLst/>
            <a:gdLst/>
            <a:ahLst/>
            <a:rect l="l" t="t" r="r" b="b"/>
            <a:pathLst>
              <a:path w="2496" h="1584">
                <a:moveTo>
                  <a:pt x="235" y="0"/>
                </a:moveTo>
                <a:lnTo>
                  <a:pt x="212" y="2"/>
                </a:lnTo>
                <a:lnTo>
                  <a:pt x="188" y="6"/>
                </a:lnTo>
                <a:lnTo>
                  <a:pt x="165" y="12"/>
                </a:lnTo>
                <a:lnTo>
                  <a:pt x="143" y="20"/>
                </a:lnTo>
                <a:lnTo>
                  <a:pt x="124" y="32"/>
                </a:lnTo>
                <a:lnTo>
                  <a:pt x="104" y="44"/>
                </a:lnTo>
                <a:lnTo>
                  <a:pt x="70" y="77"/>
                </a:lnTo>
                <a:lnTo>
                  <a:pt x="39" y="115"/>
                </a:lnTo>
                <a:lnTo>
                  <a:pt x="28" y="137"/>
                </a:lnTo>
                <a:lnTo>
                  <a:pt x="18" y="159"/>
                </a:lnTo>
                <a:lnTo>
                  <a:pt x="10" y="184"/>
                </a:lnTo>
                <a:lnTo>
                  <a:pt x="5" y="210"/>
                </a:lnTo>
                <a:lnTo>
                  <a:pt x="1" y="236"/>
                </a:lnTo>
                <a:lnTo>
                  <a:pt x="0" y="263"/>
                </a:lnTo>
                <a:lnTo>
                  <a:pt x="0" y="1319"/>
                </a:lnTo>
                <a:lnTo>
                  <a:pt x="1" y="1346"/>
                </a:lnTo>
                <a:lnTo>
                  <a:pt x="5" y="1372"/>
                </a:lnTo>
                <a:lnTo>
                  <a:pt x="10" y="1398"/>
                </a:lnTo>
                <a:lnTo>
                  <a:pt x="18" y="1422"/>
                </a:lnTo>
                <a:lnTo>
                  <a:pt x="28" y="1445"/>
                </a:lnTo>
                <a:lnTo>
                  <a:pt x="39" y="1467"/>
                </a:lnTo>
                <a:lnTo>
                  <a:pt x="70" y="1507"/>
                </a:lnTo>
                <a:lnTo>
                  <a:pt x="104" y="1540"/>
                </a:lnTo>
                <a:lnTo>
                  <a:pt x="124" y="1552"/>
                </a:lnTo>
                <a:lnTo>
                  <a:pt x="143" y="1564"/>
                </a:lnTo>
                <a:lnTo>
                  <a:pt x="165" y="1572"/>
                </a:lnTo>
                <a:lnTo>
                  <a:pt x="188" y="1578"/>
                </a:lnTo>
                <a:lnTo>
                  <a:pt x="212" y="1582"/>
                </a:lnTo>
                <a:lnTo>
                  <a:pt x="235" y="1584"/>
                </a:lnTo>
                <a:lnTo>
                  <a:pt x="2261" y="1584"/>
                </a:lnTo>
                <a:lnTo>
                  <a:pt x="2286" y="1582"/>
                </a:lnTo>
                <a:lnTo>
                  <a:pt x="2309" y="1578"/>
                </a:lnTo>
                <a:lnTo>
                  <a:pt x="2331" y="1572"/>
                </a:lnTo>
                <a:lnTo>
                  <a:pt x="2353" y="1564"/>
                </a:lnTo>
                <a:lnTo>
                  <a:pt x="2374" y="1552"/>
                </a:lnTo>
                <a:lnTo>
                  <a:pt x="2394" y="1540"/>
                </a:lnTo>
                <a:lnTo>
                  <a:pt x="2428" y="1507"/>
                </a:lnTo>
                <a:lnTo>
                  <a:pt x="2457" y="1467"/>
                </a:lnTo>
                <a:lnTo>
                  <a:pt x="2467" y="1445"/>
                </a:lnTo>
                <a:lnTo>
                  <a:pt x="2478" y="1422"/>
                </a:lnTo>
                <a:lnTo>
                  <a:pt x="2485" y="1398"/>
                </a:lnTo>
                <a:lnTo>
                  <a:pt x="2491" y="1372"/>
                </a:lnTo>
                <a:lnTo>
                  <a:pt x="2494" y="1346"/>
                </a:lnTo>
                <a:lnTo>
                  <a:pt x="2496" y="1319"/>
                </a:lnTo>
                <a:lnTo>
                  <a:pt x="2496" y="263"/>
                </a:lnTo>
                <a:lnTo>
                  <a:pt x="2494" y="236"/>
                </a:lnTo>
                <a:lnTo>
                  <a:pt x="2491" y="210"/>
                </a:lnTo>
                <a:lnTo>
                  <a:pt x="2485" y="184"/>
                </a:lnTo>
                <a:lnTo>
                  <a:pt x="2478" y="159"/>
                </a:lnTo>
                <a:lnTo>
                  <a:pt x="2467" y="137"/>
                </a:lnTo>
                <a:lnTo>
                  <a:pt x="2457" y="115"/>
                </a:lnTo>
                <a:lnTo>
                  <a:pt x="2428" y="77"/>
                </a:lnTo>
                <a:lnTo>
                  <a:pt x="2394" y="44"/>
                </a:lnTo>
                <a:lnTo>
                  <a:pt x="2374" y="32"/>
                </a:lnTo>
                <a:lnTo>
                  <a:pt x="2353" y="20"/>
                </a:lnTo>
                <a:lnTo>
                  <a:pt x="2331" y="12"/>
                </a:lnTo>
                <a:lnTo>
                  <a:pt x="2309" y="6"/>
                </a:lnTo>
                <a:lnTo>
                  <a:pt x="2286" y="2"/>
                </a:lnTo>
                <a:lnTo>
                  <a:pt x="2261" y="0"/>
                </a:lnTo>
                <a:lnTo>
                  <a:pt x="235" y="0"/>
                </a:lnTo>
                <a:close/>
              </a:path>
            </a:pathLst>
          </a:custGeom>
          <a:solidFill>
            <a:srgbClr val="f08f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19560" y="1982880"/>
            <a:ext cx="35560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99400" y="2048040"/>
            <a:ext cx="350748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SURE TO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48440" y="2949480"/>
            <a:ext cx="1363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84200" y="3408480"/>
            <a:ext cx="189504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cu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60280" y="3863880"/>
            <a:ext cx="41400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oor/outdoo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65400" y="5742000"/>
            <a:ext cx="34369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48040" y="5789520"/>
            <a:ext cx="30229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PIROM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65400" y="438120"/>
            <a:ext cx="6806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04920"/>
            <a:ext cx="632484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Diagnosis of COP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949200" y="2709720"/>
            <a:ext cx="490320" cy="4157640"/>
          </a:xfrm>
          <a:custGeom>
            <a:avLst/>
            <a:gdLst>
              <a:gd name="textAreaLeft" fmla="*/ 0 w 490320"/>
              <a:gd name="textAreaRight" fmla="*/ 177120 w 490320"/>
              <a:gd name="textAreaTop" fmla="*/ 108360 h 4157640"/>
              <a:gd name="textAreaBottom" fmla="*/ 4049280 h 41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ff4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3889800" y="490140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3875400" y="490140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3877200" y="489204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IAGNOSTICO DIFERENCIAL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SM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CC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RONQUIECTASIA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UEL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UBERCULOSI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RONQUIOLITIS OBLITERANT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NBRONQUIOLITIS DIFUS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HECHOS SUGERENTES DE ASMA EN FASE IRREVERSIBLE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MIENZO ANTES DE LOS 40 AÑ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SENCIA DE TABAQUISMO U OTRA EXPOSICION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RISIS PROVOCADAS POR ALERGENO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LTA VARIABLIDAD ESPIROMETR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VOLUCION INHABITUAL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ratamiento : Objetivo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etener la progres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cuperar parcialmente la func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capacidad fís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isminuir los síntomas ( DISNEA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revenir las exacerb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isminuir las hospitaliz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calidad de vida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sobrevid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ratamiento: fase estable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800748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didas preventiva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tener tabaquism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Vacuna Antiinfluenza, antineumocócica cada 5 añ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ratamiento broncodilatador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calonado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nticolinérgicos ó betaadrenérgic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Uso combinado de anticolinérgicos y betaagonist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Teofilin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rticoides inhalado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Rehabilitaci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66600"/>
            <a:ext cx="715788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Management of Stable CO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Reduce Risk Factors:  Key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5680" y="1866960"/>
            <a:ext cx="86342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duction of total personal exposure to tobacco smoke, occupational dusts and chemicals, and indoor and outdoor air pollutants are important goals to prevent the onset and progression of COPD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b300"/>
                </a:solidFill>
                <a:latin typeface="Tahoma"/>
                <a:ea typeface="ＭＳ Ｐゴシック"/>
              </a:rPr>
              <a:t>Smoking cessation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is the single most effective — and cost effective — intervention in most people to reduce the risk of developing COPD and stop its progression </a:t>
            </a:r>
            <a:r>
              <a:rPr b="0" lang="en-US" sz="3000" spc="-1" strike="noStrike">
                <a:solidFill>
                  <a:srgbClr val="fab300"/>
                </a:solidFill>
                <a:latin typeface="Tahoma"/>
                <a:ea typeface="ＭＳ Ｐゴシック"/>
              </a:rPr>
              <a:t>(Evidence A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0200" y="1560600"/>
            <a:ext cx="8372520" cy="0"/>
          </a:xfrm>
          <a:prstGeom prst="line">
            <a:avLst/>
          </a:prstGeom>
          <a:ln w="28440">
            <a:solidFill>
              <a:srgbClr val="f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CBC-ED6B-45AF-B346-EFC60740E16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Principales causas de LCF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( COPD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sma en fase irreversibl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Bronquiectasi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ecuela de TBC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Fibrosis quístic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Neumoconi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arcoid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792600" y="2286000"/>
            <a:ext cx="379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751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92680" y="79200"/>
            <a:ext cx="76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rief Strategies to Help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atient Willing to Quit Sm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900080"/>
            <a:ext cx="84582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ff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ff4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ff4b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ally identify al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bacco users at every vis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IS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ly urge all tobacc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to q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ASSES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illingness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quit attem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ASSIST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the patient in quit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R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 follow-up cont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0200" y="1560600"/>
            <a:ext cx="8372520" cy="0"/>
          </a:xfrm>
          <a:prstGeom prst="line">
            <a:avLst/>
          </a:prstGeom>
          <a:ln w="28440">
            <a:solidFill>
              <a:srgbClr val="f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42920" y="404640"/>
          <a:ext cx="7632720" cy="6215400"/>
        </p:xfrm>
        <a:graphic>
          <a:graphicData uri="http://schemas.openxmlformats.org/drawingml/2006/table">
            <a:tbl>
              <a:tblPr/>
              <a:tblGrid>
                <a:gridCol w="1165320"/>
                <a:gridCol w="241200"/>
                <a:gridCol w="1090800"/>
                <a:gridCol w="1506600"/>
                <a:gridCol w="1506240"/>
                <a:gridCol w="2122560"/>
              </a:tblGrid>
              <a:tr h="565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TRATAMIENTO DE LA EPOC SEGÚN ESTADI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 En ries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Le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Mode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Sev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Mu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v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  <a:tr h="149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pirometría norm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íntomas crónicos: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s, expector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≥ 80% del valor predicho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% ≤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80% del valor predicho*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% ≤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50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l valor predicho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 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 30% del valor predicho, o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50% con insuficiencia respiratoria crónica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  <a:tr h="3380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vitar los factores de riesgo (tabaco). Vacuna Influenza anu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broncodilatadores de acción corta según necesi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uno o más broncodilatadores de acción prolongada en forma constante, y rehabil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corticoides inhalados si hay exacerbaciones a repeti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oxigenoterapia si hay insuficiencia respiratoria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iderar tratamientos quirúrgi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 de la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vento en el desarrollo natural de la enfermedad caracterizado por un cambio de disnea, tos y/o expectoración basales del paciente mas allá de la variabilidad diaria, suficiente para justificar un cambio de tratamient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 EPOC, bases morfológica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umento de inflamación en vía aére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cúmulo de células inflamatorias y edema de las pared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ducción del lume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Tapones mucocelulares en bronquiolo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tiología de las exacerbacione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xacerbaciones propiamente tal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fecciones virales y bacterianas (80%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ntaminación ambient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cumplimiento de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Defectos en técnica inhalatori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gravaciones por co-morbilidad agregad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Neumon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ánc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TEP, neumotórax, insuficiencia cardíac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: enfoque práctico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116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3 element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Volumen de expectoració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urulenc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isne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6520" y="1828440"/>
            <a:ext cx="38116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Gravedad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Grave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3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ediana 2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Leve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1 síntom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EF&lt; 100l/min ó VEF1 &lt; 1 L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GSA y SaO2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x Tx, ECG, etc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Manejo domiciliario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umento de tratamiento B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osi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Frecuenc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sociac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Corticoides sistémico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ntibióticos ( neumococ, B.catarr, H, Influenzae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de hospitalización en exacerbaciones 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umento muy marcado de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grav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ignos físicos nuevos ( edema, cianosis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ala respuesta a tratamiento médic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morbilidad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rritmias nuev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uda diagnóstic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dad avanzad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al soporte domiciliario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Corticoides sistémicos en EPOC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ff"/>
                </a:solidFill>
                <a:latin typeface="Times New Roman"/>
              </a:rPr>
              <a:t>Efectividad demostrada  en las exacerbaciones 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4b15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d4b158"/>
                </a:solidFill>
                <a:latin typeface="Times New Roman"/>
              </a:rPr>
              <a:t>Evidencia grado 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stadía hospitalar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Intervalo entre exacerb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POC estable: Se recomienda evitar su us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4b15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d4b158"/>
                </a:solidFill>
                <a:latin typeface="Times New Roman"/>
              </a:rPr>
              <a:t>Evidencia grado A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lación costo/beneficio desfavorable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3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0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3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1476360" y="304920"/>
            <a:ext cx="65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MNV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♀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2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6-2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Bronquitis crónic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os y expectoración diar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3 meses por añ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2 años consecutiv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Histopatología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ipertrofia de las glándulas mucos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umento de las células caliciform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0560" y="249228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!No signif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strucción bronquial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71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67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7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1476360" y="304920"/>
            <a:ext cx="65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MNV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♀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2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29-3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4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0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4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990720" y="304920"/>
            <a:ext cx="70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OSS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hombre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0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29-3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752480" y="122400"/>
            <a:ext cx="532296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438280" y="1143000"/>
            <a:ext cx="2616480" cy="459720"/>
          </a:xfrm>
          <a:prstGeom prst="rect">
            <a:avLst/>
          </a:prstGeom>
          <a:solidFill>
            <a:srgbClr val="fab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Chronic hyp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2209680"/>
            <a:ext cx="4572000" cy="45972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Pulmonary vasoconstr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16765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708280"/>
            <a:ext cx="2538360" cy="22140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Muscula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Intim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hyper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Fib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Oblit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2708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649840" y="3089160"/>
            <a:ext cx="60984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49840" y="354636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49840" y="3546360"/>
            <a:ext cx="60984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18240" y="3622680"/>
            <a:ext cx="54144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3394080"/>
            <a:ext cx="3849840" cy="459720"/>
          </a:xfrm>
          <a:prstGeom prst="rect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Pulmonary 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4495680"/>
            <a:ext cx="24577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Cor pulmo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563868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39625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50292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66520" y="5172120"/>
            <a:ext cx="1179000" cy="459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29120" y="4800600"/>
            <a:ext cx="40644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6720" y="210960"/>
            <a:ext cx="5554800" cy="94716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ulmonary Hypertension in COP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6516720"/>
            <a:ext cx="3181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e1192"/>
                </a:solidFill>
                <a:latin typeface="Tahoma"/>
              </a:rPr>
              <a:t>Source</a:t>
            </a:r>
            <a:r>
              <a:rPr b="1" lang="en-US" sz="1400" spc="-1" strike="noStrike">
                <a:solidFill>
                  <a:srgbClr val="4e1192"/>
                </a:solidFill>
                <a:latin typeface="Tahoma"/>
              </a:rPr>
              <a:t>:  Peter J. Barnes, M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Indicación de oxigenoterapi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GSA : VEF1 &lt; 40%  </a:t>
            </a:r>
            <a:r>
              <a:rPr b="1" i="1" lang="es-CL" sz="3200" spc="-1" strike="noStrike">
                <a:solidFill>
                  <a:srgbClr val="ff0000"/>
                </a:solidFill>
                <a:latin typeface="Times New Roman"/>
              </a:rPr>
              <a:t>( ahora &lt; 50%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Oxigenoterapia: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acientes en fase estable, al menos con 1mes de tratamiento y  PaO2 &lt; 55 mmHg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acientes con PaO2 entre 55 y 59 mmHg con signos de disfunción orgánica por hipox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ipertensión pulmon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r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to &gt; 55%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3080" y="601992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Times New Roman"/>
              </a:rPr>
              <a:t>Después de un mes de tratamiento farmacológico  óp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MINISTRACIÓN DE OXÍGENO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205740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ánula bina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lujo necesario para Sa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de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ínimo 15 horas diar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trol mensual de saturación arterial de oxíge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8512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BENEFICIOS DE LA OXIGENOTERAPIA A LARGO PLAZO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921800" cy="4248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Mejora sobre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umenta tolerancia al ejercici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 hospitalizacion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Mejora  estado ment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policitemi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Disminuye arritmias durante el sueñ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o revierte la hipertensión pulmonar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para referir a especialista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uda diagnóst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ala respuesta a 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EPOC sever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ara confirmar diagnóstico y optimizar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corazón pulmonar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ara confirmar diagnóstico y optimizar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necesidad de oxigenoterap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edición de GSA, decisión de indicación y d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para referir a especialista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nfisema bulos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evaluar posibles candidatos para cirugí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en &lt; de 50 añ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identificar déficit de </a:t>
            </a:r>
            <a:r>
              <a:rPr b="1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 1 antitripsin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íntomas desproporcionado a resultado de función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buscar otras explicaciones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fecciones o exacerbaciones frecuente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descartar bronquiectasias y decidir otras terapia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1440" y="609120"/>
            <a:ext cx="7439040" cy="4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00"/>
                </a:solidFill>
                <a:latin typeface="Times New Roman"/>
                <a:ea typeface="华文仿宋"/>
              </a:rPr>
              <a:t>Desafíos y perspectiva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076960" cy="5111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minuir la prevalenc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Combatir el tabaquismo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Mejorar el pronóstic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Diagnóstico precoz: espirometrí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Mejorar la calidad de 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atamiento broncodilatador óptimo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atamiento precoz de exacerbacione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Rehabilitación pulmonar.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Prolongar la sobre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Oxigenoterapia en etapa avanzad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Definición de EPOC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La EPOC es una enfermedad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</a:rPr>
              <a:t>prevenible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y tratable con consecuencias extrapulmonares que contribuyen a su gravedad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e caracteriza por Limita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del flujo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  <a:ea typeface="ＭＳ Ｐゴシック"/>
              </a:rPr>
              <a:t>que no es reversible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La limita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del flujo aéreo es usualmente progresiva y se asocia a una respuesta inflamatoria anormal del pulmón a la inhalación de gases, principalmente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  <a:ea typeface="ＭＳ Ｐゴシック"/>
              </a:rPr>
              <a:t>humo del tabaco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207200" y="627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43160" y="166680"/>
            <a:ext cx="4660920" cy="65278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81800" y="6678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43160" y="166680"/>
            <a:ext cx="466092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249640" y="179280"/>
            <a:ext cx="464796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262240" y="223920"/>
            <a:ext cx="462276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3265560" y="2598840"/>
          <a:ext cx="228924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5560" y="2598840"/>
                    <a:ext cx="2289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92200" y="361800"/>
            <a:ext cx="8128080" cy="201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Arial"/>
              </a:rPr>
              <a:t>WORLD COPD DA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November 14, 200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75928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Raising COPD Awareness Worldw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POC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1312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nfermedad con LCF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Usualmente progresiv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Causa principal : Tabac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( humo de leña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75040" y="1857240"/>
            <a:ext cx="3603960" cy="35910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185240" cy="124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ESPIROMETRI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341360"/>
          <a:ext cx="9144000" cy="51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4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d4b158"/>
                </a:solidFill>
                <a:latin typeface="Arial"/>
              </a:rPr>
              <a:t>     </a:t>
            </a: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Clasificación de gravedad</a:t>
            </a:r>
            <a:br>
              <a:rPr sz="3200"/>
            </a:b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de la EPOC según </a:t>
            </a: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spirometría </a:t>
            </a:r>
            <a:br>
              <a:rPr sz="3200"/>
            </a:br>
            <a:r>
              <a:rPr b="1" i="1" lang="es-ES_tradnl" sz="1400" spc="-1" strike="noStrike">
                <a:solidFill>
                  <a:srgbClr val="ffff00"/>
                </a:solidFill>
                <a:latin typeface="Times New Roman"/>
              </a:rPr>
              <a:t>Clasificación de GOLD</a:t>
            </a:r>
            <a:endParaRPr b="0" lang="en-US" sz="1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828800"/>
            <a:ext cx="815364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0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Tos crónica. Función pulmonar normal ( en riesgo ) 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</a:rPr>
              <a:t>( esta etapa se retir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ó actualmente)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leve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EF1/CVF &lt; 70%. VEF&gt; 8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moderado. Disnea de esfuerzo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50% &lt; VEF1 &lt; 8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I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grave. Progresión de disnea. Exacerbaciones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0% &lt; VEF1 &lt; 50%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V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muy grave.I Respiratoria Cronica. Afecta calidad de vida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EF1 &lt; 3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5:15:16Z</dcterms:created>
  <dc:creator>Jaime Escobar D</dc:creator>
  <dc:description/>
  <dc:language>en-US</dc:language>
  <cp:lastModifiedBy>Laura Mendoza</cp:lastModifiedBy>
  <dcterms:modified xsi:type="dcterms:W3CDTF">2007-08-05T01:12:33Z</dcterms:modified>
  <cp:revision>68</cp:revision>
  <dc:subject/>
  <dc:title>EPOC </dc:title>
</cp:coreProperties>
</file>