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jpeg" ContentType="image/jpeg"/>
  <Override PartName="/ppt/media/image13.wmf" ContentType="image/x-wmf"/>
  <Override PartName="/ppt/media/image36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wmf" ContentType="image/x-wmf"/>
  <Override PartName="/ppt/media/image46.wmf" ContentType="image/x-wmf"/>
  <Override PartName="/ppt/media/image50.png" ContentType="image/png"/>
  <Override PartName="/ppt/media/image52.wmf" ContentType="image/x-wmf"/>
  <Override PartName="/ppt/media/image30.png" ContentType="image/png"/>
  <Override PartName="/ppt/media/image42.png" ContentType="image/png"/>
  <Override PartName="/ppt/media/image53.wmf" ContentType="image/x-wmf"/>
  <Override PartName="/ppt/media/image51.wmf" ContentType="image/x-wmf"/>
  <Override PartName="/ppt/media/image48.png" ContentType="image/png"/>
  <Override PartName="/ppt/media/image11.png" ContentType="image/png"/>
  <Override PartName="/ppt/media/image6.wmf" ContentType="image/x-wmf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38.png" ContentType="image/png"/>
  <Override PartName="/ppt/media/image8.png" ContentType="image/png"/>
  <Override PartName="/ppt/media/image41.wmf" ContentType="image/x-wmf"/>
  <Override PartName="/ppt/media/image7.png" ContentType="image/png"/>
  <Override PartName="/ppt/media/image37.png" ContentType="image/png"/>
  <Override PartName="/ppt/media/image10.png" ContentType="image/pn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95A-387C-47E3-A463-1BE6F1FE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BC6-2A8E-4179-BC13-4620385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693-8BEB-410A-B6C3-5C0BBB04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C71-50D3-4D36-A852-AD43F823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9FA4-ED3E-4496-9D44-5EE55EE7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6933-BFE5-4B7C-99C9-86A267E1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79B-898B-476E-862B-DFD79611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8DFC-F854-46E8-86BD-43AA659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3BF-C1C2-474F-92DA-811CD6D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F78-C9B4-4DE5-8B36-CD948F33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EA74-18D6-4188-8341-46A37E2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3E7-3C5F-46AE-8458-821EAE7D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FC9-3C19-4852-A315-EEE8066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0A5D-F970-4D22-8F54-1334582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AC47-6A6F-45B2-8385-ADC852C4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AAD4-4E8C-4A0D-A7CC-53E27FC3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E596-ED42-4B9E-AC05-23FF2BC0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3B2-68D0-4FD2-A032-5A4DA39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F0F-A72E-43E0-A947-E748DC1D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4A6-23EC-438D-A7CA-802F00B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FC9-CE38-44A4-95AB-7A86DA63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21F-3141-4FA0-9A28-08FB8AF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E54-02B7-45FD-80BA-49F7570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9EE-3070-477F-A302-D054E10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BF9A-BE2F-40E9-84D6-67E1A91D32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C0C-D8BF-4AA1-8ABF-9C45AD3B7D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964720" cy="66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XPECTATIVA DE VIDA AL NACER (año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 y el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6280" y="879480"/>
            <a:ext cx="733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oblación adulta mayor en Chile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98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 200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202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20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5,6           7,2          11,0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6,9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speranza de vida a los 65 años (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98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 200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202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20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5,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17,5        18,9        20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896472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8200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speranza de vida al nacer, según comun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568520"/>
          <a:ext cx="889308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68520"/>
                    <a:ext cx="889308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Inequidad de salud en Chile: tasas de mortalidad según nivel educacion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690560"/>
          <a:ext cx="867564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90560"/>
                    <a:ext cx="867564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727240" y="6308640"/>
            <a:ext cx="27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99"/>
                </a:solidFill>
                <a:latin typeface="Arial"/>
              </a:rPr>
              <a:t>Mardones F, Rev Med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63880" y="2637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Lancet 2003;360:13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0760" y="33336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ga de enfermedad y AV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67320" y="1125360"/>
            <a:ext cx="28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13520" y="1125360"/>
            <a:ext cx="2751120" cy="109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4040" y="6308640"/>
            <a:ext cx="13431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54000"/>
            <a:ext cx="79214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17560" y="3808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NVEJECIMIENTO POB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371600"/>
            <a:ext cx="190512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rt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800600"/>
            <a:ext cx="205740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ig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1371600"/>
            <a:ext cx="182880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ecun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93280" y="342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OBL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51460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09720" y="25146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1972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 Black"/>
              </a:rPr>
              <a:t>Tamaño de partículas de HDL y longev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400" y="1885680"/>
            <a:ext cx="41403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 comunidades judías norteamericanas, los individuos con longevidad excepcional tienen partículas de HDL significativamente mas gran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609588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99"/>
                </a:solidFill>
                <a:latin typeface="Arial"/>
              </a:rPr>
              <a:t>JAMA 2003;290:2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elómeros y senescen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76360" y="1628640"/>
          <a:ext cx="6551640" cy="52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55164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127280" y="63295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JCI 2004;11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Largo de telómeros y sobrevida en personas mayores de 60 añ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543800" cy="511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06440" y="173664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99"/>
                </a:solidFill>
                <a:latin typeface="Arial"/>
              </a:rPr>
              <a:t>Lancet 2003;361:3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Largo de telómeros  obesidad y tabaquism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63640" y="1649520"/>
          <a:ext cx="554508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49520"/>
                    <a:ext cx="554508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04000" y="652140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99"/>
                </a:solidFill>
                <a:latin typeface="Arial"/>
              </a:rPr>
              <a:t>Lancet 2003;366:6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secuencias del envejec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i todos los órganos o sistemas disminuyen su capacidad de tra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 disminución no se notará en la medida que no nos enfrentemos a situaciones extremas que nos obliguen a utilizar toda la capacidad de un determinado órg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secuencias del envejec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3141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Deterioro psicoorgánico y demenc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evalencia de deterioro cognitivo según edad. SABE, Chi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219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evalencia de deterioro, según nivel nivel socioeconómico (SAB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1280" y="1341360"/>
          <a:ext cx="806436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06436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Malthusianis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lthus propuso que el crecimiento poblacional era mayor que el crecimiento en producción de alimentos y que una hambruna sobrevendría en el año 19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572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lteraciones cognitivas míni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aciente o acompañante relatan pérdida de mem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función cognitiva general está conserv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actividades de vida diaria norm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 se cumplen criterios para dem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Demen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35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érdida de memoria y una o mas funciones cognitivas (afasia, apraxia, agnosia o alteraciones en el funcionamiento ejecutiv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lteraciones importantes en la función social u ocupa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ficiencias que no ocurren sólo en la presencia de deli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Placas neuríticas y ovillos neurofibril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2516040"/>
            <a:ext cx="3887640" cy="265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889440" cy="2656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48360" y="5229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cas neur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2000" y="5229360"/>
            <a:ext cx="21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Ovillos neurofibr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l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97180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55627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6386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6765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38862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20574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3341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8006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6483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911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39625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42900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2860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01480" y="4076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44800" y="60958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l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29718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6483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18288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864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34290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0199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238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6668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48769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44956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22096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9625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56386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5146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4100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44197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8672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9625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29718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16002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4000" y="31654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25760" y="34290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rueba del relo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Manecillas en posición correc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rrores leves en la posición de las manec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rrores mas manifiestos en la colocación de las manecillas de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ora y minu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Colocación de las manecillas francamente m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Uso inapropiado de las manec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grupación de números a un lado del reloj o colocación 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úmeros al rev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Mayor distorsión en la colocación de números que pueden estar fu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 la esf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No hay asociación entre los números y el reloj, las manecillas no está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es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Un vago intento por dibujar un rel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No se dibuja nada o algo inintelig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Test del relo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36560" y="3068640"/>
            <a:ext cx="1652760" cy="1805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070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Test del relo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27200" y="2421000"/>
            <a:ext cx="3187440" cy="3456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9640" y="220500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54560" y="2492280"/>
            <a:ext cx="388944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90920" y="3047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ARCOPEN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1159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tapas del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obl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4582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79056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056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562280" cy="3111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505320" cy="4457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umulación de productos de peroxidacion en m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primates no humanos, efectos del envejecimient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tricción calórica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Zainal et al Faseb J 2000;14:8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8680" y="628488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uantificación bio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5280" y="533412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terminación histoquímica,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mmuno oro. Microscopía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8720" y="205740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2440" y="2133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6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9600" y="3505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7 a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6120" y="35053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Daño en DNA mitocond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676760" cy="5229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92720" y="220500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NA mitocondrial es mas susceptible al daño oxidativo. Codifica específicamente la citocromo C oxidasa, importante en el metabolismo energ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Daño en DNA mitocond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73204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as lesiones del las fibras se localizan junto a las mutaciones de DNA mitocondr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3832560" cy="388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510880" y="623736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99"/>
                </a:solidFill>
                <a:latin typeface="Arial"/>
              </a:rPr>
              <a:t>Waganat et al FASEB J 15:3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daño muscular ocurre en las zonas en que se altera el sistema de transporte de electrones en la mitocondr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42920" y="1550880"/>
            <a:ext cx="6769080" cy="5307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rot="16200000">
            <a:off x="6990120" y="418140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99"/>
                </a:solidFill>
                <a:latin typeface="Arial"/>
              </a:rPr>
              <a:t>Waganat et al FASEB J 15:3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aídas en los últimos 12 meses. Estudio SABE, Ch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52388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11280" y="2004840"/>
          <a:ext cx="4248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04840"/>
                    <a:ext cx="4248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859280" y="2004840"/>
          <a:ext cx="4176720" cy="39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004840"/>
                    <a:ext cx="417672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11280" y="5877000"/>
          <a:ext cx="424800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877000"/>
                    <a:ext cx="4248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582920" y="241200"/>
            <a:ext cx="631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INCIDENCIA DE CAÍDAS POR 100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ERSONAS. PROYECCIÓN AL 2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7240" y="620244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Lancet 2005;366:18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649520"/>
            <a:ext cx="7812000" cy="520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0360" y="3333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Dinámica poblacional en Inglater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0" y="2590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LTERACIONES INMUNITAR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241200"/>
          <a:ext cx="9144000" cy="661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1200"/>
                    <a:ext cx="9144000" cy="661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11160"/>
            <a:ext cx="79214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Calidad de la audición en adultos mayores. SABE, Chi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1905120"/>
            <a:ext cx="3200400" cy="403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905120"/>
            <a:ext cx="3200400" cy="4038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58112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112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754280" y="19652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M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60160" y="19652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7631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Prevalencia de al menos 1 limitación en actividades de vida diaria (SAB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1547640"/>
            <a:ext cx="85327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revalencia de incontinencia urinaria. Estudio SABE,Ch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160020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267080" y="1981080"/>
            <a:ext cx="3353040" cy="403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érdida de piezas dentales. Estudio SABE, Ch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3352680" cy="403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167004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004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54280" y="19652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M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60160" y="19652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Tasa de egresos hospitalarios por cada 1000 hab (DEIS, MINSA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5280" y="1573200"/>
            <a:ext cx="84596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1219320"/>
          <a:ext cx="76197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Condición al egreso, por grupo de edad (DEIS,MINSA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1528920"/>
            <a:ext cx="853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structura de la población Chilena en 1950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674720"/>
            <a:ext cx="705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structura de la población Chilena proyectada al 2010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29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Envejecimiento. 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Longevidad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es el lapso máximo que puede vivir una especie. La longevidad es relativamente cons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Expectativa de vida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un cálculo estadístico del tiempo que podrá vivir una determinada persona, en un determinado entorno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2T21:47:09Z</dcterms:created>
  <dc:creator>Daniel Bunout</dc:creator>
  <dc:description/>
  <dc:language>en-US</dc:language>
  <cp:lastModifiedBy>house</cp:lastModifiedBy>
  <cp:lastPrinted>2001-11-29T22:32:44Z</cp:lastPrinted>
  <dcterms:modified xsi:type="dcterms:W3CDTF">2007-06-19T15:42:18Z</dcterms:modified>
  <cp:revision>90</cp:revision>
  <dc:subject/>
  <dc:title>Sin título de diapositiva</dc:title>
</cp:coreProperties>
</file>