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5.wmf" ContentType="image/x-wmf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jpeg" ContentType="image/jpeg"/>
  <Override PartName="/ppt/media/image13.wmf" ContentType="image/x-wmf"/>
  <Override PartName="/ppt/media/image36.png" ContentType="image/png"/>
  <Override PartName="/ppt/media/image40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wmf" ContentType="image/x-wmf"/>
  <Override PartName="/ppt/media/image46.wmf" ContentType="image/x-wmf"/>
  <Override PartName="/ppt/media/image50.png" ContentType="image/png"/>
  <Override PartName="/ppt/media/image52.wmf" ContentType="image/x-wmf"/>
  <Override PartName="/ppt/media/image30.png" ContentType="image/png"/>
  <Override PartName="/ppt/media/image42.png" ContentType="image/png"/>
  <Override PartName="/ppt/media/image53.wmf" ContentType="image/x-wmf"/>
  <Override PartName="/ppt/media/image51.wmf" ContentType="image/x-wmf"/>
  <Override PartName="/ppt/media/image48.png" ContentType="image/png"/>
  <Override PartName="/ppt/media/image11.png" ContentType="image/png"/>
  <Override PartName="/ppt/media/image6.wmf" ContentType="image/x-wmf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49.wmf" ContentType="image/x-wmf"/>
  <Override PartName="/ppt/media/image12.wmf" ContentType="image/x-wmf"/>
  <Override PartName="/ppt/media/image4.png" ContentType="image/png"/>
  <Override PartName="/ppt/media/image38.png" ContentType="image/png"/>
  <Override PartName="/ppt/media/image8.png" ContentType="image/png"/>
  <Override PartName="/ppt/media/image41.wmf" ContentType="image/x-wmf"/>
  <Override PartName="/ppt/media/image7.png" ContentType="image/png"/>
  <Override PartName="/ppt/media/image37.png" ContentType="image/png"/>
  <Override PartName="/ppt/media/image10.png" ContentType="image/png"/>
  <Override PartName="/ppt/media/image4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CFD3-581A-4E18-861E-9D9DAE99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F34-7ABF-40F6-8A2D-2249B45F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4D01-47F1-4873-93B8-E4DA4576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2CD-11DF-4F13-9AE0-45B87670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45B1-D89C-49C7-98BD-6AB0E1E2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E328-BCBC-49F6-8809-1C61130B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C65A-0E01-46DA-B37C-64E44595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5DF4-14F8-4B44-B7CE-4337657D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D723-8A46-4778-B48E-950880E2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4561-1FA8-4DBF-A544-4DCF0958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4B55-2CA6-469A-8B09-4F489220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1A7-07F6-4EDB-9281-758E7394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1FDF-EEB9-44FA-9157-9A86567F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AB3E-F2B7-4E6F-B41D-95899631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7FEE-6E18-4C99-834A-55FE7D64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F628-D516-4376-B35F-E7FC91CC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F0C4-811E-4A33-A8B9-E94FEA5D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EE4-76FD-4696-9C8B-8FB59662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FF6-0DEA-4621-A928-6F270854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580-F18A-4E83-B45B-2A29D451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57CA-254A-4CB5-BEB0-61DDDD67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F07-B11A-422C-A921-03C78B5C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AAE6-A761-4EF2-9C55-A5C06AA2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A4C6-E317-4419-BB5C-3AC51FA6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EFA1-2617-40AE-A2D1-D8A53820D6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CF55-965A-42C9-9EE3-9CE62C3DE3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187200"/>
            <a:ext cx="8964720" cy="661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EXPECTATIVA DE VIDA AL NACER (años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676520"/>
          <a:ext cx="7772400" cy="44193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n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 y el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46280" y="879480"/>
            <a:ext cx="7331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Población adulta mayor en Chile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980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    2000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   2020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20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5,6           7,2          11,0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16,9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Esperanza de vida a los 65 años (a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980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    2000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   2020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20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15,2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   17,5        18,9        20,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06200"/>
            <a:ext cx="896472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882000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speranza de vida al nacer, según comun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1568520"/>
          <a:ext cx="8893080" cy="49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68520"/>
                    <a:ext cx="889308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Inequidad de salud en Chile: tasas de mortalidad según nivel educacion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8360" y="1690560"/>
          <a:ext cx="867564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90560"/>
                    <a:ext cx="867564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727240" y="6308640"/>
            <a:ext cx="27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99"/>
                </a:solidFill>
                <a:latin typeface="Arial"/>
              </a:rPr>
              <a:t>Mardones F, Rev Med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540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663880" y="2637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99"/>
                </a:solidFill>
                <a:latin typeface="Arial"/>
              </a:rPr>
              <a:t>Lancet 2003;360:13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50760" y="333360"/>
            <a:ext cx="52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rga de enfermedad y AV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67320" y="1125360"/>
            <a:ext cx="281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213520" y="1125360"/>
            <a:ext cx="2751120" cy="1098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84040" y="6308640"/>
            <a:ext cx="134316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1280" y="54000"/>
            <a:ext cx="792144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17560" y="380880"/>
            <a:ext cx="58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ENVEJECIMIENTO POBL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371600"/>
            <a:ext cx="1905120" cy="10666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ort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4800600"/>
            <a:ext cx="2057400" cy="1143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ig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1371600"/>
            <a:ext cx="1828800" cy="10666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Fecund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93280" y="3429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POBL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2514600"/>
            <a:ext cx="7621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09720" y="25146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419720" y="4114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 Black"/>
              </a:rPr>
              <a:t>Tamaño de partículas de HDL y longevid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2400" y="1885680"/>
            <a:ext cx="41403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n comunidades judías norteamericanas, los individuos con longevidad excepcional tienen partículas de HDL significativamente mas gran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6095880"/>
            <a:ext cx="21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99"/>
                </a:solidFill>
                <a:latin typeface="Arial"/>
              </a:rPr>
              <a:t>JAMA 2003;290:2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Telómeros y senescenc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76360" y="1628640"/>
          <a:ext cx="6551640" cy="52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628640"/>
                    <a:ext cx="6551640" cy="52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7127280" y="632952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JCI 2004;113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Black"/>
              </a:rPr>
              <a:t>Largo de telómeros y sobrevida en personas mayores de 60 añ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543800" cy="5113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906440" y="173664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99"/>
                </a:solidFill>
                <a:latin typeface="Arial"/>
              </a:rPr>
              <a:t>Lancet 2003;361:3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Black"/>
              </a:rPr>
              <a:t>Largo de telómeros  obesidad y tabaquism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763640" y="1649520"/>
          <a:ext cx="5545080" cy="52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49520"/>
                    <a:ext cx="554508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804000" y="6521400"/>
            <a:ext cx="22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99"/>
                </a:solidFill>
                <a:latin typeface="Arial"/>
              </a:rPr>
              <a:t>Lancet 2003;366:6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Consecuencias del envejeci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i todos los órganos o sistemas disminuyen su capacidad de traba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ta disminución no se notará en la medida que no nos enfrentemos a situaciones extremas que nos obliguen a utilizar toda la capacidad de un determinado órgan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Consecuencias del envejeci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77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3141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Deterioro psicoorgánico y demenc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Prevalencia de deterioro cognitivo según edad. SABE, Chi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219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Prevalencia de deterioro, según nivel nivel socioeconómico (SAB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11280" y="1341360"/>
          <a:ext cx="8064360" cy="538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806436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Malthusianism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lthus propuso que el crecimiento poblacional era mayor que el crecimiento en producción de alimentos y que una hambruna sobrevendría en el año 19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45720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Alteraciones cognitivas mínim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paciente o acompañante relatan pérdida de memo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 función cognitiva general está conserv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s actividades de vida diaria norm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 se cumplen criterios para dem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Demenc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35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érdida de memoria y una o mas funciones cognitivas (afasia, apraxia, agnosia o alteraciones en el funcionamiento ejecutiv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lteraciones importantes en la función social u ocupa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ficiencias que no ocurren sólo en la presencia de deli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Placas neuríticas y ovillos neurofibrila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55640" y="2516040"/>
            <a:ext cx="3887640" cy="2656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889440" cy="2656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48360" y="522936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lacas neurí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52000" y="5229360"/>
            <a:ext cx="213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Ovillos neurofibri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il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971800"/>
            <a:ext cx="60984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67480" y="5562720"/>
            <a:ext cx="60984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5638680"/>
            <a:ext cx="60984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676520"/>
            <a:ext cx="60984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38862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20574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533412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48006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4648320"/>
            <a:ext cx="60984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419112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396252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429000"/>
            <a:ext cx="60984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22860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01480" y="407664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i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44800" y="60958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il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29718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464832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18288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864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34290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601992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523880"/>
            <a:ext cx="60984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2666880"/>
            <a:ext cx="60984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4876920"/>
            <a:ext cx="60984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4495680"/>
            <a:ext cx="60984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2209680"/>
            <a:ext cx="60948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396252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5638680"/>
            <a:ext cx="60948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5146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5410080"/>
            <a:ext cx="60984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441972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5867280"/>
            <a:ext cx="60948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72400" y="396252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29718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91520" y="16002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44000" y="31654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25760" y="34290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i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Prueba del relo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Manecillas en posición correc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Errores leves en la posición de las manecill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Errores mas manifiestos en la colocación de las manecillas de l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ora y minu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Colocación de las manecillas francamente m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Uso inapropiado de las manecill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grupación de números a un lado del reloj o colocación 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úmeros al revé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Mayor distorsión en la colocación de números que pueden estar fue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 la esfe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No hay asociación entre los números y el reloj, las manecillas no está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ese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Un vago intento por dibujar un relo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No se dibuja nada o algo inintelig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Test del relo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636560" y="3068640"/>
            <a:ext cx="1652760" cy="1805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003640" y="2205000"/>
            <a:ext cx="307044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Test del relo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27200" y="2421000"/>
            <a:ext cx="3187440" cy="3456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39640" y="2205000"/>
            <a:ext cx="43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254560" y="2492280"/>
            <a:ext cx="388944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90920" y="30477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SARCOPEN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42920" y="11592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tapas del cre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obla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45820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0" y="790560"/>
          <a:ext cx="9144000" cy="527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0560"/>
                    <a:ext cx="914400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562280" cy="3111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505320" cy="4457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28600" y="1522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umulación de productos de peroxidacion en mús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primates no humanos, efectos del envejecimient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tricción calórica.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Zainal et al Faseb J 2000;14:8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8680" y="628488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uantificación bio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5280" y="5334120"/>
            <a:ext cx="39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terminación histoquímica, c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mmuno oro. Microscopía electr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8720" y="205740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02440" y="21337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6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59600" y="35053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7 a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26120" y="35053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7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Daño en DNA mitocondr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676760" cy="52293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292720" y="2205000"/>
            <a:ext cx="331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DNA mitocondrial es mas susceptible al daño oxidativo. Codifica específicamente la citocromo C oxidasa, importante en el metabolismo energ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Daño en DNA mitocondr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2732040"/>
            <a:ext cx="9144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Las lesiones del las fibras se localizan junto a las mutaciones de DNA mitocondri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3832560" cy="3889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510880" y="6237360"/>
            <a:ext cx="299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99"/>
                </a:solidFill>
                <a:latin typeface="Arial"/>
              </a:rPr>
              <a:t>Waganat et al FASEB J 15:3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El daño muscular ocurre en las zonas en que se altera el sistema de transporte de electrones en la mitocondri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42920" y="1550880"/>
            <a:ext cx="6769080" cy="53071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 rot="16200000">
            <a:off x="6990120" y="4181400"/>
            <a:ext cx="299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99"/>
                </a:solidFill>
                <a:latin typeface="Arial"/>
              </a:rPr>
              <a:t>Waganat et al FASEB J 15:3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Caídas en los últimos 12 meses. Estudio SABE, Chi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0" y="1523880"/>
          <a:ext cx="9144000" cy="527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611280" y="2004840"/>
          <a:ext cx="424800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04840"/>
                    <a:ext cx="4248000" cy="38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859280" y="2004840"/>
          <a:ext cx="4176720" cy="39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004840"/>
                    <a:ext cx="417672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11280" y="5877000"/>
          <a:ext cx="424800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877000"/>
                    <a:ext cx="42480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1582920" y="241200"/>
            <a:ext cx="631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INCIDENCIA DE CAÍDAS POR 100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ERSONAS. PROYECCIÓN AL 20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7240" y="6202440"/>
            <a:ext cx="21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99"/>
                </a:solidFill>
                <a:latin typeface="Arial"/>
              </a:rPr>
              <a:t>Lancet 2005;366:18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1280" y="1649520"/>
            <a:ext cx="7812000" cy="5208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10360" y="3333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Dinámica poblacional en Inglater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0" y="2590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ALTERACIONES INMUNITARI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0" y="241200"/>
          <a:ext cx="9144000" cy="661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1200"/>
                    <a:ext cx="9144000" cy="661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11280" y="11160"/>
            <a:ext cx="79214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Calidad de la audición en adultos mayores. SABE, Chi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1905120"/>
            <a:ext cx="3200400" cy="4038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905120"/>
            <a:ext cx="3200400" cy="4038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0" y="1581120"/>
          <a:ext cx="9144000" cy="527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81120"/>
                    <a:ext cx="914400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1754280" y="196524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OM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60160" y="196524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UJE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76312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Prevalencia de al menos 1 limitación en actividades de vida diaria (SABE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50920" y="1547640"/>
            <a:ext cx="853272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Prevalencia de incontinencia urinaria. Estudio SABE,Chi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0" y="1600200"/>
          <a:ext cx="9144000" cy="527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267080" y="1981080"/>
            <a:ext cx="3353040" cy="4038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Pérdida de piezas dentales. Estudio SABE, Chi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1981080"/>
            <a:ext cx="3352680" cy="403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1670040"/>
          <a:ext cx="9144000" cy="527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0040"/>
                    <a:ext cx="914400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754280" y="196524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OM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60160" y="196524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UJE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Tasa de egresos hospitalarios por cada 1000 hab (DEIS, MINSAL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95280" y="1573200"/>
            <a:ext cx="84596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762120" y="1219320"/>
          <a:ext cx="761976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76197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Condición al egreso, por grupo de edad (DEIS,MINSA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4000" y="1528920"/>
            <a:ext cx="8532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structura de la población Chilena en 1950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1674720"/>
            <a:ext cx="7056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structura de la población Chilena proyectada al 2010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129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Envejecimiento. Conceptos bás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Longevidad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es el lapso máximo que puede vivir una especie. La longevidad es relativamente consta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Expectativa de vida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 un cálculo estadístico del tiempo que podrá vivir una determinada persona, en un determinado entorno 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2T21:47:09Z</dcterms:created>
  <dc:creator>Daniel Bunout</dc:creator>
  <dc:description/>
  <dc:language>en-US</dc:language>
  <cp:lastModifiedBy>house</cp:lastModifiedBy>
  <cp:lastPrinted>2001-11-29T22:32:44Z</cp:lastPrinted>
  <dcterms:modified xsi:type="dcterms:W3CDTF">2007-06-19T15:42:18Z</dcterms:modified>
  <cp:revision>90</cp:revision>
  <dc:subject/>
  <dc:title>Sin título de diapositiva</dc:title>
</cp:coreProperties>
</file>