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1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657C433-011D-413D-84B1-3D2A5C47609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Una dosis adecuada del analgésico preciso, administrado a intervalos fijos hace posible el control del dolor; siempre se precisan dosis mayores para suprimir y controlar el dolor cuando éste ya se ha instalado. Toda terapia antiálgica debe considerar “dosis de rescate” (extras o de reforzamiento), para el dolor incidental o inesper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A2A-3AB3-4BF1-9893-120ED3AD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339-4345-48D3-B6C1-663D7096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E15-AEB2-47DC-B654-EF707C32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77B-5235-48A1-A441-211902F2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0606-D90F-426E-B637-46CFCBBC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4AE8-D4BC-41DF-AE96-6C4E6D76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343E-CD2D-4AB7-8249-BD9BD629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CB64-0E35-441F-92AA-78FF726F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DF2D-1CFB-4424-801C-C9B89B4C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05D4-69E5-4418-8CFB-9AB6AC55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5363-1593-45CF-AC42-0A5B80B3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73A-D02F-40CE-ADCA-0C5624F8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6FC1-3113-406B-A870-05E67BD1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EFB9-2108-4A0B-955C-BE3E766A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A84A-8287-4422-B9CF-9015E963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637A-AEBE-492C-8303-716D7D93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41A5-EB38-439C-B203-4258C981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FE4-4911-4E5D-BD4E-DD063593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847-C718-417E-BDA5-67F7452F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B0F-907A-47F8-907E-EED01E27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796-4B01-4F6F-9EBB-79647885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715-807F-4B83-8076-01FF646F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400-0419-4034-A64D-559FCB4C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E99-C595-481A-A233-0D6A925F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BDCE-E625-42D8-B9DB-BC07715708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4516-48E6-4D8F-AF68-903389EC12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b2b2b2"/>
                </a:solidFill>
                <a:latin typeface="Arial"/>
              </a:rPr>
              <a:t>Atención Integral del Paciente Terminal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r. Johnny Ch. Yáñez Pizar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2556000" y="2276640"/>
            <a:ext cx="4321080" cy="1944360"/>
            <a:chOff x="2556000" y="2276640"/>
            <a:chExt cx="4321080" cy="1944360"/>
          </a:xfrm>
        </p:grpSpPr>
        <p:sp>
          <p:nvSpPr>
            <p:cNvPr id="183" name=""/>
            <p:cNvSpPr/>
            <p:nvPr/>
          </p:nvSpPr>
          <p:spPr>
            <a:xfrm>
              <a:off x="2556000" y="2276640"/>
              <a:ext cx="4321080" cy="1944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3348000" y="2924280"/>
              <a:ext cx="2762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cc"/>
                  </a:solidFill>
                  <a:latin typeface="Arial Black"/>
                </a:rPr>
                <a:t>Dolor Tota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907640" y="1628280"/>
            <a:ext cx="5617080" cy="3240720"/>
            <a:chOff x="1907640" y="1628280"/>
            <a:chExt cx="5617080" cy="3240720"/>
          </a:xfrm>
        </p:grpSpPr>
        <p:sp>
          <p:nvSpPr>
            <p:cNvPr id="186" name=""/>
            <p:cNvSpPr/>
            <p:nvPr/>
          </p:nvSpPr>
          <p:spPr>
            <a:xfrm>
              <a:off x="6948360" y="3141720"/>
              <a:ext cx="576360" cy="217440"/>
            </a:xfrm>
            <a:prstGeom prst="leftArrow">
              <a:avLst>
                <a:gd name="adj1" fmla="val 50000"/>
                <a:gd name="adj2" fmla="val 662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1907640" y="1628280"/>
              <a:ext cx="2953440" cy="3240720"/>
              <a:chOff x="1907640" y="1628280"/>
              <a:chExt cx="2953440" cy="3240720"/>
            </a:xfrm>
          </p:grpSpPr>
          <p:sp>
            <p:nvSpPr>
              <p:cNvPr id="188" name=""/>
              <p:cNvSpPr/>
              <p:nvPr/>
            </p:nvSpPr>
            <p:spPr>
              <a:xfrm rot="5400000">
                <a:off x="4463640" y="4471920"/>
                <a:ext cx="576360" cy="217800"/>
              </a:xfrm>
              <a:prstGeom prst="leftArrow">
                <a:avLst>
                  <a:gd name="adj1" fmla="val 50000"/>
                  <a:gd name="adj2" fmla="val 66157"/>
                </a:avLst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6200000">
                <a:off x="4464000" y="1807560"/>
                <a:ext cx="576360" cy="217800"/>
              </a:xfrm>
              <a:prstGeom prst="leftArrow">
                <a:avLst>
                  <a:gd name="adj1" fmla="val 50000"/>
                  <a:gd name="adj2" fmla="val 66157"/>
                </a:avLst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0800000">
                <a:off x="1907640" y="3141720"/>
                <a:ext cx="576360" cy="217440"/>
              </a:xfrm>
              <a:prstGeom prst="leftArrow">
                <a:avLst>
                  <a:gd name="adj1" fmla="val 50000"/>
                  <a:gd name="adj2" fmla="val 66267"/>
                </a:avLst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"/>
          <p:cNvSpPr txBox="1"/>
          <p:nvPr/>
        </p:nvSpPr>
        <p:spPr>
          <a:xfrm>
            <a:off x="179280" y="3068640"/>
            <a:ext cx="161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 Black"/>
              </a:rPr>
              <a:t>Depres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708360" y="1197000"/>
            <a:ext cx="2158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Dolor Físi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0" y="494172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Ansie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596360" y="3068640"/>
            <a:ext cx="1079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abia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260280"/>
            <a:ext cx="3816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Efectos secundarios del tratami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Estímulo doloros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Otros síntom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16560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érdida d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osición Soc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Rol Famili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Trabaj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Imagen Corpo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Desesperanz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7080" y="2133720"/>
            <a:ext cx="1908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Retardo Diagnóst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Incomunicación Méd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Insomn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5373720"/>
            <a:ext cx="1728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Miedo al Hosp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Miedo al Dol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Miedo a la Muer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64360" y="6381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Saunders, 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Consumo de Morfina y Petidin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65120" y="1600200"/>
            <a:ext cx="8212320" cy="4529160"/>
            <a:chOff x="465120" y="1600200"/>
            <a:chExt cx="8212320" cy="4529160"/>
          </a:xfrm>
        </p:grpSpPr>
        <p:graphicFrame>
          <p:nvGraphicFramePr>
            <p:cNvPr id="202" name=""/>
            <p:cNvGraphicFramePr/>
            <p:nvPr/>
          </p:nvGraphicFramePr>
          <p:xfrm>
            <a:off x="465120" y="1642680"/>
            <a:ext cx="8212320" cy="4486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120" y="1642680"/>
                      <a:ext cx="8212320" cy="44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684360" y="160020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ffff"/>
                  </a:solidFill>
                  <a:latin typeface="Arial"/>
                </a:rPr>
                <a:t>kilogram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10920" y="691920"/>
            <a:ext cx="7993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tratamiento paliativo consiste en la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tención activa y completa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 y con los pacientes cuya enfermedad no responde al tratamiento curativo , y que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tan fundamental es el alivio del dolor como el de los otros síntoma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, incluyendo en su tratamiento los problemas psicológicos, sociales y espirituales, y que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su objetiv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es facilitar al paciente y su familia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a mejor calidad de vida po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755640" y="907920"/>
            <a:ext cx="7777080" cy="3960720"/>
            <a:chOff x="755640" y="907920"/>
            <a:chExt cx="7777080" cy="3960720"/>
          </a:xfrm>
        </p:grpSpPr>
        <p:sp>
          <p:nvSpPr>
            <p:cNvPr id="207" name=""/>
            <p:cNvSpPr/>
            <p:nvPr/>
          </p:nvSpPr>
          <p:spPr>
            <a:xfrm>
              <a:off x="755640" y="907920"/>
              <a:ext cx="7777080" cy="3960720"/>
            </a:xfrm>
            <a:prstGeom prst="flowChartExtra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87640" y="256356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68360" y="3355560"/>
              <a:ext cx="475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47640" y="4076280"/>
              <a:ext cx="619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43280" y="3355560"/>
              <a:ext cx="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3924360" y="1699920"/>
              <a:ext cx="1352520" cy="62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ONTRO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SINTOMA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2627280" y="3571560"/>
              <a:ext cx="13525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PACIENT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3203640" y="2852640"/>
              <a:ext cx="2952720" cy="26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APOYO PSICOSOCIA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5292720" y="3571560"/>
              <a:ext cx="13525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FAMILI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1908000" y="4363920"/>
              <a:ext cx="5616720" cy="26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EQUIPO MULTIPROFESIONA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476360" y="522936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El foco o sujeto de atención de los cuidados paliativos 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LA UNIDAD PACIENTE FAMIL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Importancia de la Famil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consideración de la familia como el sujeto de los cuidados junto al enfermo, revitalizan la responsabilidad que le cabe en la transmisión de valores y estilos de vida salud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familia es el sujeto y el actor del proceso de educación para el autocuidado del familiar enferm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establece una relación simbiótica, donde todas las partes se benefici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2b2b2"/>
                </a:solidFill>
                <a:latin typeface="Arial"/>
              </a:rPr>
              <a:t>Problemas habituales que interfieren en el alivio del dolo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alta de respaldo a los programas locales de Alivio del Dolor y Cuidados Paliativ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sconocimiento en los profesionales de la salud sobre alivio del dolor y cuidados paliativos oncológ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imitados programas de educación continua a los profesionales de la salud sobre el uso de medicamentos analgésicos y el valor de los cuidados paliativos en la calidad de vida de los pacientes con cánc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3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2b2b2"/>
                </a:solidFill>
                <a:latin typeface="Arial"/>
              </a:rPr>
              <a:t>Problemas habituales que interfieren en el alivio del dolo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arencia de asignaturas o unidades sobre ADCP en los planes de estudio de las carreras de los profesionales de la sal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itos con relación al uso de los opioides y fármacos afines, muy en especial relacionado con el abuso de drogas en la comun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lgunas restricciones reglamentarias en el suministro, distribución y prescripción de los opiáceos, en especial en la atención prima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alta de  recursos financieros para la investigación clínica y epidemiológica sobre ADC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941120" y="985320"/>
            <a:ext cx="5127120" cy="5083920"/>
            <a:chOff x="1941120" y="985320"/>
            <a:chExt cx="5127120" cy="5083920"/>
          </a:xfrm>
        </p:grpSpPr>
        <p:sp>
          <p:nvSpPr>
            <p:cNvPr id="225" name="_s28681"/>
            <p:cNvSpPr/>
            <p:nvPr/>
          </p:nvSpPr>
          <p:spPr>
            <a:xfrm>
              <a:off x="2607120" y="1688040"/>
              <a:ext cx="3795480" cy="36788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28682"/>
            <p:cNvSpPr/>
            <p:nvPr/>
          </p:nvSpPr>
          <p:spPr>
            <a:xfrm rot="7200000">
              <a:off x="2664720" y="1629360"/>
              <a:ext cx="3678840" cy="37954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28684"/>
            <p:cNvSpPr/>
            <p:nvPr/>
          </p:nvSpPr>
          <p:spPr>
            <a:xfrm rot="14400000">
              <a:off x="2665440" y="1629000"/>
              <a:ext cx="3678840" cy="37954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28679"/>
            <p:cNvSpPr/>
            <p:nvPr/>
          </p:nvSpPr>
          <p:spPr>
            <a:xfrm>
              <a:off x="5294520" y="2200680"/>
              <a:ext cx="11574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VIS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28680"/>
            <p:cNvSpPr/>
            <p:nvPr/>
          </p:nvSpPr>
          <p:spPr>
            <a:xfrm>
              <a:off x="3926160" y="4498920"/>
              <a:ext cx="11574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NEUROPAT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28683"/>
            <p:cNvSpPr/>
            <p:nvPr/>
          </p:nvSpPr>
          <p:spPr>
            <a:xfrm>
              <a:off x="2557800" y="2200680"/>
              <a:ext cx="11574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SOMAT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Tipos de Dol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637000"/>
            <a:ext cx="3743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Bien locali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arácter Punzante o Quema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Límites Precis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Ubicado en el sitio del estímu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No refer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6720" y="2565360"/>
            <a:ext cx="2411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Mal locali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Vago o Atenu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Imprecis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A distancia del Estímu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Refer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2b2b2"/>
                </a:solidFill>
                <a:latin typeface="Arial"/>
              </a:rPr>
              <a:t>Dado que el dolor es en sí dinámico, su valoración es un proceso contínuo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debe aplicar cada vez que examinemos a nuestro pa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mprescindible un Registro, un protocolo de observación para recolectar los datos en forma sistematiz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bicación e Irradi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ipo o carác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ens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mienzo y evol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Factores que lo modific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titud del Enfer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íntomas acompaña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11280" y="581040"/>
            <a:ext cx="801036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06640" y="863640"/>
            <a:ext cx="6976800" cy="5235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5920" y="1719000"/>
            <a:ext cx="822960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La ausencia de dolor debe ser considerada como un derecho de todo enfermo con cáncer y el acceso al tratamiento contra el dolor, como una manifestación del respeto hacia ese derech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2b2b2"/>
                </a:solidFill>
                <a:latin typeface="Arial"/>
              </a:rPr>
              <a:t>La intensidad del dolor medida con una escala preestablecida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 rot="1313400">
            <a:off x="610920" y="1773360"/>
            <a:ext cx="1827000" cy="1112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3203640" y="1989000"/>
            <a:ext cx="5076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scala Visual Análoga - EVA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85920" y="2979720"/>
            <a:ext cx="8507160" cy="817560"/>
            <a:chOff x="385920" y="2979720"/>
            <a:chExt cx="8507160" cy="817560"/>
          </a:xfrm>
        </p:grpSpPr>
        <p:sp>
          <p:nvSpPr>
            <p:cNvPr id="241" name=""/>
            <p:cNvSpPr/>
            <p:nvPr/>
          </p:nvSpPr>
          <p:spPr>
            <a:xfrm>
              <a:off x="611280" y="3473280"/>
              <a:ext cx="720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5920" y="342900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Sin Do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27720" y="3429000"/>
              <a:ext cx="166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Peor Do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3807000" y="2979720"/>
              <a:ext cx="857160" cy="29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3399ff"/>
                    </a:solidFill>
                    <a:miter/>
                  </a:ln>
                  <a:solidFill>
                    <a:srgbClr val="010199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nverso</a:t>
              </a:r>
              <a:endParaRPr b="0" lang="en-US" sz="2000" spc="1" strike="noStrike">
                <a:ln w="12600">
                  <a:solidFill>
                    <a:srgbClr val="3399ff"/>
                  </a:solidFill>
                  <a:miter/>
                </a:ln>
                <a:solidFill>
                  <a:srgbClr val="0101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97000" y="4103640"/>
            <a:ext cx="8640720" cy="1449360"/>
            <a:chOff x="297000" y="4103640"/>
            <a:chExt cx="8640720" cy="1449360"/>
          </a:xfrm>
        </p:grpSpPr>
        <p:grpSp>
          <p:nvGrpSpPr>
            <p:cNvPr id="246" name=""/>
            <p:cNvGrpSpPr/>
            <p:nvPr/>
          </p:nvGrpSpPr>
          <p:grpSpPr>
            <a:xfrm>
              <a:off x="611280" y="4552920"/>
              <a:ext cx="7200720" cy="216000"/>
              <a:chOff x="611280" y="4552920"/>
              <a:chExt cx="7200720" cy="216000"/>
            </a:xfrm>
          </p:grpSpPr>
          <p:sp>
            <p:nvSpPr>
              <p:cNvPr id="247" name=""/>
              <p:cNvSpPr/>
              <p:nvPr/>
            </p:nvSpPr>
            <p:spPr>
              <a:xfrm>
                <a:off x="611280" y="4768920"/>
                <a:ext cx="720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133200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349092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420516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493236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565164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205092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77164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37236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7091280" y="4552920"/>
                <a:ext cx="0" cy="2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431640" y="4869000"/>
              <a:ext cx="7650360" cy="368280"/>
              <a:chOff x="431640" y="4869000"/>
              <a:chExt cx="7650360" cy="368280"/>
            </a:xfrm>
          </p:grpSpPr>
          <p:sp>
            <p:nvSpPr>
              <p:cNvPr id="258" name=""/>
              <p:cNvSpPr/>
              <p:nvPr/>
            </p:nvSpPr>
            <p:spPr>
              <a:xfrm>
                <a:off x="7632720" y="4869000"/>
                <a:ext cx="44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431640" y="4869000"/>
                <a:ext cx="6840360" cy="368280"/>
                <a:chOff x="431640" y="4869000"/>
                <a:chExt cx="6840360" cy="3682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3164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15236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87128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59200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31128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47200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7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75272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03200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91164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9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19272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ffffff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0" name=""/>
            <p:cNvSpPr/>
            <p:nvPr/>
          </p:nvSpPr>
          <p:spPr>
            <a:xfrm>
              <a:off x="297000" y="518472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Sin Do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72360" y="5184720"/>
              <a:ext cx="166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Peor Do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3762360" y="4103640"/>
              <a:ext cx="857160" cy="29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Reverso</a:t>
              </a:r>
              <a:endParaRPr b="0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11280" y="5589720"/>
            <a:ext cx="1081080" cy="49500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23840 h 495000"/>
              <a:gd name="textAreaBottom" fmla="*/ 371520 h 495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Otros aspectos son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alidad o en qué se parece el dol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icio, duración, variación, y rit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¿Cómo expresa el paciente su dol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¿Qué alivia el dol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¿Qué desencadena el dol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fectos del D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2b2b2"/>
                </a:solidFill>
                <a:latin typeface="Arial"/>
              </a:rPr>
              <a:t>Registro diario del dolor y otros síntomas o molestia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11280" y="1584360"/>
            <a:ext cx="80564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El profesional debe poner en práctica una serie de recomendaciones relacionadas con el alivio del dolor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segurarse del diagnóst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ocimiento de las vías del dolor y de los transmisores que particip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imer paso en el control efectivo del dolor es, favorecer en el paciente el sentimiento de control de su malest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esquema analgésico es absolutamente individ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tilizar hasta donde sea posible la vía o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atar enérgicamente el insomn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mover la autonomía del pac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uar preventivamente con los efectos secundarios del tratamiento analgés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dolor es dinámico y por tanto su valoración, es un proceso continu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11640" y="2484360"/>
            <a:ext cx="5626080" cy="2431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Una dosis adecuada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del analgésico preciso, administrado a intervalos fijos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hace posible el control del dolor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; siempre se precisan dosis mayores para suprimir y controlar el dolor cuando éste ya se ha instalado. Toda terapia antiálgica debe considerar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“dosis de rescate”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extras o de reforzamiento), para el dolor incidental o inesper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Tratamiento farmacológic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41280" y="1449360"/>
            <a:ext cx="695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médico es responsable de la prescripción del tratamiento analgésico y coadyuv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responsabilidad en el control farmacológico del dolor descansa en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tod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el equipo de salud y por lo tanto el conocimiento debe ser compartido por to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3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3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Objetivos del tratamiento son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trolar el dol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inimizar los efectos molestos del tratami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servar la autonomía del paci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Tarjeta de indicaci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971640" y="1420920"/>
            <a:ext cx="72468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2b2b2"/>
                </a:solidFill>
                <a:latin typeface="Arial"/>
              </a:rPr>
              <a:t>Descripción de fármacos básico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66640" y="1224000"/>
          <a:ext cx="8229600" cy="5181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upo de Fármacos Coadyuvan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o en cualquier eta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trópic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zodiazepi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rpromaz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loperid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depres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itriptil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ipram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xet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tral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convulsiva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bamazep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nito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bapent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ticosteroid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niso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a o Dexametaso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ósi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22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Analgésicos Antiinflamatorios no esteroidales (AINEs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31640" y="1449360"/>
          <a:ext cx="8229600" cy="5022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árm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 O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os Advers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cetam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 – 1000 mgs. c/ 4 – 6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xicidad Hepát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 uso exces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miz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 -600 mgs. c/ 4 – 6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erg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ranulocito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buprofe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 mgs. c/ 8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Gastrointesti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Re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roxic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mgs. c/ 12 h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Gastrointesti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Re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proxe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– 500 mgs. c/8 h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Gastrointesti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Re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mesul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mgs. c/ 12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ínim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Gastrointestinal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Re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ir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l tolerado por los pacien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 mgs. c/ 4 – 6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Gastrointesti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Re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. Agregación Plaquet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341280" y="1989000"/>
            <a:ext cx="8416800" cy="36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s complicaciones potenciales de los AINEs pueden resumirse en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Reacciones de Hipersensi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alla Re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sfunción Hepá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angr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lceración Gást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22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Opiáceos</a:t>
            </a:r>
            <a:br>
              <a:rPr sz="2800"/>
            </a:br>
            <a:r>
              <a:rPr b="0" lang="es-MX" sz="2000" spc="-1" strike="noStrike">
                <a:solidFill>
                  <a:srgbClr val="b2b2b2"/>
                </a:solidFill>
                <a:latin typeface="Arial"/>
              </a:rPr>
              <a:t>Son fármacos esenciales para el manejo del dolor por Cáncer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31640" y="1415880"/>
          <a:ext cx="8371080" cy="4627800"/>
        </p:xfrm>
        <a:graphic>
          <a:graphicData uri="http://schemas.openxmlformats.org/drawingml/2006/table">
            <a:tbl>
              <a:tblPr/>
              <a:tblGrid>
                <a:gridCol w="2565720"/>
                <a:gridCol w="3105000"/>
                <a:gridCol w="2700360"/>
              </a:tblGrid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árm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os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ater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de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- 60 mgs. c/ 4 – 6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seas, Vómitos, Somnolencia, Constip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mad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 - 100 mgs. c/ 4 – 6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seas, Vómitos, Somnolencia, Constip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do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- 10 mgs. c/ 8 hrs. EV, IM, 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seas, Vómitos, Somnolencia, Constip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codo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- 40 mgs. c/ 12 – 24 hrs. 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seas, Vómitos, Somnolencia, Constipación, Sudo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ntani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5 ugs/Kg , IV, SC, IM, PARC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seas, Vómitos, Somnolencia, Constip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f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– 30 mgs. c/ 4 – 6 hrs. O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0 mgs. c/ 4 – 6 hrs. Parente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– 60 mgs. c/ 8 – 12 hrs. O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ERACION SOSTENI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useas, Vómitos, Somnolencia, Constipación, Sudo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>
            <a:off x="385920" y="1403280"/>
            <a:ext cx="8596080" cy="487692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quivalencia analgésica de los opioáceos orales con respecto a l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orfina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orfina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etidina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etadona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15-20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Buprenorfina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0,8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ramadol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600-800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deína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Acerquemonos al proble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Alivio del Dolor y los Cuidados Paliativos en Cáncer, han sido objeto de una creciente preocupación mundial y nac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Una de cada diez muertes en el mundo se debe a cánc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Un tercio de los cánceres son preveni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tro tercio es potencialmente cu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2b2b2"/>
                </a:solidFill>
                <a:latin typeface="Arial"/>
              </a:rPr>
              <a:t>Equivalencias de Opiáceo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57200" y="1600200"/>
          <a:ext cx="8229600" cy="3284280"/>
        </p:xfrm>
        <a:graphic>
          <a:graphicData uri="http://schemas.openxmlformats.org/drawingml/2006/table">
            <a:tbl>
              <a:tblPr/>
              <a:tblGrid>
                <a:gridCol w="2057400"/>
                <a:gridCol w="2462040"/>
                <a:gridCol w="1890720"/>
                <a:gridCol w="1819440"/>
              </a:tblGrid>
              <a:tr h="101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RMA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 Parente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iv 1 mg Morfina E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disponibil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 O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a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 Oral (hrs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f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ti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do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de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fina d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. Sosten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– 1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–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– 1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22360" y="188640"/>
            <a:ext cx="283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Fármacos </a:t>
            </a:r>
            <a:br>
              <a:rPr sz="2800"/>
            </a:b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Coadyuvante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31640" y="1449360"/>
          <a:ext cx="8229600" cy="3782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árm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 O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os Advers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itriptil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– 100 mgs. c/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colinérg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dad Bu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d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ención Urin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tostatism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ipram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– 100 mgs. c/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colinérg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dad Bu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d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ención Urin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tostatism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xet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- 40 mgs. c/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orex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mn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431640" y="1989000"/>
            <a:ext cx="8236080" cy="3619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Antidepresivos especialmente los tricíclicos (amitriptilina) y los Anticonvulsivantes son especialmente útiles en cuadros dolorosos  del tipo neurop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Corticoides tienen una gran cantidad de acciones beneficiosas en diversas situaciones del paciente oncológico, como son el manejo del edema cerebral y medular, linfangitis carcinomatosa, efecto antiinflamatorio y antihemético, acciones generales como elevación del ánimo y estimulación del apeti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76640" y="189000"/>
            <a:ext cx="52210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2b2b2"/>
                </a:solidFill>
                <a:latin typeface="Arial"/>
              </a:rPr>
              <a:t>Son fármacos cuyo principal efecto no es la analgésia, pero que pueden potenciar el efecto analgésico de otras drogas o tratar otros síntomas pres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22000" y="188640"/>
            <a:ext cx="544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b2b2b2"/>
                </a:solidFill>
                <a:latin typeface="Arial"/>
              </a:rPr>
              <a:t>Fármacos </a:t>
            </a:r>
            <a:br>
              <a:rPr sz="2400"/>
            </a:br>
            <a:r>
              <a:rPr b="0" lang="es-MX" sz="2400" spc="-1" strike="noStrike">
                <a:solidFill>
                  <a:srgbClr val="b2b2b2"/>
                </a:solidFill>
                <a:latin typeface="Arial"/>
              </a:rPr>
              <a:t>Coadyuvantes Anticonvulsivantes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31640" y="1449360"/>
          <a:ext cx="8229600" cy="3886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árm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os Advers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bamazep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– 600 mgs. c/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 forma progres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nol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del S.N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erplasia Gingiv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xicidad Hepát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nito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– 300 mgs. c/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del S.N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Médula Ós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xicidad Hepát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nazep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- 15 mgs. c/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del S.N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Médula Ós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xicidad Hepát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22000" y="188640"/>
            <a:ext cx="544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Fármacos </a:t>
            </a:r>
            <a:br>
              <a:rPr sz="2800"/>
            </a:b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Coadyuvantes Neuroléptico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31640" y="1449360"/>
          <a:ext cx="8229600" cy="2193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árm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os Advers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rpromaz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– 25 mgs. c/ 4 - 8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otensó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ención Urin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rapiramid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loperid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5 mgs. c/ 12 – 24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otensó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ención Urin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rapiramid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22000" y="188640"/>
            <a:ext cx="544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Fármacos </a:t>
            </a:r>
            <a:br>
              <a:rPr sz="2800"/>
            </a:b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Coadyuvantes Ansiolítico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31640" y="1449360"/>
          <a:ext cx="8229600" cy="4078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árm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os Advers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zep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– 10 mgs. c/ 8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S.N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e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ax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razep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2 mgs. C/ 8 h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S.N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e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ax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prazol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5 – 2 mgs. c/ 8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S.N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e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ax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azol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 – 15 mgs. Dosis hipnót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– 30 mgs. Dosis seda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 S.N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e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ax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22000" y="188640"/>
            <a:ext cx="544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Fármacos </a:t>
            </a:r>
            <a:br>
              <a:rPr sz="2800"/>
            </a:br>
            <a:r>
              <a:rPr b="0" lang="es-MX" sz="2800" spc="-1" strike="noStrike">
                <a:solidFill>
                  <a:srgbClr val="b2b2b2"/>
                </a:solidFill>
                <a:latin typeface="Arial"/>
              </a:rPr>
              <a:t>Coadyuvantes Corticosteroide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31640" y="1449360"/>
          <a:ext cx="8229600" cy="4030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árm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i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os Advers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niso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– 75 mgs. c/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ún situación clín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ri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erglicem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ertensión Arter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teoporo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ametaso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8 mgs. C/ 8 h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ún situación clín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ri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erglicem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ertensión Arter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teoporo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xametaso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– 24 mgs. c/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ri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erglicem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ertensión Arter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2b2b2"/>
                </a:solidFill>
                <a:latin typeface="Arial"/>
              </a:rPr>
              <a:t>Modo de Utilizar un Opiáceo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¿Cuál Opiáceo?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cisión Médica. El control responsabilidad del equi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¿En qué do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CIENTE SIN OPIACEOS PREVIOS Y CON EVA DE 5 a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deína 6% oral, solución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30 mg=15 gotas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/ 4 – 6 h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orfina oral, 30 mg., lib. Corta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/ 4 – 6 hrs y pudiendo dividir la do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orfina parenteral, 5 – 10 mg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/ 4 – 6 hrs. Es ideal la vía S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CIENTE QUE RECIBE OPIACEOS (lo más frecuen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ocer todas las dosis diaria en m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umentarla entre un 15 a 20 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uando se cambia de un opioide a otro hay que dividir o multiplicar por un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eficiente de equianalg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2b2b2"/>
                </a:solidFill>
                <a:latin typeface="Arial"/>
              </a:rPr>
              <a:t>Modo de Utilizar un Opiáceo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06280" y="1584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Vía de administ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renterales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Subcuta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ndoven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Perid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sp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vía Oral jamás SOS o PRN, a menos que sea dosis de resc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codeina y la morfina de corta duración debe administrarse cada 4 horas máximo cada 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morfina de larga duración se debe dosificar cada 8 a 12 h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empre programar una dosis de rescate que será el 10% de la dosis total diar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2b2b2"/>
                </a:solidFill>
                <a:latin typeface="Arial"/>
              </a:rPr>
              <a:t>Opiáceos Parenterale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INYECCIONES INTERMITENTES o BO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la forma más usada,económica y sencilla de administ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dosis total se divide por 6 y se aplica cada 4 hrs. O bien en 4 y se aplica cada 6 h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 mariposa o bránula sc con una tapa de punción en su extre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puede ubicar y dejar por 7 a 10 días sin mayores riesg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o es un procedimiento doloro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quiere instrucción del paciente o famili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iene la desventaja de producir variaciones en el nivel analgés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2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2b2b2"/>
                </a:solidFill>
                <a:latin typeface="Arial"/>
              </a:rPr>
              <a:t>Opiáceos Parenterale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FUSION CONTIN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Tiene la gran ventaja de eliminar las variaciones de la concentración sanguín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eferible en pacientes que reciben altas dosis de opiáceos o pacientes que es difícil obtener control del d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xisten para tal efecto los dispositivos mecánicos, las bombas mecánicas contínuas y las P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927000" y="1224000"/>
            <a:ext cx="373068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Acerquemonos al proble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ara el tercio restante incurable; se les debe ofrecer mejorar su calidad de vida y dignificar su muer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ntre un 40 a un 60% de los pacientes con cánceres, pueden presentar dolor en alguna etapa de la enfermedad, lo que aumenta a un 80% en las fases termin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2b2b2"/>
                </a:solidFill>
                <a:latin typeface="Arial"/>
              </a:rPr>
              <a:t>Mitos de la Morfina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27000" y="13590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morfina por vía oral es inefec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paciente puede usar morfina para suicid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uso de morfina lo transformará en un drogadi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mantención de grandes cantidades de morfina en el hogar puede inducir al ro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morfina desarrolla tolerancia rápidamente (no tiene efecto tec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morfina provoca eufo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morfina produce depresión respirato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morfina acorta la evolución de la enferm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2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2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41280" y="2079720"/>
            <a:ext cx="814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…”</a:t>
            </a: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Tú importas por ser t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Importas hasta el último momento de tu v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 haremos todo lo que esté a nuestro alcance, no só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para ayudarte a morir en paz sino también a vivi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hasta el día que muera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12000" y="5229360"/>
            <a:ext cx="22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Arial"/>
              </a:rPr>
              <a:t>Cicely Saun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2b2b2"/>
                </a:solidFill>
                <a:latin typeface="Arial"/>
              </a:rPr>
              <a:t>Cáncer un problema de Salud Públic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1640"/>
          <a:ext cx="4038480" cy="21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1640"/>
                    <a:ext cx="4038480" cy="21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69920" y="3943440"/>
          <a:ext cx="4470480" cy="24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920" y="3943440"/>
                    <a:ext cx="447048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643280" y="1341360"/>
          <a:ext cx="4321440" cy="338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1341360"/>
                    <a:ext cx="43214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356000" y="5157720"/>
            <a:ext cx="44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e estima una incidencia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47 casos por 100000 hb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¿Cuántos sufrieron de dolor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50920" y="1224000"/>
            <a:ext cx="8686800" cy="4195800"/>
            <a:chOff x="250920" y="1224000"/>
            <a:chExt cx="8686800" cy="4195800"/>
          </a:xfrm>
        </p:grpSpPr>
        <p:grpSp>
          <p:nvGrpSpPr>
            <p:cNvPr id="123" name=""/>
            <p:cNvGrpSpPr/>
            <p:nvPr/>
          </p:nvGrpSpPr>
          <p:grpSpPr>
            <a:xfrm>
              <a:off x="250920" y="1224000"/>
              <a:ext cx="6680160" cy="3681360"/>
              <a:chOff x="250920" y="1224000"/>
              <a:chExt cx="6680160" cy="3681360"/>
            </a:xfrm>
          </p:grpSpPr>
          <p:graphicFrame>
            <p:nvGraphicFramePr>
              <p:cNvPr id="124" name=""/>
              <p:cNvGraphicFramePr/>
              <p:nvPr/>
            </p:nvGraphicFramePr>
            <p:xfrm>
              <a:off x="250920" y="1224000"/>
              <a:ext cx="6680160" cy="3681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50920" y="1224000"/>
                        <a:ext cx="6680160" cy="3681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6" name=""/>
              <p:cNvSpPr/>
              <p:nvPr/>
            </p:nvSpPr>
            <p:spPr>
              <a:xfrm>
                <a:off x="1035000" y="4484520"/>
                <a:ext cx="38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ffff"/>
                    </a:solidFill>
                    <a:latin typeface="Arial"/>
                  </a:rPr>
                  <a:t>Fallecidos por Cánc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25720" y="3314880"/>
                <a:ext cx="86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80%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91080" y="236844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20%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5202360" y="2619360"/>
              <a:ext cx="3735360" cy="280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Niveles del Dol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00360" y="3933720"/>
            <a:ext cx="3889440" cy="1150920"/>
            <a:chOff x="2700360" y="3933720"/>
            <a:chExt cx="3889440" cy="1150920"/>
          </a:xfrm>
        </p:grpSpPr>
        <p:sp>
          <p:nvSpPr>
            <p:cNvPr id="132" name=""/>
            <p:cNvSpPr/>
            <p:nvPr/>
          </p:nvSpPr>
          <p:spPr>
            <a:xfrm>
              <a:off x="2700360" y="4221000"/>
              <a:ext cx="3889440" cy="863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720" y="3933720"/>
              <a:ext cx="15112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Do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476360" y="2349360"/>
            <a:ext cx="6408720" cy="2737080"/>
            <a:chOff x="1476360" y="2349360"/>
            <a:chExt cx="6408720" cy="2737080"/>
          </a:xfrm>
        </p:grpSpPr>
        <p:sp>
          <p:nvSpPr>
            <p:cNvPr id="135" name=""/>
            <p:cNvSpPr/>
            <p:nvPr/>
          </p:nvSpPr>
          <p:spPr>
            <a:xfrm>
              <a:off x="1476360" y="2637000"/>
              <a:ext cx="6408720" cy="2449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48000" y="2349360"/>
              <a:ext cx="25923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Conducta del Do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124000" y="3141720"/>
            <a:ext cx="4969080" cy="1942920"/>
            <a:chOff x="2124000" y="3141720"/>
            <a:chExt cx="4969080" cy="1942920"/>
          </a:xfrm>
        </p:grpSpPr>
        <p:sp>
          <p:nvSpPr>
            <p:cNvPr id="138" name=""/>
            <p:cNvSpPr/>
            <p:nvPr/>
          </p:nvSpPr>
          <p:spPr>
            <a:xfrm>
              <a:off x="2124000" y="3429000"/>
              <a:ext cx="4969080" cy="1655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51280" y="3141720"/>
              <a:ext cx="15112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Sufri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427640" y="4365720"/>
            <a:ext cx="360360" cy="431640"/>
          </a:xfrm>
          <a:prstGeom prst="upArrow">
            <a:avLst>
              <a:gd name="adj1" fmla="val 50000"/>
              <a:gd name="adj2" fmla="val 2994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500280"/>
            <a:ext cx="360360" cy="432000"/>
          </a:xfrm>
          <a:prstGeom prst="upArrow">
            <a:avLst>
              <a:gd name="adj1" fmla="val 50000"/>
              <a:gd name="adj2" fmla="val 2997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2708280"/>
            <a:ext cx="360360" cy="431640"/>
          </a:xfrm>
          <a:prstGeom prst="upArrow">
            <a:avLst>
              <a:gd name="adj1" fmla="val 50000"/>
              <a:gd name="adj2" fmla="val 2994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5661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Es una experiencia desagradable sensorial y emocional que se asocia a una lesión actual o potencial de los tejidos o que se describe en función de dicha lesión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00000" y="1773360"/>
            <a:ext cx="7632720" cy="3463920"/>
            <a:chOff x="900000" y="1773360"/>
            <a:chExt cx="7632720" cy="3463920"/>
          </a:xfrm>
        </p:grpSpPr>
        <p:sp>
          <p:nvSpPr>
            <p:cNvPr id="145" name=""/>
            <p:cNvSpPr/>
            <p:nvPr/>
          </p:nvSpPr>
          <p:spPr>
            <a:xfrm>
              <a:off x="900000" y="1773360"/>
              <a:ext cx="7632720" cy="3311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49840" y="4869000"/>
              <a:ext cx="1587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Nocicep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700360" y="2421000"/>
            <a:ext cx="439272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Dol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835280" y="62064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periencias traumáticas juvenil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1557360"/>
            <a:ext cx="647640" cy="863640"/>
          </a:xfrm>
          <a:prstGeom prst="downArrow">
            <a:avLst>
              <a:gd name="adj1" fmla="val 50000"/>
              <a:gd name="adj2" fmla="val 3333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3860640"/>
            <a:ext cx="576000" cy="863640"/>
          </a:xfrm>
          <a:prstGeom prst="downArrow">
            <a:avLst>
              <a:gd name="adj1" fmla="val 50000"/>
              <a:gd name="adj2" fmla="val 3748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619280" y="5013360"/>
            <a:ext cx="628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Es siempre desagrad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58920" y="5734080"/>
            <a:ext cx="7058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pone una experiencia emocion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2b2b2"/>
                </a:solidFill>
                <a:latin typeface="Arial"/>
              </a:rPr>
              <a:t>Esquema manejo OMS, Milán 1982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472428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08720" y="24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71640" y="1700280"/>
            <a:ext cx="7056360" cy="4672080"/>
            <a:chOff x="971640" y="1700280"/>
            <a:chExt cx="7056360" cy="4672080"/>
          </a:xfrm>
        </p:grpSpPr>
        <p:sp>
          <p:nvSpPr>
            <p:cNvPr id="158" name=""/>
            <p:cNvSpPr/>
            <p:nvPr/>
          </p:nvSpPr>
          <p:spPr>
            <a:xfrm>
              <a:off x="971640" y="5157720"/>
              <a:ext cx="4176720" cy="647640"/>
            </a:xfrm>
            <a:prstGeom prst="flowChartProcess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59280" y="2492280"/>
              <a:ext cx="4176720" cy="720720"/>
            </a:xfrm>
            <a:prstGeom prst="flowChartProcess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0920" y="3860640"/>
              <a:ext cx="4176720" cy="720720"/>
            </a:xfrm>
            <a:prstGeom prst="flowChartProcess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971640" y="4581000"/>
              <a:ext cx="1079280" cy="5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5146560" y="4581000"/>
              <a:ext cx="1081080" cy="5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227640" y="3212640"/>
              <a:ext cx="100836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050920" y="3212640"/>
              <a:ext cx="100836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059280" y="1989000"/>
              <a:ext cx="122364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236000" y="1989000"/>
              <a:ext cx="79200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236000" y="2708280"/>
              <a:ext cx="79200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227640" y="3860640"/>
              <a:ext cx="100836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146560" y="5157360"/>
              <a:ext cx="108108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27640" y="4581360"/>
              <a:ext cx="0" cy="5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36000" y="3213000"/>
              <a:ext cx="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28000" y="1989000"/>
              <a:ext cx="0" cy="7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1763640" y="5877000"/>
              <a:ext cx="230508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DOLOR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38560" y="5157720"/>
              <a:ext cx="1295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I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oayuda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91280" y="5013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72360" y="3716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067280" y="1700280"/>
              <a:ext cx="376236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Desaparición del Dolo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95640" y="4724280"/>
              <a:ext cx="280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Si el dolor persiste o aumen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3640" y="3357720"/>
              <a:ext cx="28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Si el dolor persiste o aumen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87640" y="3933720"/>
              <a:ext cx="25923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INE + OPIOIDE DEBI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oayuda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22560" y="2565360"/>
              <a:ext cx="26640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INE + OPIOIDE POTE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oayuda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02:13:48Z</dcterms:created>
  <dc:creator>Johnny Christian Yáñez Pizarro</dc:creator>
  <dc:description/>
  <dc:language>en-US</dc:language>
  <cp:lastModifiedBy>Angelina Diaz</cp:lastModifiedBy>
  <cp:lastPrinted>2004-06-17T14:56:51Z</cp:lastPrinted>
  <dcterms:modified xsi:type="dcterms:W3CDTF">2004-06-17T15:06:29Z</dcterms:modified>
  <cp:revision>21</cp:revision>
  <dc:subject/>
  <dc:title>Atención Integral del Paciente Terminal</dc:title>
</cp:coreProperties>
</file>