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8.wmf" ContentType="image/x-wmf"/>
  <Override PartName="/ppt/media/image12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7.jpeg" ContentType="image/jpeg"/>
  <Override PartName="/ppt/media/image11.png" ContentType="image/png"/>
  <Override PartName="/ppt/media/image6.jpeg" ContentType="image/jpeg"/>
  <Override PartName="/ppt/media/image10.png" ContentType="image/png"/>
  <Override PartName="/ppt/media/image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7005600" cy="929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96684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790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96684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363F571-A5A8-450A-AEF1-10A0449B47D3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Una dosis adecuada del analgésico preciso, administrado a intervalos fijos hace posible el control del dolor; siempre se precisan dosis mayores para suprimir y controlar el dolor cuando éste ya se ha instalado. Toda terapia antiálgica debe considerar “dosis de rescate” (extras o de reforzamiento), para el dolor incidental o inespera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90E7-ACC8-4693-ACE0-ED1EC4DF5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8D69-FD83-4BC5-80C0-388287879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C4D1-5CD1-4CC9-B787-588DA90FA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0B01-9C45-4B39-BE60-90B4D4AB5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29A65-1E21-4278-908F-8562F1205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AD837-63E0-4381-B3AA-171B8D062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0F086-D4D2-4EA7-9862-802E87C55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78684-8B6B-4A1E-AD1C-E03643AFB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04141-0DBA-40D0-8D11-4F5B8DFEE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D7A02-8FD2-445E-A67E-66578EC3B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376E4-B4F2-4050-93D4-95F3533C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C34F-E538-49C8-B83D-9E6D19EEA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AAE64-2CC6-4EF5-9A69-B6A52F10E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9167B-5472-4D51-9917-A8FA543F5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2FEB9-C9A9-4762-86BA-BC4126941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E4234-1BA9-4BC8-98F6-0013361C2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2372C-4702-48A0-B28B-537CD27E4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F68F-848F-438D-91F8-4427E7B17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5A95-AC45-41FA-ABB1-D39FE8599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3993-6591-43EA-A2D4-BEF559B06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1B08-6E1C-417E-8F52-ECF3C1FEC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C1DE-B13D-4C63-BBF9-86EEA5C98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84A2-CCBC-4A43-9223-E77A6844A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83F7-2D3C-4F0C-A1C2-F45E3322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69E70-B201-4D25-B1C7-2236EF82453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81EAC-ED97-4416-857F-BF315824A2C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b2b2b2"/>
                </a:solidFill>
                <a:latin typeface="Arial"/>
              </a:rPr>
              <a:t>Atención Integral del Paciente Terminal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Dr. Johnny Ch. Yáñez Pizar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2556000" y="2276640"/>
            <a:ext cx="4321080" cy="1944360"/>
            <a:chOff x="2556000" y="2276640"/>
            <a:chExt cx="4321080" cy="1944360"/>
          </a:xfrm>
        </p:grpSpPr>
        <p:sp>
          <p:nvSpPr>
            <p:cNvPr id="183" name=""/>
            <p:cNvSpPr/>
            <p:nvPr/>
          </p:nvSpPr>
          <p:spPr>
            <a:xfrm>
              <a:off x="2556000" y="2276640"/>
              <a:ext cx="4321080" cy="194436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 txBox="1"/>
            <p:nvPr/>
          </p:nvSpPr>
          <p:spPr>
            <a:xfrm>
              <a:off x="3348000" y="2924280"/>
              <a:ext cx="276228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cccc"/>
                  </a:solidFill>
                  <a:latin typeface="Arial Black"/>
                </a:rPr>
                <a:t>Dolor Total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1907640" y="1628280"/>
            <a:ext cx="5617080" cy="3240720"/>
            <a:chOff x="1907640" y="1628280"/>
            <a:chExt cx="5617080" cy="3240720"/>
          </a:xfrm>
        </p:grpSpPr>
        <p:sp>
          <p:nvSpPr>
            <p:cNvPr id="186" name=""/>
            <p:cNvSpPr/>
            <p:nvPr/>
          </p:nvSpPr>
          <p:spPr>
            <a:xfrm>
              <a:off x="6948360" y="3141720"/>
              <a:ext cx="576360" cy="217440"/>
            </a:xfrm>
            <a:prstGeom prst="leftArrow">
              <a:avLst>
                <a:gd name="adj1" fmla="val 50000"/>
                <a:gd name="adj2" fmla="val 662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1907640" y="1628280"/>
              <a:ext cx="2953440" cy="3240720"/>
              <a:chOff x="1907640" y="1628280"/>
              <a:chExt cx="2953440" cy="3240720"/>
            </a:xfrm>
          </p:grpSpPr>
          <p:sp>
            <p:nvSpPr>
              <p:cNvPr id="188" name=""/>
              <p:cNvSpPr/>
              <p:nvPr/>
            </p:nvSpPr>
            <p:spPr>
              <a:xfrm rot="5400000">
                <a:off x="4463640" y="4471920"/>
                <a:ext cx="576360" cy="217800"/>
              </a:xfrm>
              <a:prstGeom prst="leftArrow">
                <a:avLst>
                  <a:gd name="adj1" fmla="val 50000"/>
                  <a:gd name="adj2" fmla="val 66157"/>
                </a:avLst>
              </a:prstGeom>
              <a:solidFill>
                <a:srgbClr val="33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16200000">
                <a:off x="4464000" y="1807560"/>
                <a:ext cx="576360" cy="217800"/>
              </a:xfrm>
              <a:prstGeom prst="leftArrow">
                <a:avLst>
                  <a:gd name="adj1" fmla="val 50000"/>
                  <a:gd name="adj2" fmla="val 66157"/>
                </a:avLst>
              </a:prstGeom>
              <a:solidFill>
                <a:srgbClr val="33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rot="10800000">
                <a:off x="1907640" y="3141720"/>
                <a:ext cx="576360" cy="217440"/>
              </a:xfrm>
              <a:prstGeom prst="leftArrow">
                <a:avLst>
                  <a:gd name="adj1" fmla="val 50000"/>
                  <a:gd name="adj2" fmla="val 66267"/>
                </a:avLst>
              </a:prstGeom>
              <a:solidFill>
                <a:srgbClr val="33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1" name=""/>
          <p:cNvSpPr txBox="1"/>
          <p:nvPr/>
        </p:nvSpPr>
        <p:spPr>
          <a:xfrm>
            <a:off x="179280" y="3068640"/>
            <a:ext cx="1619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10199"/>
                </a:solidFill>
                <a:latin typeface="Arial Black"/>
              </a:rPr>
              <a:t>Depresió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10199"/>
              </a:solidFill>
              <a:latin typeface="Arial Black"/>
              <a:ea typeface="Arial Black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708360" y="1197000"/>
            <a:ext cx="21589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Dolor Físic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780000" y="4941720"/>
            <a:ext cx="2016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ff"/>
                </a:solidFill>
                <a:latin typeface="Arial Black"/>
              </a:rPr>
              <a:t>Ansieda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ff"/>
              </a:solidFill>
              <a:latin typeface="Arial Black"/>
              <a:ea typeface="Arial Black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7596360" y="3068640"/>
            <a:ext cx="107928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Rabia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95" name=""/>
          <p:cNvSpPr/>
          <p:nvPr/>
        </p:nvSpPr>
        <p:spPr>
          <a:xfrm>
            <a:off x="3635280" y="260280"/>
            <a:ext cx="381636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Arial"/>
              </a:rPr>
              <a:t>Efectos secundarios del tratamien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Arial"/>
              </a:rPr>
              <a:t>Estímulo doloros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Arial"/>
              </a:rPr>
              <a:t>Otros síntom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79280" y="1341360"/>
            <a:ext cx="1656000" cy="16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Arial"/>
              </a:rPr>
              <a:t>Pérdida d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Arial"/>
              </a:rPr>
              <a:t>Posición Soc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Arial"/>
              </a:rPr>
              <a:t>Rol Famili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Arial"/>
              </a:rPr>
              <a:t>Trabaj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Arial"/>
              </a:rPr>
              <a:t>Imagen Corpor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Arial"/>
              </a:rPr>
              <a:t>Desesperanz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877080" y="2133720"/>
            <a:ext cx="19080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Arial"/>
              </a:rPr>
              <a:t>Retardo Diagnóstic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Arial"/>
              </a:rPr>
              <a:t>Incomunicación Médic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Arial"/>
              </a:rPr>
              <a:t>Insomni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924360" y="5373720"/>
            <a:ext cx="17287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Arial"/>
              </a:rPr>
              <a:t>Miedo al Hospit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Arial"/>
              </a:rPr>
              <a:t>Miedo al Dol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Arial"/>
              </a:rPr>
              <a:t>Miedo a la Muer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164360" y="63817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Arial"/>
              </a:rPr>
              <a:t>Saunders, 199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b2b2b2"/>
                </a:solidFill>
                <a:latin typeface="Arial"/>
              </a:rPr>
              <a:t>Consumo de Morfina y Petidin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465120" y="1600200"/>
            <a:ext cx="8212320" cy="4529160"/>
            <a:chOff x="465120" y="1600200"/>
            <a:chExt cx="8212320" cy="4529160"/>
          </a:xfrm>
        </p:grpSpPr>
        <p:graphicFrame>
          <p:nvGraphicFramePr>
            <p:cNvPr id="202" name=""/>
            <p:cNvGraphicFramePr/>
            <p:nvPr/>
          </p:nvGraphicFramePr>
          <p:xfrm>
            <a:off x="465120" y="1642680"/>
            <a:ext cx="8212320" cy="4486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5120" y="1642680"/>
                      <a:ext cx="8212320" cy="448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4" name=""/>
            <p:cNvSpPr/>
            <p:nvPr/>
          </p:nvSpPr>
          <p:spPr>
            <a:xfrm>
              <a:off x="684360" y="1600200"/>
              <a:ext cx="1079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ffffff"/>
                  </a:solidFill>
                  <a:latin typeface="Arial"/>
                </a:rPr>
                <a:t>kilogramo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610920" y="691920"/>
            <a:ext cx="799308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El tratamiento paliativo consiste en la </a:t>
            </a: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atención activa y completa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de y con los pacientes cuya enfermedad no responde al tratamiento curativo , y que </a:t>
            </a: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tan fundamental es el alivio del dolor como el de los otros síntomas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, incluyendo en su tratamiento los problemas psicológicos, sociales y espirituales, y que </a:t>
            </a: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su objetivo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es facilitar al paciente y su familia </a:t>
            </a: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la mejor calidad de vida posi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"/>
          <p:cNvGrpSpPr/>
          <p:nvPr/>
        </p:nvGrpSpPr>
        <p:grpSpPr>
          <a:xfrm>
            <a:off x="755640" y="907920"/>
            <a:ext cx="7777080" cy="3960720"/>
            <a:chOff x="755640" y="907920"/>
            <a:chExt cx="7777080" cy="3960720"/>
          </a:xfrm>
        </p:grpSpPr>
        <p:sp>
          <p:nvSpPr>
            <p:cNvPr id="207" name=""/>
            <p:cNvSpPr/>
            <p:nvPr/>
          </p:nvSpPr>
          <p:spPr>
            <a:xfrm>
              <a:off x="755640" y="907920"/>
              <a:ext cx="7777080" cy="3960720"/>
            </a:xfrm>
            <a:prstGeom prst="flowChartExtra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987640" y="2563560"/>
              <a:ext cx="3313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268360" y="3355560"/>
              <a:ext cx="4751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547640" y="4076280"/>
              <a:ext cx="6193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643280" y="3355560"/>
              <a:ext cx="0" cy="72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 txBox="1"/>
            <p:nvPr/>
          </p:nvSpPr>
          <p:spPr>
            <a:xfrm>
              <a:off x="3924360" y="1699920"/>
              <a:ext cx="1352520" cy="628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ff00"/>
                  </a:solidFill>
                  <a:latin typeface="Arial Black"/>
                </a:rPr>
                <a:t>CONTROL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ff00"/>
                  </a:solidFill>
                  <a:latin typeface="Arial Black"/>
                </a:rPr>
                <a:t>SINTOMA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13" name=""/>
            <p:cNvSpPr txBox="1"/>
            <p:nvPr/>
          </p:nvSpPr>
          <p:spPr>
            <a:xfrm>
              <a:off x="2627280" y="3571560"/>
              <a:ext cx="135252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ff00"/>
                  </a:solidFill>
                  <a:latin typeface="Arial Black"/>
                </a:rPr>
                <a:t>PACIENTE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14" name=""/>
            <p:cNvSpPr txBox="1"/>
            <p:nvPr/>
          </p:nvSpPr>
          <p:spPr>
            <a:xfrm>
              <a:off x="3203640" y="2852640"/>
              <a:ext cx="2952720" cy="268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ff00"/>
                  </a:solidFill>
                  <a:latin typeface="Arial Black"/>
                </a:rPr>
                <a:t>APOYO PSICOSOCIAL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15" name=""/>
            <p:cNvSpPr txBox="1"/>
            <p:nvPr/>
          </p:nvSpPr>
          <p:spPr>
            <a:xfrm>
              <a:off x="5292720" y="3571560"/>
              <a:ext cx="135252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ff00"/>
                  </a:solidFill>
                  <a:latin typeface="Arial Black"/>
                </a:rPr>
                <a:t>FAMILI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16" name=""/>
            <p:cNvSpPr txBox="1"/>
            <p:nvPr/>
          </p:nvSpPr>
          <p:spPr>
            <a:xfrm>
              <a:off x="1908000" y="4363920"/>
              <a:ext cx="5616720" cy="268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ff00"/>
                  </a:solidFill>
                  <a:latin typeface="Arial Black"/>
                </a:rPr>
                <a:t>EQUIPO MULTIPROFESIONAL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1476360" y="5229360"/>
            <a:ext cx="655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El foco o sujeto de atención de los cuidados paliativos 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LA UNIDAD PACIENTE FAMIL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3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3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3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b2b2b2"/>
                </a:solidFill>
                <a:latin typeface="Arial"/>
              </a:rPr>
              <a:t>Importancia de la Famili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La consideración de la familia como el sujeto de los cuidados junto al enfermo, revitalizan la responsabilidad que le cabe en la transmisión de valores y estilos de vida saludab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La familia es el sujeto y el actor del proceso de educación para el autocuidado del familiar enferm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Se establece una relación simbiótica, donde todas las partes se benefici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b2b2b2"/>
                </a:solidFill>
                <a:latin typeface="Arial"/>
              </a:rPr>
              <a:t>Problemas habituales que interfieren en el alivio del dolor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Falta de respaldo a los programas locales de Alivio del Dolor y Cuidados Paliativ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Desconocimiento en los profesionales de la salud sobre alivio del dolor y cuidados paliativos oncológic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Limitados programas de educación continua a los profesionales de la salud sobre el uso de medicamentos analgésicos y el valor de los cuidados paliativos en la calidad de vida de los pacientes con cánce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3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3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3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3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3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3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3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3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30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b2b2b2"/>
                </a:solidFill>
                <a:latin typeface="Arial"/>
              </a:rPr>
              <a:t>Problemas habituales que interfieren en el alivio del dolor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Carencia de asignaturas o unidades sobre ADCP en los planes de estudio de las carreras de los profesionales de la salu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Mitos con relación al uso de los opioides y fármacos afines, muy en especial relacionado con el abuso de drogas en la comuni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Algunas restricciones reglamentarias en el suministro, distribución y prescripción de los opiáceos, en especial en la atención primar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Falta de  recursos financieros para la investigación clínica y epidemiológica sobre ADC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"/>
          <p:cNvGrpSpPr/>
          <p:nvPr/>
        </p:nvGrpSpPr>
        <p:grpSpPr>
          <a:xfrm>
            <a:off x="1941120" y="985320"/>
            <a:ext cx="5127120" cy="5083920"/>
            <a:chOff x="1941120" y="985320"/>
            <a:chExt cx="5127120" cy="5083920"/>
          </a:xfrm>
        </p:grpSpPr>
        <p:sp>
          <p:nvSpPr>
            <p:cNvPr id="225" name="_s28681"/>
            <p:cNvSpPr/>
            <p:nvPr/>
          </p:nvSpPr>
          <p:spPr>
            <a:xfrm>
              <a:off x="2607120" y="1688040"/>
              <a:ext cx="3795480" cy="367884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blipFill rotWithShape="0">
              <a:blip r:embed="rId1"/>
              <a:srcRect/>
              <a:stretch/>
            </a:blip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_s28682"/>
            <p:cNvSpPr/>
            <p:nvPr/>
          </p:nvSpPr>
          <p:spPr>
            <a:xfrm rot="7200000">
              <a:off x="2664720" y="1629360"/>
              <a:ext cx="3678840" cy="379548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_s28684"/>
            <p:cNvSpPr/>
            <p:nvPr/>
          </p:nvSpPr>
          <p:spPr>
            <a:xfrm rot="14400000">
              <a:off x="2665440" y="1629000"/>
              <a:ext cx="3678840" cy="379548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_s28679"/>
            <p:cNvSpPr/>
            <p:nvPr/>
          </p:nvSpPr>
          <p:spPr>
            <a:xfrm>
              <a:off x="5294520" y="2200680"/>
              <a:ext cx="1157400" cy="11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"/>
                </a:rPr>
                <a:t>VISERA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_s28680"/>
            <p:cNvSpPr/>
            <p:nvPr/>
          </p:nvSpPr>
          <p:spPr>
            <a:xfrm>
              <a:off x="3926160" y="4498920"/>
              <a:ext cx="1157400" cy="11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"/>
                </a:rPr>
                <a:t>NEUROPATIC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_s28683"/>
            <p:cNvSpPr/>
            <p:nvPr/>
          </p:nvSpPr>
          <p:spPr>
            <a:xfrm>
              <a:off x="2557800" y="2200680"/>
              <a:ext cx="1157400" cy="11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"/>
                </a:rPr>
                <a:t>SOMATIC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b2b2b2"/>
                </a:solidFill>
                <a:latin typeface="Arial"/>
              </a:rPr>
              <a:t>Tipos de Dolo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95280" y="2637000"/>
            <a:ext cx="374328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Bien localiz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Carácter Punzante o Queman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Límites Precis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Ubicado en el sitio del estímul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No referi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516720" y="2565360"/>
            <a:ext cx="241128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Mal localiz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Vago o Atenu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Imprecis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A distancia del Estímul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Referi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b2b2b2"/>
                </a:solidFill>
                <a:latin typeface="Arial"/>
              </a:rPr>
              <a:t>Dado que el dolor es en sí dinámico, su valoración es un proceso contínuo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Se debe aplicar cada vez que examinemos a nuestro paci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Imprescindible un Registro, un protocolo de observación para recolectar los datos en forma sistematiza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Ubicación e Irradi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Tipo o carác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Intens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omienzo y evolu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Factores que lo modific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Actitud del Enferm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Síntomas acompañan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11280" y="581040"/>
            <a:ext cx="8010360" cy="60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106640" y="863640"/>
            <a:ext cx="6976800" cy="52354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85920" y="1719000"/>
            <a:ext cx="8229600" cy="29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Arial"/>
              </a:rPr>
              <a:t>“</a:t>
            </a:r>
            <a:r>
              <a:rPr b="0" lang="es-MX" sz="3200" spc="-1" strike="noStrike">
                <a:solidFill>
                  <a:srgbClr val="ffff99"/>
                </a:solidFill>
                <a:latin typeface="Arial"/>
              </a:rPr>
              <a:t>La ausencia de dolor debe ser considerada como un derecho de todo enfermo con cáncer y el acceso al tratamiento contra el dolor, como una manifestación del respeto hacia ese derecho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b2b2b2"/>
                </a:solidFill>
                <a:latin typeface="Arial"/>
              </a:rPr>
              <a:t>La intensidad del dolor medida con una escala preestablecida.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 rot="1313400">
            <a:off x="610920" y="1773360"/>
            <a:ext cx="1827000" cy="111276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3203640" y="1989000"/>
            <a:ext cx="50767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Escala Visual Análoga - EVA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385920" y="2979720"/>
            <a:ext cx="8507160" cy="817560"/>
            <a:chOff x="385920" y="2979720"/>
            <a:chExt cx="8507160" cy="817560"/>
          </a:xfrm>
        </p:grpSpPr>
        <p:sp>
          <p:nvSpPr>
            <p:cNvPr id="241" name=""/>
            <p:cNvSpPr/>
            <p:nvPr/>
          </p:nvSpPr>
          <p:spPr>
            <a:xfrm>
              <a:off x="611280" y="3473280"/>
              <a:ext cx="7200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85920" y="3429000"/>
              <a:ext cx="166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"/>
                </a:rPr>
                <a:t>Sin Dolo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227720" y="3429000"/>
              <a:ext cx="166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"/>
                </a:rPr>
                <a:t>Peor Dolo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 txBox="1"/>
            <p:nvPr/>
          </p:nvSpPr>
          <p:spPr>
            <a:xfrm>
              <a:off x="3807000" y="2979720"/>
              <a:ext cx="857160" cy="295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12600">
                    <a:solidFill>
                      <a:srgbClr val="3399ff"/>
                    </a:solidFill>
                    <a:miter/>
                  </a:ln>
                  <a:solidFill>
                    <a:srgbClr val="010199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Anverso</a:t>
              </a:r>
              <a:endParaRPr b="0" lang="en-US" sz="2000" spc="1" strike="noStrike">
                <a:ln w="12600">
                  <a:solidFill>
                    <a:srgbClr val="3399ff"/>
                  </a:solidFill>
                  <a:miter/>
                </a:ln>
                <a:solidFill>
                  <a:srgbClr val="0101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297000" y="4103640"/>
            <a:ext cx="8640720" cy="1449360"/>
            <a:chOff x="297000" y="4103640"/>
            <a:chExt cx="8640720" cy="1449360"/>
          </a:xfrm>
        </p:grpSpPr>
        <p:grpSp>
          <p:nvGrpSpPr>
            <p:cNvPr id="246" name=""/>
            <p:cNvGrpSpPr/>
            <p:nvPr/>
          </p:nvGrpSpPr>
          <p:grpSpPr>
            <a:xfrm>
              <a:off x="611280" y="4552920"/>
              <a:ext cx="7200720" cy="216000"/>
              <a:chOff x="611280" y="4552920"/>
              <a:chExt cx="7200720" cy="216000"/>
            </a:xfrm>
          </p:grpSpPr>
          <p:sp>
            <p:nvSpPr>
              <p:cNvPr id="247" name=""/>
              <p:cNvSpPr/>
              <p:nvPr/>
            </p:nvSpPr>
            <p:spPr>
              <a:xfrm>
                <a:off x="611280" y="4768920"/>
                <a:ext cx="720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V="1">
                <a:off x="1332000" y="4552920"/>
                <a:ext cx="0" cy="216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V="1">
                <a:off x="3490920" y="4552920"/>
                <a:ext cx="0" cy="216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V="1">
                <a:off x="4205160" y="4552920"/>
                <a:ext cx="0" cy="216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4932360" y="4552920"/>
                <a:ext cx="0" cy="216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V="1">
                <a:off x="5651640" y="4552920"/>
                <a:ext cx="0" cy="216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V="1">
                <a:off x="2050920" y="4552920"/>
                <a:ext cx="0" cy="216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V="1">
                <a:off x="2771640" y="4552920"/>
                <a:ext cx="0" cy="216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6372360" y="4552920"/>
                <a:ext cx="0" cy="216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V="1">
                <a:off x="7091280" y="4552920"/>
                <a:ext cx="0" cy="216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431640" y="4869000"/>
              <a:ext cx="7650360" cy="368280"/>
              <a:chOff x="431640" y="4869000"/>
              <a:chExt cx="7650360" cy="368280"/>
            </a:xfrm>
          </p:grpSpPr>
          <p:sp>
            <p:nvSpPr>
              <p:cNvPr id="258" name=""/>
              <p:cNvSpPr/>
              <p:nvPr/>
            </p:nvSpPr>
            <p:spPr>
              <a:xfrm>
                <a:off x="7632720" y="4869000"/>
                <a:ext cx="449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ffffff"/>
                    </a:solidFill>
                    <a:latin typeface="Arial"/>
                  </a:rPr>
                  <a:t>1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431640" y="4869000"/>
                <a:ext cx="6840360" cy="368280"/>
                <a:chOff x="431640" y="4869000"/>
                <a:chExt cx="6840360" cy="36828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431640" y="4869000"/>
                  <a:ext cx="360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8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1152360" y="4869000"/>
                  <a:ext cx="360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800" spc="-1" strike="noStrike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1871280" y="4869000"/>
                  <a:ext cx="360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8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2592000" y="4869000"/>
                  <a:ext cx="360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800" spc="-1" strike="noStrike">
                      <a:solidFill>
                        <a:srgbClr val="ffffff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3311280" y="4869000"/>
                  <a:ext cx="360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800" spc="-1" strike="noStrike">
                      <a:solidFill>
                        <a:srgbClr val="ffffff"/>
                      </a:solidFill>
                      <a:latin typeface="Arial"/>
                    </a:rPr>
                    <a:t>4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5472000" y="4869000"/>
                  <a:ext cx="360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800" spc="-1" strike="noStrike">
                      <a:solidFill>
                        <a:srgbClr val="ffffff"/>
                      </a:solidFill>
                      <a:latin typeface="Arial"/>
                    </a:rPr>
                    <a:t>7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4752720" y="4869000"/>
                  <a:ext cx="360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800" spc="-1" strike="noStrike">
                      <a:solidFill>
                        <a:srgbClr val="ffffff"/>
                      </a:solidFill>
                      <a:latin typeface="Arial"/>
                    </a:rPr>
                    <a:t>6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4032000" y="4869000"/>
                  <a:ext cx="360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800" spc="-1" strike="noStrike">
                      <a:solidFill>
                        <a:srgbClr val="ffffff"/>
                      </a:solidFill>
                      <a:latin typeface="Arial"/>
                    </a:rPr>
                    <a:t>5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6911640" y="4869000"/>
                  <a:ext cx="360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800" spc="-1" strike="noStrike">
                      <a:solidFill>
                        <a:srgbClr val="ffffff"/>
                      </a:solidFill>
                      <a:latin typeface="Arial"/>
                    </a:rPr>
                    <a:t>9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6192720" y="4869000"/>
                  <a:ext cx="360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800" spc="-1" strike="noStrike">
                      <a:solidFill>
                        <a:srgbClr val="ffffff"/>
                      </a:solidFill>
                      <a:latin typeface="Arial"/>
                    </a:rPr>
                    <a:t>8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0" name=""/>
            <p:cNvSpPr/>
            <p:nvPr/>
          </p:nvSpPr>
          <p:spPr>
            <a:xfrm>
              <a:off x="297000" y="5184720"/>
              <a:ext cx="166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"/>
                </a:rPr>
                <a:t>Sin Dolo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272360" y="5184720"/>
              <a:ext cx="166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"/>
                </a:rPr>
                <a:t>Peor Dolo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 txBox="1"/>
            <p:nvPr/>
          </p:nvSpPr>
          <p:spPr>
            <a:xfrm>
              <a:off x="3762360" y="4103640"/>
              <a:ext cx="857160" cy="295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0">
                    <a:noFill/>
                  </a:ln>
                  <a:solidFill>
                    <a:srgbClr val="0000ff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Reverso</a:t>
              </a:r>
              <a:endParaRPr b="0" lang="en-US" sz="20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611280" y="5589720"/>
            <a:ext cx="1081080" cy="49500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123840 h 495000"/>
              <a:gd name="textAreaBottom" fmla="*/ 371520 h 495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4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9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7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b2b2b2"/>
                </a:solidFill>
                <a:latin typeface="Arial"/>
              </a:rPr>
              <a:t>Otros aspectos son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Calidad o en qué se parece el dol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Inicio, duración, variación, y ritm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¿Cómo expresa el paciente su dol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¿Qué alivia el dol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¿Qué desencadena el dol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Efectos del Dol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4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b2b2b2"/>
                </a:solidFill>
                <a:latin typeface="Arial"/>
              </a:rPr>
              <a:t>Registro diario del dolor y otros síntomas o molestia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611280" y="1584360"/>
            <a:ext cx="805644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3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b2b2b2"/>
                </a:solidFill>
                <a:latin typeface="Arial"/>
              </a:rPr>
              <a:t>El profesional debe poner en práctica una serie de recomendaciones relacionadas con el alivio del dolor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segurarse del diagnóstic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onocimiento de las vías del dolor y de los transmisores que particip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l primer paso en el control efectivo del dolor es, favorecer en el paciente el sentimiento de control de su malest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l esquema analgésico es absolutamente individu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Utilizar hasta donde sea posible la vía or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Tratar enérgicamente el insomni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romover la autonomía del pacie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ctuar preventivamente con los efectos secundarios del tratamiento analgésic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l dolor es dinámico y por tanto su valoración, es un proceso continu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311640" y="2484360"/>
            <a:ext cx="5626080" cy="2431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Una dosis adecuada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del analgésico preciso, administrado a intervalos fijos </a:t>
            </a: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hace posible el control del dolor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; siempre se precisan dosis mayores para suprimir y controlar el dolor cuando éste ya se ha instalado. Toda terapia antiálgica debe considerar </a:t>
            </a: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“dosis de rescate”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(extras o de reforzamiento), para el dolor incidental o inespera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2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20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20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20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20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2000"/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2000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2000"/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2000"/>
                                        <p:tgtEl>
                                          <p:spTgt spid="2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b2b2b2"/>
                </a:solidFill>
                <a:latin typeface="Arial"/>
              </a:rPr>
              <a:t>Tratamiento farmacológic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41280" y="1449360"/>
            <a:ext cx="6950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El médico es responsable de la prescripción del tratamiento analgésico y coadyuvan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La responsabilidad en el control farmacológico del dolor descansa en </a:t>
            </a: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todo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el equipo de salud y por lo tanto el conocimiento debe ser compartido por tod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30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30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b2b2b2"/>
                </a:solidFill>
                <a:latin typeface="Arial"/>
              </a:rPr>
              <a:t>Objetivos del tratamiento son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Controlar el dol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Minimizar los efectos molestos del tratamien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Conservar la autonomía del pacien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50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50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50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b2b2b2"/>
                </a:solidFill>
                <a:latin typeface="Arial"/>
              </a:rPr>
              <a:t>Tarjeta de indicacion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971640" y="1420920"/>
            <a:ext cx="7246800" cy="54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5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76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b2b2b2"/>
                </a:solidFill>
                <a:latin typeface="Arial"/>
              </a:rPr>
              <a:t>Descripción de fármacos básicos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566640" y="1224000"/>
          <a:ext cx="8229600" cy="51814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891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upo de Fármacos Coadyuvant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o en cualquier etap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sicotrópic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nzodiazepin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orpromazi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loperido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19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tidepresiv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mitriptili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iprami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luoxeti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rtrali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19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ticonvulsivant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rbamazepi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nitoi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onazepa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abapenti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rticosteroides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dniso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ta o Dexametaso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pósito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22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b2b2b2"/>
                </a:solidFill>
                <a:latin typeface="Arial"/>
              </a:rPr>
              <a:t>Analgésicos Antiinflamatorios no esteroidales (AINEs)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431640" y="1449360"/>
          <a:ext cx="8229600" cy="50227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ármac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sis Or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ectos Advers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acetamo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 – 1000 mgs. c/ 4 – 6 hr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xicidad Hepáti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 uso excesi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amizo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0 -600 mgs. c/ 4 – 6 hr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erg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granulocitosi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buprofe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0 mgs. c/ 8 hr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t. Gastrointestinal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t. Renal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iroxica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 mgs. c/ 12 hr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t. Gastrointestinal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t. Renal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proxe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0 – 500 mgs. c/8 hr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t. Gastrointestinal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t. Renal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imesuli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 mgs. c/ 12 hr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ínima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t. Gastrointestinale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t. Renal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piri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l tolerado por los pacient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 mgs. c/ 4 – 6 hr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t. Gastrointestinal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t. Renal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t. Agregación Plaquetar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1" name=""/>
          <p:cNvSpPr/>
          <p:nvPr/>
        </p:nvSpPr>
        <p:spPr>
          <a:xfrm>
            <a:off x="341280" y="1989000"/>
            <a:ext cx="8416800" cy="3628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as complicaciones potenciales de los AINEs pueden resumirse en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Reacciones de Hipersensibil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Falla Re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Disfunción Hepát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Sangramie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Ulceración Gástr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3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3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1" dur="3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22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b2b2b2"/>
                </a:solidFill>
                <a:latin typeface="Arial"/>
              </a:rPr>
              <a:t>Opiáceos</a:t>
            </a:r>
            <a:br>
              <a:rPr sz="2800"/>
            </a:br>
            <a:r>
              <a:rPr b="0" lang="es-MX" sz="2000" spc="-1" strike="noStrike">
                <a:solidFill>
                  <a:srgbClr val="b2b2b2"/>
                </a:solidFill>
                <a:latin typeface="Arial"/>
              </a:rPr>
              <a:t>Son fármacos esenciales para el manejo del dolor por Cáncer</a:t>
            </a:r>
            <a:endParaRPr b="0" lang="en-US" sz="2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431640" y="1415880"/>
          <a:ext cx="8371080" cy="4627800"/>
        </p:xfrm>
        <a:graphic>
          <a:graphicData uri="http://schemas.openxmlformats.org/drawingml/2006/table">
            <a:tbl>
              <a:tblPr/>
              <a:tblGrid>
                <a:gridCol w="2565720"/>
                <a:gridCol w="3105000"/>
                <a:gridCol w="2700360"/>
              </a:tblGrid>
              <a:tr h="5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ármac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sis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ectos </a:t>
                      </a: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lateral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dei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 - 60 mgs. c/ 4 – 6 hr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useas, Vómitos, Somnolencia, Constip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mado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 - 100 mgs. c/ 4 – 6 hr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useas, Vómitos, Somnolencia, Constip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ado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- 10 mgs. c/ 8 hrs. EV, IM, 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useas, Vómitos, Somnolencia, Constip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xicodo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 - 40 mgs. c/ 12 – 24 hrs. 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useas, Vómitos, Somnolencia, Constipación, Sudor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ntanil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– 5 ugs/Kg , IV, SC, IM, PARCH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useas, Vómitos, Somnolencia, Constip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fi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 – 30 mgs. c/ 4 – 6 hrs. Or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– 10 mgs. c/ 4 – 6 hrs. Parenter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 – 60 mgs. c/ 8 – 12 hrs. Or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BERACION SOSTENID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useas, Vómitos, Somnolencia, Constipación, Sudor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4" name=""/>
          <p:cNvSpPr/>
          <p:nvPr/>
        </p:nvSpPr>
        <p:spPr>
          <a:xfrm>
            <a:off x="385920" y="1403280"/>
            <a:ext cx="8596080" cy="487692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quivalencia analgésica de los opioáceos orales con respecto a la 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Morfina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Morfina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60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m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Petidina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300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m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Metadona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15-20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m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Buprenorfina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0,8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m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Tramadol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600-800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m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Codeína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40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m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3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3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3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b2b2b2"/>
                </a:solidFill>
                <a:latin typeface="Arial"/>
              </a:rPr>
              <a:t>Acerquemonos al problem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50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El Alivio del Dolor y los Cuidados Paliativos en Cáncer, han sido objeto de una creciente preocupación mundial y nacion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Una de cada diez muertes en el mundo se debe a cánc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Un tercio de los cánceres son prevenib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Otro tercio es potencialmente cur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3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3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3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3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b2b2b2"/>
                </a:solidFill>
                <a:latin typeface="Arial"/>
              </a:rPr>
              <a:t>Equivalencias de Opiáceos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457200" y="1600200"/>
          <a:ext cx="8229600" cy="3284280"/>
        </p:xfrm>
        <a:graphic>
          <a:graphicData uri="http://schemas.openxmlformats.org/drawingml/2006/table">
            <a:tbl>
              <a:tblPr/>
              <a:tblGrid>
                <a:gridCol w="2057400"/>
                <a:gridCol w="2462040"/>
                <a:gridCol w="1890720"/>
                <a:gridCol w="1819440"/>
              </a:tblGrid>
              <a:tr h="1019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RMAC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sis Parenter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quiv 1 mg Morfina EV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odisponibilida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sis Or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val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sis Oral (hrs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4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f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tid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ado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de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fina d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b. Sostenid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– 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 – 12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– 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 – 12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4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22360" y="188640"/>
            <a:ext cx="2835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b2b2b2"/>
                </a:solidFill>
                <a:latin typeface="Arial"/>
              </a:rPr>
              <a:t>Fármacos </a:t>
            </a:r>
            <a:br>
              <a:rPr sz="2800"/>
            </a:br>
            <a:r>
              <a:rPr b="0" lang="es-MX" sz="2800" spc="-1" strike="noStrike">
                <a:solidFill>
                  <a:srgbClr val="b2b2b2"/>
                </a:solidFill>
                <a:latin typeface="Arial"/>
              </a:rPr>
              <a:t>Coadyuvantes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31640" y="1449360"/>
          <a:ext cx="8229600" cy="37828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2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ármac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sis Or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ectos Advers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mitriptili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 – 100 mgs. c/ dí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ticolinérgic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quedad Buc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d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tención Urinar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tostatism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iprami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 – 100 mgs. c/ dí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ticolinérgic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quedad Buc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d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tención Urinar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tostatism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luoxeti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 - 40 mgs. c/ dí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orex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omni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9" name=""/>
          <p:cNvSpPr/>
          <p:nvPr/>
        </p:nvSpPr>
        <p:spPr>
          <a:xfrm>
            <a:off x="431640" y="1989000"/>
            <a:ext cx="8236080" cy="3619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os Antidepresivos especialmente los tricíclicos (amitriptilina) y los Anticonvulsivantes son especialmente útiles en cuadros dolorosos  del tipo neuropát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os Corticoides tienen una gran cantidad de acciones beneficiosas en diversas situaciones del paciente oncológico, como son el manejo del edema cerebral y medular, linfangitis carcinomatosa, efecto antiinflamatorio y antihemético, acciones generales como elevación del ánimo y estimulación del apeti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176640" y="189000"/>
            <a:ext cx="522108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b2b2b2"/>
                </a:solidFill>
                <a:latin typeface="Arial"/>
              </a:rPr>
              <a:t>Son fármacos cuyo principal efecto no es la analgésia, pero que pueden potenciar el efecto analgésico de otras drogas o tratar otros síntomas prese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3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3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3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0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22000" y="188640"/>
            <a:ext cx="544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b2b2b2"/>
                </a:solidFill>
                <a:latin typeface="Arial"/>
              </a:rPr>
              <a:t>Fármacos </a:t>
            </a:r>
            <a:br>
              <a:rPr sz="2400"/>
            </a:br>
            <a:r>
              <a:rPr b="0" lang="es-MX" sz="2400" spc="-1" strike="noStrike">
                <a:solidFill>
                  <a:srgbClr val="b2b2b2"/>
                </a:solidFill>
                <a:latin typeface="Arial"/>
              </a:rPr>
              <a:t>Coadyuvantes Anticonvulsivantes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431640" y="1449360"/>
          <a:ext cx="8229600" cy="38862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3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ármac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si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ectos Advers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rbamazepi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 – 600 mgs. c/ dí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 forma progresiv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mnolenc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presión del S.N.C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perplasia Gingiv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xicidad Hepáti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nitoi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 – 300 mgs. c/ dí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presión del S.N.C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presión Médula Óse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xicidad Hepáti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onazepa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- 15 mgs. c/ dí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presión del S.N.C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presión Médula Óse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xicidad Hepáti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6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22000" y="188640"/>
            <a:ext cx="544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b2b2b2"/>
                </a:solidFill>
                <a:latin typeface="Arial"/>
              </a:rPr>
              <a:t>Fármacos </a:t>
            </a:r>
            <a:br>
              <a:rPr sz="2800"/>
            </a:br>
            <a:r>
              <a:rPr b="0" lang="es-MX" sz="2800" spc="-1" strike="noStrike">
                <a:solidFill>
                  <a:srgbClr val="b2b2b2"/>
                </a:solidFill>
                <a:latin typeface="Arial"/>
              </a:rPr>
              <a:t>Coadyuvantes Neurolépticos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431640" y="1449360"/>
          <a:ext cx="8229600" cy="21938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5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ármac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si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ectos Advers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orpromazi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 – 25 mgs. c/ 4 - 8 hr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potensó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tención Urinar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trapiramidal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loperido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– 5 mgs. c/ 12 – 24 hr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potensó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tención Urinar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trapiramidal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5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22000" y="188640"/>
            <a:ext cx="544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b2b2b2"/>
                </a:solidFill>
                <a:latin typeface="Arial"/>
              </a:rPr>
              <a:t>Fármacos </a:t>
            </a:r>
            <a:br>
              <a:rPr sz="2800"/>
            </a:br>
            <a:r>
              <a:rPr b="0" lang="es-MX" sz="2800" spc="-1" strike="noStrike">
                <a:solidFill>
                  <a:srgbClr val="b2b2b2"/>
                </a:solidFill>
                <a:latin typeface="Arial"/>
              </a:rPr>
              <a:t>Coadyuvantes Ansiolíticos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431640" y="1449360"/>
          <a:ext cx="8229600" cy="40784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ármac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sis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ectos Advers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azepa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– 10 mgs. c/ 8 hr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presión S.N.C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e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tax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razepa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– 2 mgs. C/ 8 hr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presión S.N.C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e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tax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prazola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25 – 2 mgs. c/ 8 hr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presión S.N.C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e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tax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dazola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,5 – 15 mgs. Dosis hipnótic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 – 30 mgs. Dosis sedan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presión S.N.C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e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tax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22000" y="188640"/>
            <a:ext cx="544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b2b2b2"/>
                </a:solidFill>
                <a:latin typeface="Arial"/>
              </a:rPr>
              <a:t>Fármacos </a:t>
            </a:r>
            <a:br>
              <a:rPr sz="2800"/>
            </a:br>
            <a:r>
              <a:rPr b="0" lang="es-MX" sz="2800" spc="-1" strike="noStrike">
                <a:solidFill>
                  <a:srgbClr val="b2b2b2"/>
                </a:solidFill>
                <a:latin typeface="Arial"/>
              </a:rPr>
              <a:t>Coadyuvantes Corticosteroides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431640" y="1449360"/>
          <a:ext cx="8229600" cy="40305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ármac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sis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ectos Advers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36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dniso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 – 75 mgs. c/ dí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gún situación clíni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astriti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perglicem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pertensión Arteri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sicosi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steoporosi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36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tametaso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– 8 mgs. C/ 8 hr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gún situación clíni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astriti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perglicem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pertensión Arteri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sicosi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steoporosi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xametaso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 – 24 mgs. c/ dí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astriti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perglicem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pertensión Arteri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3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b2b2b2"/>
                </a:solidFill>
                <a:latin typeface="Arial"/>
              </a:rPr>
              <a:t>Modo de Utilizar un Opiáceo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06280" y="1584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¿Cuál Opiáceo?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Decisión Médica. El control responsabilidad del equip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¿En qué dosi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PACIENTE SIN OPIACEOS PREVIOS Y CON EVA DE 5 a 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Codeína 6% oral, solución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30 mg=15 gotas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c/ 4 – 6 h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Morfina oral, 30 mg., lib. Corta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c/ 4 – 6 hrs y pudiendo dividir la dos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Morfina parenteral, 5 – 10 mg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c/ 4 – 6 hrs. Es ideal la vía S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PACIENTE QUE RECIBE OPIACEOS (lo más frecuent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Conocer todas las dosis diaria en mg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Aumentarla entre un 15 a 20 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Cuando se cambia de un opioide a otro hay que dividir o multiplicar por un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coeficiente de equianalges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2" dur="10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10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6" dur="1000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1000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7" dur="1000"/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4" dur="1000"/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3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3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1" dur="1000"/>
                                        <p:tgtEl>
                                          <p:spTgt spid="3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3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3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8" dur="1000"/>
                                        <p:tgtEl>
                                          <p:spTgt spid="3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3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3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5" dur="1000"/>
                                        <p:tgtEl>
                                          <p:spTgt spid="3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3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3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2" dur="1000"/>
                                        <p:tgtEl>
                                          <p:spTgt spid="3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b2b2b2"/>
                </a:solidFill>
                <a:latin typeface="Arial"/>
              </a:rPr>
              <a:t>Modo de Utilizar un Opiáceo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06280" y="1584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Vía de administ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ff"/>
                </a:solidFill>
                <a:uFillTx/>
                <a:latin typeface="Arial"/>
              </a:rPr>
              <a:t>O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Parenterales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400" spc="-1" strike="noStrike" u="sng">
                <a:solidFill>
                  <a:srgbClr val="ffffff"/>
                </a:solidFill>
                <a:uFillTx/>
                <a:latin typeface="Arial"/>
              </a:rPr>
              <a:t>Subcutan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Endoveno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Peridu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Espi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or vía Oral jamás SOS o PRN, a menos que sea dosis de resca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a codeina y la morfina de corta duración debe administrarse cada 4 horas máximo cada 6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a morfina de larga duración se debe dosificar cada 8 a 12 h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iempre programar una dosis de rescate que será el 10% de la dosis total diar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1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8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5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0" dur="5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5" dur="5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0" dur="500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7" dur="500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9" dur="500"/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3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3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3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b2b2b2"/>
                </a:solidFill>
                <a:latin typeface="Arial"/>
              </a:rPr>
              <a:t>Opiáceos Parenterales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INYECCIONES INTERMITENTES o BO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s la forma más usada,económica y sencilla de administr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a dosis total se divide por 6 y se aplica cada 4 hrs. O bien en 4 y se aplica cada 6 h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on mariposa o bránula sc con una tapa de punción en su extrem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e puede ubicar y dejar por 7 a 10 días sin mayores riesg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No es un procedimiento doloros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Requiere instrucción del paciente o familia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Tiene la desventaja de producir variaciones en el nivel analgésic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7" dur="indefinite" restart="never" nodeType="tmRoot">
          <p:childTnLst>
            <p:seq>
              <p:cTn id="958" dur="indefinite" nodeType="mainSeq">
                <p:childTnLst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20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20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5" dur="2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20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20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2" dur="20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20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20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20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20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1" dur="2000" fill="hold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2000" fill="hold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3" dur="2000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2000" fill="hold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2000" fill="hold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0" dur="2000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5" dur="2000" fill="hold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2000" fill="hold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7" dur="2000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2" dur="2000" fill="hold"/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2000" fill="hold"/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4" dur="2000"/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b2b2b2"/>
                </a:solidFill>
                <a:latin typeface="Arial"/>
              </a:rPr>
              <a:t>Opiáceos Parenterales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INFUSION CONTINU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Tiene la gran ventaja de eliminar las variaciones de la concentración sanguíne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referible en pacientes que reciben altas dosis de opiáceos o pacientes que es difícil obtener control del dol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Existen para tal efecto los dispositivos mecánicos, las bombas mecánicas contínuas y las PC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4">
            <a:lum bright="18000"/>
          </a:blip>
          <a:stretch/>
        </p:blipFill>
        <p:spPr>
          <a:xfrm>
            <a:off x="927000" y="1224000"/>
            <a:ext cx="3730680" cy="49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5" dur="indefinite" restart="never" nodeType="tmRoot">
          <p:childTnLst>
            <p:seq>
              <p:cTn id="1016" dur="indefinite" nodeType="mainSeq">
                <p:childTnLst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2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2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3" dur="2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20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20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20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20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2" dur="2000" fill="hold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2000" fill="hold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4" dur="2000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1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b2b2b2"/>
                </a:solidFill>
                <a:latin typeface="Arial"/>
              </a:rPr>
              <a:t>Acerquemonos al problem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50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Para el tercio restante incurable; se les debe ofrecer mejorar su calidad de vida y dignificar su muer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Entre un 40 a un 60% de los pacientes con cánceres, pueden presentar dolor en alguna etapa de la enfermedad, lo que aumenta a un 80% en las fases termina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3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3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b2b2b2"/>
                </a:solidFill>
                <a:latin typeface="Arial"/>
              </a:rPr>
              <a:t>Mitos de la Morfina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27000" y="1359000"/>
            <a:ext cx="7561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La morfina por vía oral es inefecti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l paciente puede usar morfina para suicidar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l uso de morfina lo transformará en un drogadic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La mantención de grandes cantidades de morfina en el hogar puede inducir al rob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La morfina desarrolla tolerancia rápidamente (no tiene efecto tech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La morfina provoca eufo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La morfina produce depresión respirato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La morfina acorta la evolución de la enferme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2" dur="indefinite" restart="never" nodeType="tmRoot">
          <p:childTnLst>
            <p:seq>
              <p:cTn id="1053" dur="indefinite" nodeType="mainSeq">
                <p:childTnLst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8" dur="2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2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0" dur="2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20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20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2" dur="20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20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4" dur="20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9" dur="20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20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1" dur="2000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2000" fill="hold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2000" fill="hold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8" dur="2000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2000" fill="hold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2000" fill="hold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5" dur="2000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2000" fill="hold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2000" fill="hold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2000" fill="hold"/>
                                        <p:tgtEl>
                                          <p:spTgt spid="3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2000" fill="hold"/>
                                        <p:tgtEl>
                                          <p:spTgt spid="3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9" dur="2000"/>
                                        <p:tgtEl>
                                          <p:spTgt spid="3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341280" y="2079720"/>
            <a:ext cx="8145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ffffff"/>
                </a:solidFill>
                <a:latin typeface="Arial"/>
              </a:rPr>
              <a:t>…”</a:t>
            </a:r>
            <a:r>
              <a:rPr b="1" i="1" lang="es-MX" sz="2400" spc="-1" strike="noStrike">
                <a:solidFill>
                  <a:srgbClr val="ffffff"/>
                </a:solidFill>
                <a:latin typeface="Arial"/>
              </a:rPr>
              <a:t>Tú importas por ser tú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ffffff"/>
                </a:solidFill>
                <a:latin typeface="Arial"/>
              </a:rPr>
              <a:t>Importas hasta el último momento de tu vi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1" i="1" lang="es-MX" sz="2400" spc="-1" strike="noStrike">
                <a:solidFill>
                  <a:srgbClr val="ffffff"/>
                </a:solidFill>
                <a:latin typeface="Arial"/>
              </a:rPr>
              <a:t> haremos todo lo que esté a nuestro alcance, no só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MX" sz="2400" spc="-1" strike="noStrike">
                <a:solidFill>
                  <a:srgbClr val="ffffff"/>
                </a:solidFill>
                <a:latin typeface="Arial"/>
              </a:rPr>
              <a:t>para ayudarte a morir en paz sino también a vivi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ffffff"/>
                </a:solidFill>
                <a:latin typeface="Arial"/>
              </a:rPr>
              <a:t>hasta el día que muera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12000" y="5229360"/>
            <a:ext cx="22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ffffff"/>
                </a:solidFill>
                <a:latin typeface="Arial"/>
              </a:rPr>
              <a:t>Cicely Saun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0" dur="indefinite" restart="never" nodeType="tmRoot">
          <p:childTnLst>
            <p:seq>
              <p:cTn id="1111" dur="indefinite" nodeType="mainSeq">
                <p:childTnLst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6" dur="3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3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8" dur="3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5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b2b2b2"/>
                </a:solidFill>
                <a:latin typeface="Arial"/>
              </a:rPr>
              <a:t>Cáncer un problema de Salud Pública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7200" y="1601640"/>
          <a:ext cx="4038480" cy="218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1640"/>
                    <a:ext cx="4038480" cy="21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169920" y="3943440"/>
          <a:ext cx="4470480" cy="240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9920" y="3943440"/>
                    <a:ext cx="4470480" cy="24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4643280" y="1341360"/>
          <a:ext cx="4321440" cy="3384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3280" y="1341360"/>
                    <a:ext cx="4321440" cy="33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4356000" y="5157720"/>
            <a:ext cx="4427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Se estima una incidencia d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247 casos por 100000 hb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3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b2b2b2"/>
                </a:solidFill>
                <a:latin typeface="Arial"/>
              </a:rPr>
              <a:t>¿Cuántos sufrieron de dolor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250920" y="1224000"/>
            <a:ext cx="8686800" cy="4195800"/>
            <a:chOff x="250920" y="1224000"/>
            <a:chExt cx="8686800" cy="4195800"/>
          </a:xfrm>
        </p:grpSpPr>
        <p:grpSp>
          <p:nvGrpSpPr>
            <p:cNvPr id="123" name=""/>
            <p:cNvGrpSpPr/>
            <p:nvPr/>
          </p:nvGrpSpPr>
          <p:grpSpPr>
            <a:xfrm>
              <a:off x="250920" y="1224000"/>
              <a:ext cx="6680160" cy="3681360"/>
              <a:chOff x="250920" y="1224000"/>
              <a:chExt cx="6680160" cy="3681360"/>
            </a:xfrm>
          </p:grpSpPr>
          <p:graphicFrame>
            <p:nvGraphicFramePr>
              <p:cNvPr id="124" name=""/>
              <p:cNvGraphicFramePr/>
              <p:nvPr/>
            </p:nvGraphicFramePr>
            <p:xfrm>
              <a:off x="250920" y="1224000"/>
              <a:ext cx="6680160" cy="36813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2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50920" y="1224000"/>
                        <a:ext cx="6680160" cy="3681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26" name=""/>
              <p:cNvSpPr/>
              <p:nvPr/>
            </p:nvSpPr>
            <p:spPr>
              <a:xfrm>
                <a:off x="1035000" y="4484520"/>
                <a:ext cx="381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ffffff"/>
                    </a:solidFill>
                    <a:latin typeface="Arial"/>
                  </a:rPr>
                  <a:t>Fallecidos por Cáncer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925720" y="3314880"/>
                <a:ext cx="86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80%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791080" y="2368440"/>
                <a:ext cx="865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20%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29" name="" descr=""/>
            <p:cNvPicPr/>
            <p:nvPr/>
          </p:nvPicPr>
          <p:blipFill>
            <a:blip r:embed="rId3"/>
            <a:stretch/>
          </p:blipFill>
          <p:spPr>
            <a:xfrm>
              <a:off x="5202360" y="2619360"/>
              <a:ext cx="3735360" cy="2800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b2b2b2"/>
                </a:solidFill>
                <a:latin typeface="Arial"/>
              </a:rPr>
              <a:t>Niveles del Dolo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700360" y="3933720"/>
            <a:ext cx="3889440" cy="1150920"/>
            <a:chOff x="2700360" y="3933720"/>
            <a:chExt cx="3889440" cy="1150920"/>
          </a:xfrm>
        </p:grpSpPr>
        <p:sp>
          <p:nvSpPr>
            <p:cNvPr id="132" name=""/>
            <p:cNvSpPr/>
            <p:nvPr/>
          </p:nvSpPr>
          <p:spPr>
            <a:xfrm>
              <a:off x="2700360" y="4221000"/>
              <a:ext cx="3889440" cy="8636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852720" y="3933720"/>
              <a:ext cx="151128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Dolo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1476360" y="2349360"/>
            <a:ext cx="6408720" cy="2737080"/>
            <a:chOff x="1476360" y="2349360"/>
            <a:chExt cx="6408720" cy="2737080"/>
          </a:xfrm>
        </p:grpSpPr>
        <p:sp>
          <p:nvSpPr>
            <p:cNvPr id="135" name=""/>
            <p:cNvSpPr/>
            <p:nvPr/>
          </p:nvSpPr>
          <p:spPr>
            <a:xfrm>
              <a:off x="1476360" y="2637000"/>
              <a:ext cx="6408720" cy="24494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48000" y="2349360"/>
              <a:ext cx="259236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Conducta del Dolo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124000" y="3141720"/>
            <a:ext cx="4969080" cy="1942920"/>
            <a:chOff x="2124000" y="3141720"/>
            <a:chExt cx="4969080" cy="1942920"/>
          </a:xfrm>
        </p:grpSpPr>
        <p:sp>
          <p:nvSpPr>
            <p:cNvPr id="138" name=""/>
            <p:cNvSpPr/>
            <p:nvPr/>
          </p:nvSpPr>
          <p:spPr>
            <a:xfrm>
              <a:off x="2124000" y="3429000"/>
              <a:ext cx="4969080" cy="16556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51280" y="3141720"/>
              <a:ext cx="151128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Sufrimien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4427640" y="4365720"/>
            <a:ext cx="360360" cy="431640"/>
          </a:xfrm>
          <a:prstGeom prst="upArrow">
            <a:avLst>
              <a:gd name="adj1" fmla="val 50000"/>
              <a:gd name="adj2" fmla="val 29945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27640" y="3500280"/>
            <a:ext cx="360360" cy="432000"/>
          </a:xfrm>
          <a:prstGeom prst="upArrow">
            <a:avLst>
              <a:gd name="adj1" fmla="val 50000"/>
              <a:gd name="adj2" fmla="val 2997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27640" y="2708280"/>
            <a:ext cx="360360" cy="431640"/>
          </a:xfrm>
          <a:prstGeom prst="upArrow">
            <a:avLst>
              <a:gd name="adj1" fmla="val 50000"/>
              <a:gd name="adj2" fmla="val 29945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1280" y="5661000"/>
            <a:ext cx="81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Es una experiencia desagradable sensorial y emocional que se asocia a una lesión actual o potencial de los tejidos o que se describe en función de dicha lesión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00000" y="1773360"/>
            <a:ext cx="7632720" cy="3463920"/>
            <a:chOff x="900000" y="1773360"/>
            <a:chExt cx="7632720" cy="3463920"/>
          </a:xfrm>
        </p:grpSpPr>
        <p:sp>
          <p:nvSpPr>
            <p:cNvPr id="145" name=""/>
            <p:cNvSpPr/>
            <p:nvPr/>
          </p:nvSpPr>
          <p:spPr>
            <a:xfrm>
              <a:off x="900000" y="1773360"/>
              <a:ext cx="7632720" cy="33112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849840" y="4869000"/>
              <a:ext cx="158724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Nocicepció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286000" y="380880"/>
            <a:ext cx="4572000" cy="60962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2700360" y="2421000"/>
            <a:ext cx="4392720" cy="103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Dolo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835280" y="620640"/>
            <a:ext cx="5905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xperiencias traumáticas juveniles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0" name=""/>
          <p:cNvSpPr/>
          <p:nvPr/>
        </p:nvSpPr>
        <p:spPr>
          <a:xfrm>
            <a:off x="4427640" y="1557360"/>
            <a:ext cx="647640" cy="863640"/>
          </a:xfrm>
          <a:prstGeom prst="downArrow">
            <a:avLst>
              <a:gd name="adj1" fmla="val 50000"/>
              <a:gd name="adj2" fmla="val 33338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00720" y="3860640"/>
            <a:ext cx="576000" cy="863640"/>
          </a:xfrm>
          <a:prstGeom prst="downArrow">
            <a:avLst>
              <a:gd name="adj1" fmla="val 50000"/>
              <a:gd name="adj2" fmla="val 37484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619280" y="5013360"/>
            <a:ext cx="62863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Es siempre desagradab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258920" y="5734080"/>
            <a:ext cx="7058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upone una experiencia emocion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b2b2b2"/>
                </a:solidFill>
                <a:latin typeface="Arial"/>
              </a:rPr>
              <a:t>Esquema manejo OMS, Milán 1982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84720" y="4724280"/>
            <a:ext cx="50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308720" y="2421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971640" y="1700280"/>
            <a:ext cx="7056360" cy="4672080"/>
            <a:chOff x="971640" y="1700280"/>
            <a:chExt cx="7056360" cy="4672080"/>
          </a:xfrm>
        </p:grpSpPr>
        <p:sp>
          <p:nvSpPr>
            <p:cNvPr id="158" name=""/>
            <p:cNvSpPr/>
            <p:nvPr/>
          </p:nvSpPr>
          <p:spPr>
            <a:xfrm>
              <a:off x="971640" y="5157720"/>
              <a:ext cx="4176720" cy="647640"/>
            </a:xfrm>
            <a:prstGeom prst="flowChartProcess">
              <a:avLst/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059280" y="2492280"/>
              <a:ext cx="4176720" cy="720720"/>
            </a:xfrm>
            <a:prstGeom prst="flowChartProcess">
              <a:avLst/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050920" y="3860640"/>
              <a:ext cx="4176720" cy="720720"/>
            </a:xfrm>
            <a:prstGeom prst="flowChartProcess">
              <a:avLst/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971640" y="4581000"/>
              <a:ext cx="1079280" cy="576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5146560" y="4581000"/>
              <a:ext cx="1081080" cy="576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6227640" y="3212640"/>
              <a:ext cx="1008360" cy="647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2050920" y="3212640"/>
              <a:ext cx="1008360" cy="647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3059280" y="1989000"/>
              <a:ext cx="1223640" cy="50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7236000" y="1989000"/>
              <a:ext cx="792000" cy="50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7236000" y="2708280"/>
              <a:ext cx="792000" cy="504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6227640" y="3860640"/>
              <a:ext cx="1008360" cy="72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5146560" y="5157360"/>
              <a:ext cx="1081080" cy="647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227640" y="4581360"/>
              <a:ext cx="0" cy="576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236000" y="3213000"/>
              <a:ext cx="0" cy="647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28000" y="1989000"/>
              <a:ext cx="0" cy="71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 txBox="1"/>
            <p:nvPr/>
          </p:nvSpPr>
          <p:spPr>
            <a:xfrm>
              <a:off x="1763640" y="5877000"/>
              <a:ext cx="2305080" cy="495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</a:rPr>
                <a:t>DOLOR</a:t>
              </a:r>
              <a:endPara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338560" y="5157720"/>
              <a:ext cx="129528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AIN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coayudant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291280" y="501336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372360" y="371628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 txBox="1"/>
            <p:nvPr/>
          </p:nvSpPr>
          <p:spPr>
            <a:xfrm>
              <a:off x="4067280" y="1700280"/>
              <a:ext cx="3762360" cy="42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66ff"/>
                  </a:solidFill>
                  <a:latin typeface="Arial Black"/>
                </a:rPr>
                <a:t>Desaparición del Dolor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195640" y="4724280"/>
              <a:ext cx="2808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Si el dolor persiste o aument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203640" y="3357720"/>
              <a:ext cx="287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Si el dolor persiste o aument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987640" y="3933720"/>
              <a:ext cx="259236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AINE + OPIOIDE DEBI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coayudant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922560" y="2565360"/>
              <a:ext cx="266400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AINE + OPIOIDE POTENT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coayudant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6T02:13:48Z</dcterms:created>
  <dc:creator>Johnny Christian Yáñez Pizarro</dc:creator>
  <dc:description/>
  <dc:language>en-US</dc:language>
  <cp:lastModifiedBy>Angelina Diaz</cp:lastModifiedBy>
  <cp:lastPrinted>2004-06-17T14:56:51Z</cp:lastPrinted>
  <dcterms:modified xsi:type="dcterms:W3CDTF">2004-06-17T15:06:29Z</dcterms:modified>
  <cp:revision>21</cp:revision>
  <dc:subject/>
  <dc:title>Atención Integral del Paciente Terminal</dc:title>
</cp:coreProperties>
</file>