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6806-F64A-4554-AC4D-EB73C88B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2729-8CB5-43D9-BD13-04831692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DD5A-37B0-4C04-90C0-5F9A515A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F7AA-779E-4037-ADE9-8178BFCC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7EC6-6576-44E9-8804-5CEC1D36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94BF-1447-49C8-95F7-149483CE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455B-3E3E-44A7-AA15-5339AAE2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C673-314C-49FC-BAD0-10B75745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81A6-71F5-426F-8E4A-03A3D8B9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4C53-B4CA-44AE-BFE4-D5EF29BC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571A-5558-438D-9741-431524C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32EF-75FB-4DE9-8513-0BC31D1D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63A6-46C4-4F77-A692-214F4A0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51DB-D32F-46AC-98AD-033A8529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8E56-D117-41C8-BAA4-02D0A82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4D69-374E-4E10-8072-8EBD59ED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FDCB-2120-4E1D-97F2-4D9C0F94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9D26-6058-4326-BF59-5D5E84E0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E4E0-B63E-4C71-BA8F-D9D75CC9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0038-8B0C-4EB6-ABA4-A773CBEA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B50C-0D1F-4C26-86CE-A1F1B2D4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F28B-91FC-48BD-B302-6C83B80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3BB1-8CBB-4B69-A83D-DCD5114A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A009-E631-4EC7-BDFA-D077A98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9D2A-BD94-4C98-B22B-B19C981070B1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3918-9973-4FB6-9B33-D5A48B3EAF23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c00"/>
                </a:solidFill>
                <a:latin typeface="Arial"/>
              </a:rPr>
              <a:t>La Muerte Desde Una Perspectiva Pastoral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645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Rev. Fábio Bezerra Lima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glesia Presbiteriana De Chi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ínica Presbiteriana Madre e Hij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692000" y="1989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l Porqué De La Muerte: Pecado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rque la paga del pecado es muer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Romanos 6: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r tanto, como el pecado entró en el mundo por un hombre, y por el pecado la muerte, así la muerte pasó a todos los hombres, por cuanto todos pecar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Romanos 5: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Biblia enseña que la muerte es la separación del cuerpo y el alma. Mientras hay vida en el ser humano su alma está en él. Cuando el alma deja el cuerpo, se produce la mue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 el polvo vuelva a la tierra, como era, y el espíritu vuelva a Dios que lo di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Eclesiastés 12: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I. - ¿Qué Dice, Pues, La Biblia Sobre La Muert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II. – Aspectos Culturales Que Incentivan La Negación De La Muerte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El clima de hedonismo y materialismo existe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La muerte como un tab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La medicalización y el tecnicismo, que deshumanizan el mor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La remoción de la muerte de la vida cotidi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El lenguaje lleno de eufemismos que enmascara la realidad por lo que el cáncer se convierte en “ aquel feo mal”, la muerte es anunciada con “se ha ido”, “nos ha dejado”, “ha desaparecido”, porque decir “ha muerto” parece deshum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El énfasis biológico que reduce el morir al proceso físico, sin tener en cuenta el ser global de la pers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III. – Actitudes Recurrentes Frente a La Muert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773000"/>
            <a:ext cx="7010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nega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el rechazo, la no aceptación de la enfermedad, el propósito de comportarse como si nada hubiera ocurrid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hiper-protec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de una parte se esconden los propios sentimientos al paciente, por otra se practica la conjura del silencio, se evita comunicar abiertamente la verdad de las cos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idealiza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se nota una confianza excesiva en la “omnipotencia” de los médicos o en el poder milagroso de la medicina o de las terapi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sublima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se busca refugio o consuelo en las seguridades espirituales: “</a:t>
            </a:r>
            <a:r>
              <a:rPr b="0" i="1" lang="es-MX" sz="1800" spc="-1" strike="noStrike">
                <a:solidFill>
                  <a:srgbClr val="ffcc00"/>
                </a:solidFill>
                <a:latin typeface="Arial"/>
              </a:rPr>
              <a:t>ore, si quieres sanar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”, “</a:t>
            </a:r>
            <a:r>
              <a:rPr b="0" i="1" lang="es-MX" sz="1800" spc="-1" strike="noStrike">
                <a:solidFill>
                  <a:srgbClr val="ffcc00"/>
                </a:solidFill>
                <a:latin typeface="Arial"/>
              </a:rPr>
              <a:t>Quien cree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i="1" lang="es-MX" sz="1800" spc="-1" strike="noStrike">
                <a:solidFill>
                  <a:srgbClr val="ffcc00"/>
                </a:solidFill>
                <a:latin typeface="Arial"/>
              </a:rPr>
              <a:t>no llora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dramatiza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se tienen reacciones desproporcionadas o histéric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acepta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prevalece una actitud de sano realismo y equilibrio y una positiva colaboración con los médic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regres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aislamiento social frente a un drama que, se piensa, los demás no pueden compren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ffcc00"/>
                </a:solidFill>
                <a:latin typeface="Arial"/>
              </a:rPr>
              <a:t>IV. – Actitudes Que Son Necesarias Evitar Ante Los Que Están Por Morir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sumir Rostros Tris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ransmitir Piedad En Vez De Resp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ratarlos Como Enfermos Y No Como Pers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Permanecer Limitados En El Horizonte Físico, Sin Ampliar En Otras Dimensiones De La Pers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mplear Frases Hechas Que Fastidian En Vez De Conso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mponer Los Propios Valores O Esquemas De Refe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sperar Cambios Dramáticos Ahora Que Están Por Mor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Minimizar Sus Pérdidas Con El Fin De Levantarles La M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Juzgar Sus Sent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ar Falsas Esperanz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692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os Les Bendig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Gracias Por La Aten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0:34:51Z</dcterms:created>
  <dc:creator>Rev. Fábio Bezerra L. </dc:creator>
  <dc:description/>
  <dc:language>en-US</dc:language>
  <cp:lastModifiedBy>Administrador</cp:lastModifiedBy>
  <dcterms:modified xsi:type="dcterms:W3CDTF">2004-06-10T13:04:08Z</dcterms:modified>
  <cp:revision>4</cp:revision>
  <dc:subject/>
  <dc:title>La Muerte Desde Una Perspectiva Pastoral</dc:title>
</cp:coreProperties>
</file>