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5B19-E783-43A8-A9DA-ABC59F2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9CA1-5C5C-4220-B2E3-094BF08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CB76-7955-4B5E-AA06-3928D6B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1F63-D46C-4F80-BA95-B1495659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F65-2E15-4C33-8E7D-7E40A30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C802-34A2-4234-9A84-F9E491B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064A-4825-4448-9822-21CA3D2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D53-FEFC-4A70-8757-1C62BF0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C23F-8D6D-437A-9A3E-40DE1955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B9E-28E4-4488-91E8-FA761C67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0A59-6656-42C6-8DA9-8A2C370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EC0D-0099-42CC-932A-D9CD38C2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A52-A09F-4E1A-B6ED-29448D2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F2FA-E209-4C18-A66D-CDCEA19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B01-4286-472B-99D2-D40BAD2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C63-A5D1-4AE4-9C81-1867A540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8E9-7E7A-4924-A87A-D873F651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7FB3-F004-4973-9E77-6DE7031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7537-D088-4B88-862C-4D61C27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DF4A-76F8-4646-92FF-5DC95049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0C7A-0606-48AA-8625-652F1A0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003F-D47B-4288-818C-09914E6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1139-EA51-4439-982D-1D47451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9F3E-B644-4420-B0B2-EDC5A5F4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901-5A50-4397-A48D-E8F213877F27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1ED-90E6-45B7-ABE1-FB6E3400143C}" type="slidenum"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c00"/>
                </a:solidFill>
                <a:latin typeface="Arial"/>
              </a:rPr>
              <a:t>La Muerte Desde Una Perspectiva Pastora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645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Rev. Fábio Bezerra Lim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glesia Presbiteriana De Chi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ínica Presbiteriana Madre e Hij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692000" y="1989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l Porqué De La Muerte: Pecado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que la paga del pecado es muer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omanos 6: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 tanto, como el pecado entró en el mundo por un hombre, y por el pecado la muerte, así la muerte pasó a todos los hombres, por cuanto todos pecar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omanos 5: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Biblia enseña que la muerte es la separación del cuerpo y el alma. Mientras hay vida en el ser humano su alma está en él. Cuando el alma deja el cuerpo, se produce la m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 el polvo vuelva a la tierra, como era, y el espíritu vuelva a Dios que lo di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clesiastés 12: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I. - ¿Qué Dice, Pues, La Biblia Sobre La Muert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II. – Aspectos Culturales Que Incentivan La Negación De La Muert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clima de hedonismo y materialismo existe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muerte como un tab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medicalización y el tecnicismo, que deshumanizan el mor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La remoción de la muerte de la vida cotidi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lenguaje lleno de eufemismos que enmascara la realidad por lo que el cáncer se convierte en “ aquel feo mal”, la muerte es anunciada con “se ha ido”, “nos ha dejado”, “ha desaparecido”, porque decir “ha muerto” parece deshum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00"/>
                </a:solidFill>
                <a:latin typeface="Arial"/>
              </a:rPr>
              <a:t>El énfasis biológico que reduce el morir al proceso físico, sin tener en cuenta el ser global de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III. – Actitudes Recurrentes Frente a La Muert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773000"/>
            <a:ext cx="7010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neg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el rechazo, la no aceptación de la enfermedad, el propósito de comportarse como si nada hubiera ocurr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hiper-protec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de una parte se esconden los propios sentimientos al paciente, por otra se practica la conjura del silencio, se evita comunicar abiertamente la verdad de las cos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idealiz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nota una confianza excesiva en la “omnipotencia” de los médicos o en el poder milagroso de la medicina o de las terapi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sublim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busca refugio o consuelo en las seguridades espirituales: “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ore, si quieres sanar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”, “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Quien cree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s-MX" sz="1800" spc="-1" strike="noStrike">
                <a:solidFill>
                  <a:srgbClr val="ffcc00"/>
                </a:solidFill>
                <a:latin typeface="Arial"/>
              </a:rPr>
              <a:t>no llora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dramatiz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se tienen reacciones desproporcionadas o his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aceptac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prevalece una actitud de sano realismo y equilibrio y una positiva colaboración con los médic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cc00"/>
                </a:solidFill>
                <a:latin typeface="Arial"/>
              </a:rPr>
              <a:t>La regresión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 aislamiento social frente a un drama que, se piensa, los demás no pueden compren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ffcc00"/>
                </a:solidFill>
                <a:latin typeface="Arial"/>
              </a:rPr>
              <a:t>IV. – Actitudes Que Son Necesarias Evitar Ante Los Que Están Por Morir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sumir Rostros Tris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ransmitir Piedad En Vez De Resp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ratarlos Como Enfermos Y No Como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ermanecer Limitados En El Horizonte Físico, Sin Ampliar En Otras Dimensiones De La 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mplear Frases Hechas Que Fastidian En Vez De Conso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mponer Los Propios Valores O Esquemas De Refe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sperar Cambios Dramáticos Ahora Que Están Por Mor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inimizar Sus Pérdidas Con El Fin De Levantarles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uzgar Sus Sent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ar Falsas Esperanz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92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os Les Bendig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Gracias Por La Aten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0:34:51Z</dcterms:created>
  <dc:creator>Rev. Fábio Bezerra L. </dc:creator>
  <dc:description/>
  <dc:language>en-US</dc:language>
  <cp:lastModifiedBy>Administrador</cp:lastModifiedBy>
  <dcterms:modified xsi:type="dcterms:W3CDTF">2004-06-10T13:04:08Z</dcterms:modified>
  <cp:revision>4</cp:revision>
  <dc:subject/>
  <dc:title>La Muerte Desde Una Perspectiva Pastoral</dc:title>
</cp:coreProperties>
</file>