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FE5F-1463-4985-88D0-61B00A90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EC0A-3C2C-43DE-8E78-5BDB7F61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A93B-3BEA-4F80-9BA5-AA2938F61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0A3D-8297-4383-87ED-8081B14D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5D20-355C-4DEB-A117-E2031990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79A9-26C5-4493-8375-B04D0EB4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A610-90D0-4D22-AC86-0C4F1704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7AC8-C6AB-4A9D-8A46-64862928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7FC4-2098-4CF0-BD63-FE157C8B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237F-6A6C-4F29-B786-DA643EE4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87DE-E6A2-4CA1-97E4-A7E323C2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37C3-9D66-4277-8D70-056E45B0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CAC3-7273-4221-8A0E-10020462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8F63-F0C0-40F6-ADBE-CB275EA4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BC68-CD90-440B-BE3E-C0B19EC0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4196-D1C7-4D61-B5A1-AB0560F9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5741-D36E-42E2-B654-619A08FD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E708-D397-4D59-83DD-B77037F9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03AA-91B6-4CC7-B6F1-78929A0F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DBBD-29FE-4D27-B6DF-D22BFCCD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5A88-5748-435B-ACAF-DC3EAABE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7F8C-7CDC-46FA-9589-B5215606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B8AC-F5D9-49B3-AE93-2F67041A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89EA-25A4-42B7-8756-B28D2107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801F-3928-4069-B3D3-0DA832F7AFD0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23D7-22CB-4A76-AE36-AADABEA018F0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1980720"/>
            <a:ext cx="7924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99"/>
                </a:solidFill>
                <a:latin typeface="Tahoma"/>
              </a:rPr>
              <a:t>TRAUMATISMO ENCEFALO CRANEAN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676520" y="609480"/>
          <a:ext cx="5667120" cy="551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667120" cy="55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T E C – Definición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Traumatismo encéfalo craneano, es un tipo de lesión que afecta al cerebro, ubicado dentro de la caja crane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676520" y="609480"/>
          <a:ext cx="5462640" cy="55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46264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T E C - Clasifica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T.E.C. ABIER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Fractura de cran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T.E.C. CERR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Sin Fractura de crane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T E C – Signos y Sintomas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Alteración del comportami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Alteración de la concienc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Perdida de la sensibilidad y/o movilidad de las extremid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Nauseas, vomi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Pulso lento (&lt; de 50 por minuto</a:t>
            </a: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Convuls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Salida de liquido por nariz y/o oi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T E C – Primeros Auxilios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Evaluar estado de concienc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Evaluar signos vit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Posición del paciente horizontal, inmovilizar cuel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No dar nada por via or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Vigilar permeabilidad de via aere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Facilitar la respir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Cubrir heri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Trasladar a centro asisten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21:58:40Z</dcterms:created>
  <dc:creator>Familia Zuñiga Tamblay</dc:creator>
  <dc:description/>
  <dc:language>en-US</dc:language>
  <cp:lastModifiedBy>Fac. de Medicina</cp:lastModifiedBy>
  <dcterms:modified xsi:type="dcterms:W3CDTF">2007-04-05T19:11:36Z</dcterms:modified>
  <cp:revision>5</cp:revision>
  <dc:subject/>
  <dc:title>TRAUMATISMO ENCEFALO CRANEANO</dc:title>
</cp:coreProperties>
</file>