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rojctor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AB3-7C77-46F2-8ECC-95E60E2D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3A2-18FF-4CB9-914C-78B3AA72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F51-AB0D-4E73-A065-1075E93D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3F2-82DB-4CD1-B2C2-5328A879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9AAA-9B74-467A-90AB-13B366B8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4C8D-D459-47B4-B522-C61240BD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B962-4835-46F7-AE72-19BC0C8B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EDC2-C995-41C5-A370-46749EB0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B2D9-4746-427C-8106-3713EFD5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0F76-71B9-4D01-AEFF-7E421455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EFDA-0309-4928-8D6C-CD6FCE00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67F-0416-4DFE-972B-42A2F67E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C8B5-2CA2-4AD5-8060-8E1569A5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6BE1-FAA7-4F96-B048-424E676B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C98C-A821-45CC-B22C-DB12F706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EDA7-998A-4B10-862F-7DC49FCD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4D63-506D-4873-A7F0-7B8C0D5D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3DA-B7D8-470B-ACFF-CFD39487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4EEF-7C27-455F-8F21-A28D85DE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089-DD14-42C3-8CF4-3A3D251E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BA26-EB07-4CB4-AFA4-3FA4EC6D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302F-9EDD-4E89-B363-DFF56B99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CF95-9C41-46A2-9A13-29147706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E18-EF73-4E19-AA2D-ACCCD441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BDB0-2FCE-4711-A8D4-6109631808E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f4f4f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588B-F509-4414-8D48-EF4743C35E28}" type="slidenum"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f4f4f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513880"/>
            <a:ext cx="746748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000000"/>
                </a:solidFill>
                <a:latin typeface="Tahoma"/>
              </a:rPr>
              <a:t>QUEMADURAS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76720" y="4365720"/>
            <a:ext cx="457200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Ligia Capurro</a:t>
            </a: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eralt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ocent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scuela Enfermerí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LOCAL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90920" y="2133720"/>
          <a:ext cx="43434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133720"/>
                    <a:ext cx="43434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  <p:sndAc>
      <p:stSnd>
        <p:snd r:embed="rId3" name="projctor.wav"/>
      </p:stSnd>
    </p:sndAc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EXTENS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981080"/>
          <a:ext cx="77724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  <p:sndAc>
      <p:stSnd>
        <p:snd r:embed="rId3" name="projctor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ROFUND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90720" y="1981080"/>
          <a:ext cx="739116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73911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  <p:sndAc>
      <p:stSnd>
        <p:snd r:embed="rId3" name="projctor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ROFUND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3880" y="2209680"/>
          <a:ext cx="6019920" cy="39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6019920" cy="39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  <p:sndAc>
      <p:stSnd>
        <p:snd r:embed="rId3" name="projctor.wav"/>
      </p:stSnd>
    </p:sndAc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QUEMADURA POR FUE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 las ropas arden, tender al accidentado en el suelo y sofocar las llamas. ( hacerlo rod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ropa quemada adherida no se debe quitar porque es doloroso y produce heri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Quitar los objetos que pueden oprim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rrigar la zona quemada con abundante agua fría.( mínimo 15 minut, en quemaduras de pequeña extención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brir el área quemada con sabana limp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 aplicar ningún tipo de pomadas o lo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OBJETIVOS DE LOS PRIMEROS AUXIL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ducir los efectos del Ag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iviar el dolor.( con atención prestad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vitar perdida de líqui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venir la infec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venir el Sho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olicitar asistencia med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QDA POR SUSTANCIA QUIM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 la sustancia es seca, retirarlo antes de lavarlo.( sacudi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var profusamente la zona dañada con abundante agua. ( ducha, manguer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Quitar la ropa y joyas contaminadas mientras está lava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ubrir y trasladar a centro asisten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QDA POR ELECTRIC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rtar el suministro eléctr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ar medio aislante, antes de tocar a la perso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brigarla para mantener el cal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trolar signos vitales.(fcia respiratoria,  y cardiaca, estado general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ministrar RCP si fuera neces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sladar a centro asist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QDA POR INGERIR LIQUIDOS CAL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ar a beber agua hel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locar al paciente en ambiente fres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oltar ropas apretadas, facilitándole la respir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 existe compromiso respiratorio, trasladar semisentado al centra asist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QDA RESPIRAT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sospecha cuando existe quemadura de cara o cuello, enrojecimiento de la boca y ronque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cilitar la respir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sladar a centro asistencial.              (administración de oxigen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DEFINI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on lesiones producidas en al piel, mucosa  o tejidos debido a la acción de distintos tipos de ag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57400" y="3886200"/>
          <a:ext cx="5353200" cy="25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886200"/>
                    <a:ext cx="535320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  <p:sndAc>
      <p:stSnd>
        <p:snd r:embed="rId3" name="projctor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RECORD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Qda de pequeña exten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locar bajo agua por lo menos 15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alizar lavado con suero fisiológico, cubr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Qda de mayor extens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sladar de inmediato a centro asistencial, cubierto con sabana limpia, debido al gran peligro de vi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AGENTES FIS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ól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íqu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ectricidad indust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ap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lama o fuego direc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AGENTES QUIM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c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lca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343400" y="2362320"/>
          <a:ext cx="3328920" cy="38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362320"/>
                    <a:ext cx="3328920" cy="38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  <p:sndAc>
      <p:stSnd>
        <p:snd r:embed="rId3" name="projctor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AGENTES BIOLOG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Seres V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sectos, medusas, peces eléctr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quemadura debe ser tratada como una herida y con posibilidad de infectar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tirar el agente causal evitando de esta manera que se prolongue su ac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da agente debe ser tratado de distinta for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ACTORES DE GRAVE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c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ten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fund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dades extre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umatismos asoci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ermedades asoci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dades extrem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ños tienen piel más labil, por lo que es mas fácil su profundiz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cianos, piel deshidratada, menor regeneración de teji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nfermedades asociad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be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pertensión arter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icción taba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08:51Z</dcterms:created>
  <dc:creator>Packard Bell NEC</dc:creator>
  <dc:description/>
  <dc:language>en-US</dc:language>
  <cp:lastModifiedBy>Fac. de Medicina</cp:lastModifiedBy>
  <dcterms:modified xsi:type="dcterms:W3CDTF">2007-04-19T12:27:40Z</dcterms:modified>
  <cp:revision>33</cp:revision>
  <dc:subject/>
  <dc:title>Presentación de PowerPoint</dc:title>
</cp:coreProperties>
</file>